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3.xml.rels" ContentType="application/vnd.openxmlformats-package.relationships+xml"/>
  <Override PartName="/ppt/notesSlides/notesSlide70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</p:sldIdLst>
  <p:sldSz cx="100980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24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3"/>
          </p:nvPr>
        </p:nvSpPr>
        <p:spPr>
          <a:xfrm>
            <a:off x="3886200" y="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781200" y="747360"/>
            <a:ext cx="5295600" cy="3592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4"/>
          </p:nvPr>
        </p:nvSpPr>
        <p:spPr>
          <a:xfrm>
            <a:off x="-324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3886200" y="9177480"/>
            <a:ext cx="2975040" cy="4809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i="1" lang="ko-KR" sz="10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918B0850-7EA3-4FE3-93AA-6D8640D141EF}" type="slidenum">
              <a:rPr b="0" i="1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달라질 수도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않고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이유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기 때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2.X : optimiz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LTP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소량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맞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성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OM_IDX1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할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.X : data warehousing, batch processing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choose, all_rows(DWH)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상수와 비교되어야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 : driving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고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작을 수록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조건이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뒷쪽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ta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 merg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스스로 일의 양을 줄일수 있는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join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결고리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ash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함수로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memo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에서 이루어져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대용량에 유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only 7.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ested 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8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으로 줄어든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istinc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무의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choose(default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그렇지 않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함께 사용될 때 일관성 있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작성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4pag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_mode=first_row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라고 지정하여 사용하는 것이 좋다고 되어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업무의 성격에 따라 다르게 사용하는 것이 좋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OLTP:first_rows, BATCH:all_row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7.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ptimizer m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의 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무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BO/RBO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통계정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 table compute/estimate/delete 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BO : 20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가지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따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naly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emp tablespac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 siz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정도 되어야 다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영향을 주지 않는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일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부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경우에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는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첫번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면 해당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나타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모두 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구성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의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여 해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결합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5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까지는 정확하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여 찾아내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 이후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ange sc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Symbol" charset="2"/>
              <a:buChar char="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줄이는 방법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un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기본 원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tabl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ar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 원하는 결과를 얻을 수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batch process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유리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 min, max, sum, group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OL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과정에서는  부분범위처리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ocu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운반단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rray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먼저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riv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범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읽혀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ing r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이용하여 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 조건을 변경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한 규정을 어떻게 하느냐에 따라서 수행속도에 얼마나 많은 영향을 주는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변형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사용못함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현재 미결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nul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값을 다른 유일한 값으로 약속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‘X’,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st_menu_id varchar2(10)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default ‘X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not nu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주어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AR_, BOX_COD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가장 최근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O_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찾아 그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TOCK_Q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가져오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독립적으로 먼저 풀려 이조건에 맞는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원하는 대로가 아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여러 건의 레코드가 리턴됨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IO_DATE = ‘19980216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relative subqu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는 문제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-&gt; sorting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in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 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넘겨주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수만큼 일이 많아진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hin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해당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bject(index)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환경이 제대로 준비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장 큰값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효율적인 처리를 위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분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ax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de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min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전체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 : index_asc, rownum=1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97 pag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림 참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z ru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적용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PT=:B7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quer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들어가면 안되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나중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어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자 정보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YY, MM, DD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나뉘어져 있으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 검색시 합쳐서 잘못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colum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형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고방식 전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any idea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기간을 연별로 나누고 월별로 나눠서 검색 조건을 주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_TAB : 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사용하여 복잡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구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입력변수는 하나의 값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가져올 필요없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=‘Y’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B21 is not nu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남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: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 제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 : no sorting 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중복이 없으리라 예상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오늘 날짜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의 조건에 넣어 처리하고자 할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뿐만아니라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서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ysdat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많은 사용자일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table contention(sys.du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ua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제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위의 경우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일 경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, betwee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e type : DAT = sysdate :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분초까지 비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 between trunc(sysdate) and trunc(sysdate) + </a:t>
            </a:r>
            <a:r>
              <a:rPr b="1" lang="ko-KR" sz="1000" spc="-1" strike="noStrike">
                <a:solidFill>
                  <a:srgbClr val="000000"/>
                </a:solidFill>
                <a:latin typeface="Arial"/>
              </a:rPr>
              <a:t>0.99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DAT, ‘yyyymmdd’) = to_char(sysdate, ‘yyyymmdd’) : no ind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간계산이 필요없고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단순히 날짜만 저장하는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.character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유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면 의도하지 않는 방향으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도는 비상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OR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의 특성상 나쁜쪽으로 통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풀다가 안되면 </a:t>
            </a:r>
            <a:r>
              <a:rPr b="1" lang="ko-KR" sz="1000" spc="-1" strike="noStrike" u="sng">
                <a:solidFill>
                  <a:srgbClr val="000000"/>
                </a:solidFill>
                <a:uFillTx/>
                <a:latin typeface="Arial"/>
              </a:rPr>
              <a:t>full sca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변환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미지수와 상수의 비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17 page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잘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 : full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선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query 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분범위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인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ncatenation -&gt;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같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, 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들어가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조건은 가능하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nion all, decod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등을 사용하게 변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특성을 잘 활용하면 보다 효율적으로 처리 가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ynamic 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잘 모르는 경우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최악의 경우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 수행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 이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여러번 나올 경우 가장 뒤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부터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확률이 가장 많은 조건을 뒷쪽에 기술한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에서 공통점을 찾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으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(BA003DM) up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을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하면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번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oop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내에서 반복 수행되는 형태였다면 상당한 수행 속도 개선 효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동일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대하여 비슷한 유형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절을 사용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문을 하나로 통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f ... then ... else : decode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배 이상의 처리 속도 향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29 page DACT_MH, 0))), 0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ecode : 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조건 비교 가능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도하게 사용시 수행 성능 저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etch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시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pu, elapsed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 level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상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rogram logi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으로 해결 권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group by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의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ort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므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parallel quer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하지 않으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불필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능한 많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러나 꼭 필요한 경우에만 사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변수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과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으면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불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생성시에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binding variabl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무엇인지 모르기 때문에 정상적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xecution plan(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생성되나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bind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type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 일치하지 않아 내부 변형이 일어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하지 못함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실제로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full sca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number(EMPNO) = :B2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형태로 내부변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= to_char(:B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rac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정보가 충분하지 않을 수도 있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잘못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: number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로 바꾸면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시 불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empno like ‘1%’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o_char(empno) like  ‘1%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ppl.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성향을 반영하여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해야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그렇지 않으면 반드시 대가를 치른다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, varchar2 &lt; number, date &lt; like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연산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&lt; char, varchar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자리의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har(1byte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사용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(varchar2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2by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781200" y="747720"/>
            <a:ext cx="5295600" cy="35924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586400"/>
            <a:ext cx="5029200" cy="43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4280" bIns="4428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설계단계에서 원자화하지 않은 컬럼이 코딩단계에서 어떤 문제로 나타나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수행 속도에 어떠한 영향을 주는지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사용 가능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후보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, THISINPT_IDX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지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PK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우선이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되리라 예상되나 이때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joi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되는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olumn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가 존재하지 않는 연결고리 이상 발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경우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상대방이 먼저 풀리게 되므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C, A, B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의 순서로 처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때 연결고리가되는 부분에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substr()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을 사용하였기 때문에 변형이 일어나 적절한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THISCODE_PK1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를 충분히 활용하지 못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data modelling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에서 물리적 설계로 옮겨갈때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이러한 원자화 부분을 어떻게 할지를 충분히 고려하지 않고 개발하였기 때문에 이러한 문제 발생</a:t>
            </a:r>
            <a:r>
              <a:rPr b="0" lang="ko-KR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C7DF7-CD05-4C76-9207-C30082AA43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0305-0AC4-4934-ACC6-B86E9D5D0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2FAA-E4C0-4DE6-9DE7-FD12386A4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B48DC-7332-4D18-8D12-3FAA94F51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34FBD-3386-4362-8D54-7F237D23C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1224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96160" y="114264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2868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1224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896160" y="3928680"/>
            <a:ext cx="312696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31831-095A-4D2D-9597-637E12536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432A9-275E-462E-B92A-F0F70FA9D6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022F-10F8-43A4-8F19-AA95381B0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17560" y="228600"/>
            <a:ext cx="8182080" cy="240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95EB-30F2-4E96-AC31-157058FA1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0D30-89DD-423F-9006-333CDACBD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5320" y="392868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7E1AC-A27E-405B-AB60-CB9DD36EE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5320" y="1142640"/>
            <a:ext cx="473940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28680" y="3928680"/>
            <a:ext cx="9712080" cy="254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15061-2735-499B-9C10-073172768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39400" y="6585120"/>
            <a:ext cx="3281400" cy="2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r>
              <a:rPr b="1" lang="ko-KR" sz="1000" spc="-1" strike="noStrike">
                <a:solidFill>
                  <a:srgbClr val="000000"/>
                </a:solidFill>
                <a:latin typeface="굴림"/>
              </a:rPr>
              <a:t>대전지원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9272520" y="6552720"/>
            <a:ext cx="758880" cy="3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000000"/>
                </a:solidFill>
                <a:latin typeface="Arial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96F0-926F-4EEE-BD3A-5D1819727598}" type="slidenum">
              <a:rPr b="1" lang="ko-KR" sz="1200" spc="-1" strike="noStrike">
                <a:solidFill>
                  <a:srgbClr val="000000"/>
                </a:solidFill>
                <a:latin typeface="Arial"/>
                <a:ea typeface="돋움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46040" y="838080"/>
            <a:ext cx="8666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2800" y="75600"/>
            <a:ext cx="1032480" cy="83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  <a:ea typeface="돋움"/>
              </a:rPr>
              <a:t>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328680" y="1142640"/>
            <a:ext cx="97120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66672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3" marL="15048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4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5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6" marL="1924200" indent="-22860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체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52320" y="3389400"/>
            <a:ext cx="5305680" cy="3876120"/>
          </a:xfrm>
          <a:prstGeom prst="roundRect">
            <a:avLst>
              <a:gd name="adj" fmla="val 7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ISTINC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CLASS IN ( 'C', 'Y', 'I', 'P'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02040" y="243000"/>
            <a:ext cx="6351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"/>
              </a:rPr>
              <a:t>에 따른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3480" y="1127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8440" y="912960"/>
            <a:ext cx="6875640" cy="27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L  A : COL_PK1  : YEAR  + HOUSE + SERIAL_NO + HS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OM  B : COM_IX   : YEAR  + HOUSE + 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OM  B : COM_IDX1 : CLASS + 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8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65560" y="3951360"/>
            <a:ext cx="4789800" cy="2083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SORT (GROUP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564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61     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COM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437     TABLE ACCESS (BY ROWID) OF 'COL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4437      INDEX (RANGE SCAN) OF 'COL_PK1'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29600" y="3862440"/>
            <a:ext cx="2643120" cy="919080"/>
          </a:xfrm>
          <a:custGeom>
            <a:avLst/>
            <a:gdLst>
              <a:gd name="textAreaLeft" fmla="*/ 97560 w 2643120"/>
              <a:gd name="textAreaRight" fmla="*/ 2545560 w 2643120"/>
              <a:gd name="textAreaTop" fmla="*/ 33840 h 919080"/>
              <a:gd name="textAreaBottom" fmla="*/ 734040 h 91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861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COM Tabl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Full Table Scan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유는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972280" y="48560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A907-2277-4238-A17A-18BEC06AB6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060800" y="1833480"/>
            <a:ext cx="541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8480" y="1833480"/>
            <a:ext cx="41112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5760" y="1414440"/>
            <a:ext cx="2062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INPT_ID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648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INPT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6000" y="184644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841400"/>
            <a:ext cx="10461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27920" y="1312920"/>
            <a:ext cx="15674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IN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5400" y="6086520"/>
            <a:ext cx="181908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INPTCH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317400" y="1414440"/>
            <a:ext cx="21207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CODE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00560" y="1841400"/>
            <a:ext cx="108756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46040" y="1312920"/>
            <a:ext cx="16758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96960" y="5937120"/>
            <a:ext cx="1946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CODEGUB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+ CODE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6920" y="2540160"/>
            <a:ext cx="1400040" cy="946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36920" y="2606760"/>
            <a:ext cx="1379520" cy="1154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36920" y="4640040"/>
            <a:ext cx="1371600" cy="261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56600" y="1833480"/>
            <a:ext cx="4014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12040" y="1841400"/>
            <a:ext cx="1003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5880" y="1312920"/>
            <a:ext cx="165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HISPB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80320" y="2881440"/>
            <a:ext cx="996840" cy="301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7780320" y="3414600"/>
            <a:ext cx="976320" cy="42408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80320" y="4772160"/>
            <a:ext cx="1006560" cy="18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60320" y="197316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045120" y="2881080"/>
            <a:ext cx="1281240" cy="90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045120" y="3832200"/>
            <a:ext cx="1298520" cy="58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045120" y="4784760"/>
            <a:ext cx="1298520" cy="239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6680" y="1414440"/>
            <a:ext cx="21009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THISPBSC_PK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9760" y="5857920"/>
            <a:ext cx="17960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PBSCID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67120" y="197172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733920" y="18464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2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825920" y="193500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071840" y="1846440"/>
            <a:ext cx="982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17080" y="36734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17560" y="2887560"/>
            <a:ext cx="385920" cy="2038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63040" y="2967120"/>
            <a:ext cx="397440" cy="2035080"/>
            <a:chOff x="563040" y="2967120"/>
            <a:chExt cx="397440" cy="2035080"/>
          </a:xfrm>
        </p:grpSpPr>
        <p:sp>
          <p:nvSpPr>
            <p:cNvPr id="241" name=""/>
            <p:cNvSpPr/>
            <p:nvPr/>
          </p:nvSpPr>
          <p:spPr>
            <a:xfrm>
              <a:off x="628560" y="296712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960480" y="296712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63040" y="50022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7365960" y="28368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22200" y="3198960"/>
            <a:ext cx="1038240" cy="57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22200" y="2549160"/>
            <a:ext cx="1098720" cy="41292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7520" y="4822920"/>
            <a:ext cx="1103400" cy="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73400" y="2521080"/>
            <a:ext cx="522360" cy="5126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879720" y="2600280"/>
            <a:ext cx="289080" cy="496800"/>
            <a:chOff x="3879720" y="2600280"/>
            <a:chExt cx="289080" cy="496800"/>
          </a:xfrm>
        </p:grpSpPr>
        <p:sp>
          <p:nvSpPr>
            <p:cNvPr id="250" name=""/>
            <p:cNvSpPr/>
            <p:nvPr/>
          </p:nvSpPr>
          <p:spPr>
            <a:xfrm>
              <a:off x="3924360" y="2600280"/>
              <a:ext cx="23472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68800" y="2600280"/>
              <a:ext cx="0" cy="49680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879720" y="3097080"/>
              <a:ext cx="2793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073400" y="3409920"/>
            <a:ext cx="522360" cy="609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73240" y="3490920"/>
            <a:ext cx="309960" cy="630360"/>
            <a:chOff x="3873240" y="3490920"/>
            <a:chExt cx="309960" cy="630360"/>
          </a:xfrm>
        </p:grpSpPr>
        <p:sp>
          <p:nvSpPr>
            <p:cNvPr id="255" name=""/>
            <p:cNvSpPr/>
            <p:nvPr/>
          </p:nvSpPr>
          <p:spPr>
            <a:xfrm>
              <a:off x="3924360" y="3490920"/>
              <a:ext cx="247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183200" y="3490920"/>
              <a:ext cx="0" cy="6303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873240" y="4121280"/>
              <a:ext cx="2984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73400" y="4576680"/>
            <a:ext cx="522360" cy="3193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3873240" y="4638600"/>
            <a:ext cx="295560" cy="346320"/>
            <a:chOff x="3873240" y="4638600"/>
            <a:chExt cx="295560" cy="346320"/>
          </a:xfrm>
        </p:grpSpPr>
        <p:sp>
          <p:nvSpPr>
            <p:cNvPr id="260" name=""/>
            <p:cNvSpPr/>
            <p:nvPr/>
          </p:nvSpPr>
          <p:spPr>
            <a:xfrm>
              <a:off x="3919680" y="4638600"/>
              <a:ext cx="23796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68800" y="4638600"/>
              <a:ext cx="0" cy="3463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873240" y="4984920"/>
              <a:ext cx="2840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4316400" y="2554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16400" y="2892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16400" y="3414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0" y="35733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16400" y="37465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16400" y="46116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16040" y="27385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16040" y="4753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08120" y="39006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14840" y="2793960"/>
            <a:ext cx="1060560" cy="173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21320" y="4829040"/>
            <a:ext cx="1020600" cy="216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611600" y="3970440"/>
            <a:ext cx="1087560" cy="43956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365960" y="379260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65960" y="4748040"/>
            <a:ext cx="38268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942400" y="3164040"/>
            <a:ext cx="72396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943840" y="3443400"/>
            <a:ext cx="722520" cy="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8970840" y="3630600"/>
            <a:ext cx="695520" cy="1309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23A3-2FFA-4F51-A12F-08A47C0CC9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600" y="1103400"/>
            <a:ext cx="9701280" cy="22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A.CODENAME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THISINPT(C) --&gt; THISCODE(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2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(A) --&gt; THISINPT(C) --&gt; THISPBSC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82680" y="3462480"/>
            <a:ext cx="7645320" cy="3062160"/>
          </a:xfrm>
          <a:prstGeom prst="roundRect">
            <a:avLst>
              <a:gd name="adj" fmla="val 5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PTIDNO,INPTPKND,INPT,   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.......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HISCODE  A, THISINPT  C, THISPBSC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CHRS  =  SUBSTR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.INPTDATE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GUBN  IN  ('A','B')  AND  C.INPTBYBY 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C.INPTID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GUBN  = 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E48D-1E47-49EA-AC1F-151979AE94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-443160" y="3213000"/>
            <a:ext cx="732744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ODE  LIKE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SERL||'' = 'CA'  OR  SERL||'' = 'DA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&lt; 2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82600" y="1103400"/>
            <a:ext cx="9567720" cy="19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CODE_SE_PK : CODE + S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    : SERL + ED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GA : SUGA_SERL_IX2   : PART_CODE + EDSC + SERL + MODE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395520" y="4921200"/>
            <a:ext cx="6351840" cy="2039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COUNT (STOPK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    TABLE ACCESS (BY ROWID) OF 'SUG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6581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INDEX (RANGE SCAN) OF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'SUGA_CODE_SE_PK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9A737-8E1F-47CB-BA1A-4DD3E4B9D6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97000" y="1192320"/>
            <a:ext cx="9567720" cy="53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CODE  LIKE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AND   SERL IN ('CA' , 'DA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IN --&gt; OR --&gt; OR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와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ROWNUM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같이 사용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--&gt; FILTER --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전체범위 처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DE, ' '), NVL(EDSC, ' 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CA'  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첫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UNION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DE, ED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SU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ODE LIKE :B1 AND SERL = 'DA')   &lt;---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두 번째 실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ROWNUM &lt; 21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UGA_CODE_SE_PK : SERL +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8312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6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도적 인덱스 컬럼의 변형시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2480" y="1822320"/>
            <a:ext cx="5440320" cy="14162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2480" y="3710160"/>
            <a:ext cx="7239240" cy="238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6484F-0CDD-4492-BAEC-9ECEDBDED8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552600" y="3195720"/>
            <a:ext cx="7615080" cy="1891080"/>
          </a:xfrm>
          <a:prstGeom prst="roundRect">
            <a:avLst>
              <a:gd name="adj" fmla="val 138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WHERE  DWG1  ||  DWG2 || DWG3   &gt;  :DWG1 ||  :DWG2  ||  :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2600" y="1103400"/>
            <a:ext cx="956772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1  : DWG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2  : DW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AWING : DWG_X3  : DWG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39160" y="4844880"/>
            <a:ext cx="7455240" cy="1708200"/>
            <a:chOff x="839160" y="4844880"/>
            <a:chExt cx="7455240" cy="1708200"/>
          </a:xfrm>
        </p:grpSpPr>
        <p:sp>
          <p:nvSpPr>
            <p:cNvPr id="295" name=""/>
            <p:cNvSpPr/>
            <p:nvPr/>
          </p:nvSpPr>
          <p:spPr>
            <a:xfrm>
              <a:off x="839880" y="5624640"/>
              <a:ext cx="7454520" cy="91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      3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4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&gt;       4       3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3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35       &gt;       0 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6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3      2       &gt; 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1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3      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9160" y="5237280"/>
              <a:ext cx="7454520" cy="366840"/>
            </a:xfrm>
            <a:prstGeom prst="rect">
              <a:avLst/>
            </a:prstGeom>
            <a:solidFill>
              <a:srgbClr val="ebebe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DWG1   DWG2   DWG3            :DWG1   :DWG2   :DWG3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31520" y="4844880"/>
              <a:ext cx="5863320" cy="36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800" spc="-1" strike="noStrike">
                  <a:solidFill>
                    <a:srgbClr val="000066"/>
                  </a:solidFill>
                  <a:latin typeface="굴림체"/>
                  <a:ea typeface="굴림체"/>
                </a:rPr>
                <a:t>컬럼값        크기비교        입력변수값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40120" y="4846680"/>
              <a:ext cx="0" cy="16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7040" y="4861080"/>
              <a:ext cx="0" cy="169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B71C9-49D0-46F4-A342-71B843FEAD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83320" y="1214280"/>
            <a:ext cx="3953160" cy="143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762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돋움체"/>
                <a:ea typeface="돋움체"/>
              </a:rPr>
              <a:t>컬럼값과 변수값의 길이가 동일하다는 전제조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-47520" y="2620800"/>
            <a:ext cx="9685080" cy="2377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/*+ USE_CONCAT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WG_Q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DRA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 (DWG1 = :DWG1  AND  DWG2 = :DWG2  AND  DWG3 &gt; :DWG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= :DWG1  AND  DWG2 &gt; :DW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(DWG1 &gt; :DWG1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ROWNUM  = 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3840" y="243000"/>
            <a:ext cx="5446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7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컬럼값을 연결하여 사용할 때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D82C0-0238-4680-BB4D-B4116E8669F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01880" y="243000"/>
            <a:ext cx="6168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2600" y="1103400"/>
            <a:ext cx="956772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109 : A109_IND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JHCOD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114120" y="2308320"/>
            <a:ext cx="9605520" cy="1283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   INTO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UBSTR (JEPUM, 1, :LEN1)  =  SUBSTR (:WWJEPUM , 1, :LEN1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082520" y="3610080"/>
            <a:ext cx="7635960" cy="4354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ALL         COUNT      CPU     ELAPSED       DISK    QUERY     CURRENT     R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PARSE            1     0.00        0.00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E      41722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25.29       36.67          0        0           0       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ETCH        41722  3677.99     4516.42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   ------- --------  ---------- ---------- -------- ----------- 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OTAL        83444  3703.28     4553.09     255667 17066322           0    417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   ---------------------------------------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8449717     TABLE  ACCESS  (BY  ROWID)  OF  'A109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8491439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'A109_IND1'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( NON -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EC360-03CB-4952-8C18-94EABC752BE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9640" y="2286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8. LOOP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내에 사용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주의점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28680" y="1142640"/>
            <a:ext cx="9524880" cy="289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WHERE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문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 algn="just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</a:rPr>
              <a:t>SUBSTR(JEPU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, 1, :LEN1) = SUBSTR(:WWJEPUM, 1, :LEN1) 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==&gt;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</a:rPr>
              <a:t>JEPUM  LIK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SUBSTR(:WWJEPUM, 1, :LEN1) || '%'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algn="just">
              <a:lnSpc>
                <a:spcPct val="130000"/>
              </a:lnSpc>
              <a:buClr>
                <a:srgbClr val="ff33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 수정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476280" indent="0" algn="just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A109 : A109_IND1 : JHCOD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JEPUM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09" name=""/>
          <p:cNvSpPr/>
          <p:nvPr/>
        </p:nvSpPr>
        <p:spPr>
          <a:xfrm>
            <a:off x="-352800" y="4353480"/>
            <a:ext cx="8865720" cy="180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152280" bIns="1522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 :WWS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JHCO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JEPUM  LIKE  SUBSTR(:WWJEPUM, 1, :LEN1) || '%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6880" y="1822320"/>
            <a:ext cx="7424640" cy="2286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943B-CEC4-41C9-96B8-2E2CFF18A2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712880" y="2762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12880" y="30574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12880" y="3346560"/>
            <a:ext cx="22510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14520" y="24224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 COL2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2360" y="26686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64920" y="24224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65520" y="3176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7120" y="31528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92160" y="432288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667360" y="433548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67680" y="49975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73280" y="1130400"/>
            <a:ext cx="4408560" cy="1157040"/>
          </a:xfrm>
          <a:custGeom>
            <a:avLst/>
            <a:gdLst/>
            <a:ahLst/>
            <a:rect l="l" t="t" r="r" b="b"/>
            <a:pathLst>
              <a:path w="2777" h="729">
                <a:moveTo>
                  <a:pt x="0" y="2"/>
                </a:moveTo>
                <a:lnTo>
                  <a:pt x="0" y="567"/>
                </a:lnTo>
                <a:lnTo>
                  <a:pt x="651" y="567"/>
                </a:lnTo>
                <a:lnTo>
                  <a:pt x="496" y="703"/>
                </a:lnTo>
                <a:lnTo>
                  <a:pt x="755" y="567"/>
                </a:lnTo>
                <a:lnTo>
                  <a:pt x="1591" y="567"/>
                </a:lnTo>
                <a:lnTo>
                  <a:pt x="2776" y="728"/>
                </a:lnTo>
                <a:lnTo>
                  <a:pt x="1891" y="567"/>
                </a:lnTo>
                <a:lnTo>
                  <a:pt x="2483" y="568"/>
                </a:lnTo>
                <a:lnTo>
                  <a:pt x="2483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4840" y="465948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75240" y="492588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4035600" y="3478320"/>
            <a:ext cx="6919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3812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45040" y="603252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2880" y="243000"/>
            <a:ext cx="833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쓰인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284880" y="2762280"/>
            <a:ext cx="2249640" cy="3377520"/>
            <a:chOff x="6284880" y="2762280"/>
            <a:chExt cx="2249640" cy="3377520"/>
          </a:xfrm>
        </p:grpSpPr>
        <p:sp>
          <p:nvSpPr>
            <p:cNvPr id="330" name=""/>
            <p:cNvSpPr/>
            <p:nvPr/>
          </p:nvSpPr>
          <p:spPr>
            <a:xfrm>
              <a:off x="6284880" y="2762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A              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84880" y="30574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B              4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284880" y="334656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0            C              5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84880" y="364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A              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84880" y="392904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B              3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4880" y="42292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1            C              76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84880" y="4516560"/>
              <a:ext cx="2249640" cy="28404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ff3300"/>
                  </a:solidFill>
                  <a:latin typeface="Arial"/>
                  <a:ea typeface="돋움"/>
                </a:rPr>
                <a:t>112            A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               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84880" y="481500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B              7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84880" y="5114880"/>
              <a:ext cx="2249640" cy="28404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2            C              89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84880" y="540720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3            A             18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84880" y="5664240"/>
              <a:ext cx="2249640" cy="475560"/>
            </a:xfrm>
            <a:prstGeom prst="rect">
              <a:avLst/>
            </a:prstGeom>
            <a:solidFill>
              <a:srgbClr val="cbcbc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 </a:t>
              </a:r>
              <a:r>
                <a:rPr b="1" lang="ko-KR" sz="1400" spc="-1" strike="noStrike">
                  <a:solidFill>
                    <a:srgbClr val="5531ae"/>
                  </a:solidFill>
                  <a:latin typeface="Arial"/>
                  <a:ea typeface="돋움"/>
                </a:rPr>
                <a:t>114            A             22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12880" y="42292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12880" y="364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3            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712880" y="392904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12880" y="4516560"/>
            <a:ext cx="224784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712880" y="48150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12880" y="511488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712880" y="540720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12880" y="5686560"/>
            <a:ext cx="22510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950760" y="350676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74800" y="1166760"/>
            <a:ext cx="384912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넓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COL2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112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(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분포도가 좁다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598960" y="46753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23840" y="3011400"/>
            <a:ext cx="11480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76560" y="3005280"/>
            <a:ext cx="468360" cy="4237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7B726-113B-443D-8C5D-A688F2A4C77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824120" y="27399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0           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24120" y="302904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1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24120" y="334656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4120" y="42292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5           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24120" y="3645000"/>
            <a:ext cx="226692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A             113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            </a:t>
            </a:r>
            <a:r>
              <a:rPr b="1" lang="ko-KR" sz="1400" spc="-1" strike="noStrike">
                <a:solidFill>
                  <a:srgbClr val="3333cc"/>
                </a:solidFill>
                <a:latin typeface="Arial"/>
                <a:ea typeface="돋움"/>
              </a:rPr>
              <a:t>18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4120" y="392904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4           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4120" y="4516560"/>
            <a:ext cx="22636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6            2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824120" y="48150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7           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24120" y="511488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A             118            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824120" y="540720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0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824120" y="5686560"/>
            <a:ext cx="226692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B             111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25760" y="2343240"/>
            <a:ext cx="2600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1       COL2  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10680" y="26528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6600" y="2343240"/>
            <a:ext cx="2550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    </a:t>
            </a:r>
            <a:r>
              <a:rPr b="1" lang="ko-KR" sz="1400" spc="-1" strike="noStrike">
                <a:solidFill>
                  <a:srgbClr val="000066"/>
                </a:solidFill>
                <a:latin typeface="Arial"/>
                <a:ea typeface="돋움"/>
              </a:rPr>
              <a:t>COL2       COL1     ROW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184760" y="368460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99760" y="32907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92160" y="31291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66240" y="540216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22200" y="404172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35160" y="2982960"/>
            <a:ext cx="98244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24400" y="1015920"/>
            <a:ext cx="4549680" cy="1154160"/>
          </a:xfrm>
          <a:custGeom>
            <a:avLst/>
            <a:gdLst/>
            <a:ahLst/>
            <a:rect l="l" t="t" r="r" b="b"/>
            <a:pathLst>
              <a:path w="2866" h="727">
                <a:moveTo>
                  <a:pt x="0" y="2"/>
                </a:moveTo>
                <a:lnTo>
                  <a:pt x="0" y="565"/>
                </a:lnTo>
                <a:lnTo>
                  <a:pt x="672" y="565"/>
                </a:lnTo>
                <a:lnTo>
                  <a:pt x="512" y="701"/>
                </a:lnTo>
                <a:lnTo>
                  <a:pt x="779" y="565"/>
                </a:lnTo>
                <a:lnTo>
                  <a:pt x="1642" y="565"/>
                </a:lnTo>
                <a:lnTo>
                  <a:pt x="2865" y="726"/>
                </a:lnTo>
                <a:lnTo>
                  <a:pt x="1952" y="565"/>
                </a:lnTo>
                <a:lnTo>
                  <a:pt x="2562" y="567"/>
                </a:lnTo>
                <a:lnTo>
                  <a:pt x="2562" y="0"/>
                </a:lnTo>
                <a:lnTo>
                  <a:pt x="0" y="2"/>
                </a:lnTo>
              </a:path>
            </a:pathLst>
          </a:custGeom>
          <a:solidFill>
            <a:srgbClr val="ffff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14840" y="3465360"/>
            <a:ext cx="6955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8632440" y="4352400"/>
            <a:ext cx="576360" cy="180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75240" y="5791320"/>
            <a:ext cx="71136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05960" y="1055520"/>
            <a:ext cx="44006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SELECT *  FROM  TAB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WHERE  COL1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AND    COL2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ETWEEN</a:t>
            </a:r>
            <a:r>
              <a:rPr b="1" lang="ko-KR" sz="1600" spc="-1" strike="noStrike">
                <a:solidFill>
                  <a:srgbClr val="5531ae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 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113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465200" y="60166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1 + COL2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60880" y="5975280"/>
            <a:ext cx="2990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80202"/>
                </a:solidFill>
                <a:latin typeface="Arial"/>
                <a:ea typeface="돋움"/>
              </a:rPr>
              <a:t>INDEX ( COL2 + COL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42880" y="243000"/>
            <a:ext cx="8474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처리 범위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둘 다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'='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로 안 쓰인  경우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685960" y="3184560"/>
            <a:ext cx="0" cy="696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177800" y="35035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77800" y="379872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177800" y="3200400"/>
            <a:ext cx="6922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4880" y="273996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B              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284880" y="3029040"/>
            <a:ext cx="2265480" cy="28404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0            C              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84880" y="332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84880" y="361152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84880" y="39117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1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7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284880" y="419904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  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84880" y="449748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B              7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84880" y="4797360"/>
            <a:ext cx="2265480" cy="2840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2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C              8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84880" y="508968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           A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  18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84880" y="5369040"/>
            <a:ext cx="2265480" cy="47556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Arial"/>
                <a:ea typeface="돋움"/>
              </a:rPr>
              <a:t>113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     B             44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84880" y="5664240"/>
            <a:ext cx="2265480" cy="475560"/>
          </a:xfrm>
          <a:prstGeom prst="rect">
            <a:avLst/>
          </a:prstGeom>
          <a:solidFill>
            <a:srgbClr val="cbcbc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14            A             22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2160" y="347184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18360" y="3429000"/>
            <a:ext cx="0" cy="208908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8632440" y="349092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8632440" y="5210280"/>
            <a:ext cx="576360" cy="144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20840" y="2976480"/>
            <a:ext cx="438120" cy="2271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3F7F-B249-4F19-BC51-9748604948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9000" y="241200"/>
            <a:ext cx="81802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1. OPTIMIZER M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</a:rPr>
              <a:t>에 따른 인덱스 사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320" y="1143000"/>
            <a:ext cx="9526680" cy="163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DISTINCT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불필요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OPTIMIZER M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선택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INIT.ORA       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OPTIMIZED_MODE = FIRST_ROWS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굴림체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*PLUS, PRO*C 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</a:rPr>
              <a:t>SQL&gt;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</a:rPr>
              <a:t> ALTER SESSION SET OPTIMIZER_GOAL = FIRST_ROWS;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94" name=""/>
          <p:cNvSpPr/>
          <p:nvPr/>
        </p:nvSpPr>
        <p:spPr>
          <a:xfrm>
            <a:off x="1165320" y="2741760"/>
            <a:ext cx="5176800" cy="3825360"/>
          </a:xfrm>
          <a:prstGeom prst="roundRect">
            <a:avLst>
              <a:gd name="adj" fmla="val 8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Modern"/>
                <a:ea typeface="바탕체"/>
              </a:rPr>
              <a:t>--+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FIRST_ROWS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LASS, COUNT(B.CLA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OL A, COM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YEAR = B.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HOUSE = B.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ERIAL_NO = B.SERIAL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AMT &gt;=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ATE &lt; '950501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CLASS IN ('Y', 'P', 'I', 'C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B.CLAS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34FE-5D48-4CC7-92C5-652AE2211A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54120" y="2724120"/>
            <a:ext cx="8580240" cy="2952360"/>
          </a:xfrm>
          <a:prstGeom prst="roundRect">
            <a:avLst>
              <a:gd name="adj" fmla="val 67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CT_CODE, PART_MODEL_CODE, PART_CHAR_CODE, PART_SPE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ART_ROUT_CODE, ORDERNO, ITEMNO, DIN_ACT_MH, WORK_ORDER_N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MODEL_NO, DRAW_NO, MATR_STATUS, WORK_ORDER_DATE, ROW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WORKP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ORK_ORDER_DATE LIKE :B1 || '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_CODE  = :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GROUP_CODE =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CT_CODE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2880" y="243000"/>
            <a:ext cx="7469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6760" y="1103400"/>
            <a:ext cx="95677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_WORKPLAN : S_WORKPLAN_IDX : WORK_ORDER_DATE + DEPT_CODE + GROU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79360" y="5979960"/>
            <a:ext cx="9028080" cy="57312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6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인덱스 칼럼 순서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87640" y="4540320"/>
            <a:ext cx="607392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SORT (ORDER B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220      TABLE ACCESS (BY ROWID) OF 'S_WORKPLAN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4602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INDEX (RANGE SCAN) OF 'S_WORKPLAN_IDX' (NON-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D64C-D140-43AA-B6C7-9409CA9969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06600" y="243000"/>
            <a:ext cx="8488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컬럼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852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ORK_ORDER_DATE + DEPT_CODE + GROU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5420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90560" y="28940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A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           3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B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2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3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           40       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C           10  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           20          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A           10          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56080" y="2881440"/>
            <a:ext cx="2295720" cy="3012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28600" rIns="22860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0           1           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           2           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2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           3           1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3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30           4           1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40           4           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52600" y="1344600"/>
            <a:ext cx="5109480" cy="65772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EPT_CODE + GROUP_CODE + WORK_ORDER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=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LIK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%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26520" y="273204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02040" y="535932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68080" y="303696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4000" y="573264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5840" y="3646440"/>
            <a:ext cx="1596960" cy="0"/>
          </a:xfrm>
          <a:prstGeom prst="line">
            <a:avLst/>
          </a:prstGeom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54280" y="3049560"/>
            <a:ext cx="0" cy="249552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017960" y="403236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006800" y="5264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4019040" y="3260880"/>
            <a:ext cx="54324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429680" y="3639960"/>
            <a:ext cx="515880" cy="12096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55680" y="30402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44960" y="3825720"/>
            <a:ext cx="5263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947000" y="3790800"/>
            <a:ext cx="0" cy="500040"/>
          </a:xfrm>
          <a:prstGeom prst="line">
            <a:avLst/>
          </a:prstGeom>
          <a:ln w="255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76200" y="3355920"/>
            <a:ext cx="514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26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6348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3680" y="2355840"/>
            <a:ext cx="84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WORK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11440" y="2355840"/>
            <a:ext cx="758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DEPT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76440" y="235584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GROUP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81960" y="4130640"/>
            <a:ext cx="5277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ko-KR" sz="1700" spc="-1" strike="noStrike">
                <a:solidFill>
                  <a:srgbClr val="3c0023"/>
                </a:solidFill>
                <a:latin typeface="Wingdings"/>
                <a:ea typeface="Wingdings"/>
              </a:rPr>
              <a:t>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803920" y="4503600"/>
            <a:ext cx="57312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488440" y="428940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8488440" y="404028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8488440" y="3760920"/>
            <a:ext cx="542880" cy="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A74DC-373D-4B65-BC25-DE09155BB2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-433440" y="3098880"/>
            <a:ext cx="10760760" cy="2081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SHIPPER, COUNT(*), SUM(AM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EX_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DATE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'950101'  AND  '950430'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&lt;- 4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개월 분량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약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3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만 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HIPPER  I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('A', 'B', 'C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 SHIPP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SUM(AMT) DESC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442880" y="243000"/>
            <a:ext cx="8645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03040" y="1103400"/>
            <a:ext cx="98092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 : SHIP_DATE_IX  :  SDATE +  SHI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_SHIPPE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의 분포도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 SDATE : 1 / 365 , SHIPPER : 1 /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30880" y="4883040"/>
            <a:ext cx="5155920" cy="2282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 COST ESTIMATE:N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ORT ( GROUP BY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EX_SHIPPER ( 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SHIP_DATE_IX ( NU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2DB4F-444C-447C-80F7-8E0590428E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60560" y="1909800"/>
            <a:ext cx="48564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31120" y="143496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1480" y="6018120"/>
            <a:ext cx="1610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9240" y="1917720"/>
            <a:ext cx="111132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95876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1555920" y="2362320"/>
            <a:ext cx="1207800" cy="519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55920" y="3054240"/>
            <a:ext cx="1126800" cy="167004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555920" y="2971800"/>
            <a:ext cx="1207800" cy="341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422000" y="360360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55920" y="4741920"/>
            <a:ext cx="1126800" cy="439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909960" y="214632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071880" y="2260440"/>
            <a:ext cx="793800" cy="1303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086280" y="2881080"/>
            <a:ext cx="779400" cy="903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013200" y="2476440"/>
            <a:ext cx="852480" cy="2208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013200" y="4021200"/>
            <a:ext cx="852480" cy="1154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492800" y="25401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92800" y="27687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492800" y="2997360"/>
            <a:ext cx="56808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2520" y="1909800"/>
            <a:ext cx="488880" cy="3903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71320" y="1471680"/>
            <a:ext cx="21999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SHIP_DATE_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53280" y="6016680"/>
            <a:ext cx="1854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S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262640" y="1917720"/>
            <a:ext cx="11098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994440" y="1438200"/>
            <a:ext cx="20322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5531ae"/>
                </a:solidFill>
                <a:latin typeface="Arial"/>
                <a:ea typeface="굴림체"/>
              </a:rPr>
              <a:t>EX_SHI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359400" y="2362320"/>
            <a:ext cx="1457280" cy="4572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59400" y="4419720"/>
            <a:ext cx="1376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548400" y="2971800"/>
            <a:ext cx="1187640" cy="154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59400" y="2743200"/>
            <a:ext cx="137664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239880" y="27399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34000" y="3876840"/>
            <a:ext cx="1202040" cy="122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61480" y="2438280"/>
            <a:ext cx="7333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8061480" y="2273040"/>
            <a:ext cx="7459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061480" y="2971800"/>
            <a:ext cx="707760" cy="1652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8061480" y="4025520"/>
            <a:ext cx="720720" cy="469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8061480" y="3403440"/>
            <a:ext cx="707760" cy="1702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9477360" y="24890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9477360" y="27176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9477360" y="2946240"/>
            <a:ext cx="5684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534000" y="4756320"/>
            <a:ext cx="1041480" cy="9586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39880" y="352584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39880" y="4421160"/>
            <a:ext cx="817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3333cc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901000" y="2209680"/>
            <a:ext cx="542880" cy="1955880"/>
          </a:xfrm>
          <a:prstGeom prst="rect">
            <a:avLst/>
          </a:prstGeom>
          <a:solidFill>
            <a:srgbClr val="eaeaea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8480" y="2787480"/>
            <a:ext cx="466560" cy="203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813960" y="2867040"/>
            <a:ext cx="397440" cy="2035080"/>
            <a:chOff x="813960" y="2867040"/>
            <a:chExt cx="397440" cy="2035080"/>
          </a:xfrm>
        </p:grpSpPr>
        <p:sp>
          <p:nvSpPr>
            <p:cNvPr id="485" name=""/>
            <p:cNvSpPr/>
            <p:nvPr/>
          </p:nvSpPr>
          <p:spPr>
            <a:xfrm>
              <a:off x="879480" y="28670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211400" y="2867040"/>
              <a:ext cx="0" cy="203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813960" y="490212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6040440" y="275436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785920" y="2833560"/>
            <a:ext cx="397440" cy="400320"/>
            <a:chOff x="5785920" y="2833560"/>
            <a:chExt cx="397440" cy="400320"/>
          </a:xfrm>
        </p:grpSpPr>
        <p:sp>
          <p:nvSpPr>
            <p:cNvPr id="490" name=""/>
            <p:cNvSpPr/>
            <p:nvPr/>
          </p:nvSpPr>
          <p:spPr>
            <a:xfrm>
              <a:off x="5851440" y="2833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83360" y="2833560"/>
              <a:ext cx="0" cy="400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5785920" y="3233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6040440" y="351324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5785920" y="3592440"/>
            <a:ext cx="397440" cy="399960"/>
            <a:chOff x="5785920" y="3592440"/>
            <a:chExt cx="397440" cy="399960"/>
          </a:xfrm>
        </p:grpSpPr>
        <p:sp>
          <p:nvSpPr>
            <p:cNvPr id="495" name=""/>
            <p:cNvSpPr/>
            <p:nvPr/>
          </p:nvSpPr>
          <p:spPr>
            <a:xfrm>
              <a:off x="5851440" y="3592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83360" y="359244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785920" y="3992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040440" y="4378320"/>
            <a:ext cx="466560" cy="3999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785920" y="4457880"/>
            <a:ext cx="397440" cy="399960"/>
            <a:chOff x="5785920" y="4457880"/>
            <a:chExt cx="397440" cy="399960"/>
          </a:xfrm>
        </p:grpSpPr>
        <p:sp>
          <p:nvSpPr>
            <p:cNvPr id="500" name=""/>
            <p:cNvSpPr/>
            <p:nvPr/>
          </p:nvSpPr>
          <p:spPr>
            <a:xfrm>
              <a:off x="5851440" y="44578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183360" y="4457880"/>
              <a:ext cx="0" cy="399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785920" y="485784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57A3-52A6-4E79-A326-F815898A42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2241000" y="243000"/>
            <a:ext cx="628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0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간단한 결합 인덱스지만  컬럼 순서 유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89080" y="1255680"/>
            <a:ext cx="4724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IN (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C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B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,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HIP_DATE_IX1 : SHIPPER + SDATE + A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218120" y="3406680"/>
            <a:ext cx="444240" cy="262260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20920" y="3043080"/>
            <a:ext cx="2151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IP_DATE_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078680" y="3770280"/>
            <a:ext cx="504720" cy="1986120"/>
          </a:xfrm>
          <a:prstGeom prst="rect">
            <a:avLst/>
          </a:prstGeom>
          <a:solidFill>
            <a:srgbClr val="ddddd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85280" y="398772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78800" y="3981600"/>
            <a:ext cx="1020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21640" y="43527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15160" y="43448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21640" y="47163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815160" y="47084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821640" y="507996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815160" y="5072040"/>
            <a:ext cx="977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615080" y="41212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908840" y="40482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615080" y="434988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908840" y="42768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615080" y="4581360"/>
            <a:ext cx="355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908840" y="450864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7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694960" y="6087960"/>
            <a:ext cx="3111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SHIPPER + SDATE + A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3993840" y="3687840"/>
            <a:ext cx="405000" cy="415800"/>
            <a:chOff x="3993840" y="3687840"/>
            <a:chExt cx="405000" cy="415800"/>
          </a:xfrm>
        </p:grpSpPr>
        <p:sp>
          <p:nvSpPr>
            <p:cNvPr id="524" name=""/>
            <p:cNvSpPr/>
            <p:nvPr/>
          </p:nvSpPr>
          <p:spPr>
            <a:xfrm>
              <a:off x="4016520" y="368784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94160" y="369576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3993840" y="4103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498920" y="3675240"/>
            <a:ext cx="2311560" cy="23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42080" y="3830760"/>
            <a:ext cx="235080" cy="145800"/>
          </a:xfrm>
          <a:custGeom>
            <a:avLst/>
            <a:gdLst/>
            <a:ahLst/>
            <a:rect l="l" t="t" r="r" b="b"/>
            <a:pathLst>
              <a:path w="148" h="92">
                <a:moveTo>
                  <a:pt x="0" y="91"/>
                </a:moveTo>
                <a:lnTo>
                  <a:pt x="22" y="48"/>
                </a:lnTo>
                <a:lnTo>
                  <a:pt x="11" y="0"/>
                </a:lnTo>
                <a:lnTo>
                  <a:pt x="147" y="63"/>
                </a:lnTo>
                <a:lnTo>
                  <a:pt x="0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4538520" y="5079600"/>
            <a:ext cx="220032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672240" y="5014800"/>
            <a:ext cx="233280" cy="146160"/>
          </a:xfrm>
          <a:custGeom>
            <a:avLst/>
            <a:gdLst/>
            <a:ahLst/>
            <a:rect l="l" t="t" r="r" b="b"/>
            <a:pathLst>
              <a:path w="147" h="92">
                <a:moveTo>
                  <a:pt x="7" y="91"/>
                </a:moveTo>
                <a:lnTo>
                  <a:pt x="20" y="43"/>
                </a:lnTo>
                <a:lnTo>
                  <a:pt x="0" y="0"/>
                </a:lnTo>
                <a:lnTo>
                  <a:pt x="146" y="35"/>
                </a:lnTo>
                <a:lnTo>
                  <a:pt x="7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535640" y="4110120"/>
            <a:ext cx="2261880" cy="8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730920" y="4121280"/>
            <a:ext cx="233280" cy="147600"/>
          </a:xfrm>
          <a:custGeom>
            <a:avLst/>
            <a:gdLst/>
            <a:ahLst/>
            <a:rect l="l" t="t" r="r" b="b"/>
            <a:pathLst>
              <a:path w="147" h="93">
                <a:moveTo>
                  <a:pt x="0" y="92"/>
                </a:moveTo>
                <a:lnTo>
                  <a:pt x="20" y="46"/>
                </a:lnTo>
                <a:lnTo>
                  <a:pt x="5" y="0"/>
                </a:lnTo>
                <a:lnTo>
                  <a:pt x="146" y="50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4538520" y="4470120"/>
            <a:ext cx="2271960" cy="14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48560" y="4397400"/>
            <a:ext cx="228600" cy="147600"/>
          </a:xfrm>
          <a:custGeom>
            <a:avLst/>
            <a:gdLst/>
            <a:ahLst/>
            <a:rect l="l" t="t" r="r" b="b"/>
            <a:pathLst>
              <a:path w="144" h="93">
                <a:moveTo>
                  <a:pt x="0" y="92"/>
                </a:moveTo>
                <a:lnTo>
                  <a:pt x="18" y="46"/>
                </a:lnTo>
                <a:lnTo>
                  <a:pt x="0" y="0"/>
                </a:lnTo>
                <a:lnTo>
                  <a:pt x="143" y="46"/>
                </a:lnTo>
                <a:lnTo>
                  <a:pt x="0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378320" y="368784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78320" y="384012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4552920" y="4765680"/>
            <a:ext cx="2212920" cy="17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703920" y="4699080"/>
            <a:ext cx="231840" cy="147600"/>
          </a:xfrm>
          <a:custGeom>
            <a:avLst/>
            <a:gdLst/>
            <a:ahLst/>
            <a:rect l="l" t="t" r="r" b="b"/>
            <a:pathLst>
              <a:path w="146" h="93">
                <a:moveTo>
                  <a:pt x="6" y="92"/>
                </a:moveTo>
                <a:lnTo>
                  <a:pt x="19" y="44"/>
                </a:lnTo>
                <a:lnTo>
                  <a:pt x="0" y="0"/>
                </a:lnTo>
                <a:lnTo>
                  <a:pt x="145" y="35"/>
                </a:lnTo>
                <a:lnTo>
                  <a:pt x="6" y="92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4514760" y="5401800"/>
            <a:ext cx="2254320" cy="28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0680" y="5337000"/>
            <a:ext cx="235080" cy="146160"/>
          </a:xfrm>
          <a:custGeom>
            <a:avLst/>
            <a:gdLst/>
            <a:ahLst/>
            <a:rect l="l" t="t" r="r" b="b"/>
            <a:pathLst>
              <a:path w="148" h="92">
                <a:moveTo>
                  <a:pt x="11" y="91"/>
                </a:moveTo>
                <a:lnTo>
                  <a:pt x="21" y="43"/>
                </a:lnTo>
                <a:lnTo>
                  <a:pt x="0" y="0"/>
                </a:lnTo>
                <a:lnTo>
                  <a:pt x="147" y="28"/>
                </a:lnTo>
                <a:lnTo>
                  <a:pt x="11" y="9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346640" y="4491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346640" y="46432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367520" y="520848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67520" y="5364000"/>
            <a:ext cx="981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돋움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73480" y="1152360"/>
            <a:ext cx="4872240" cy="1933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ORT  ( GROUP B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  SCAN  : SHIP_DATE_IX1 ( NU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2920" y="3952800"/>
            <a:ext cx="3477240" cy="1361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처리범위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HIPPER =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'SDATE BETWEEN ..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에 의해서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993840" y="4518000"/>
            <a:ext cx="405000" cy="415800"/>
            <a:chOff x="3993840" y="4518000"/>
            <a:chExt cx="405000" cy="415800"/>
          </a:xfrm>
        </p:grpSpPr>
        <p:sp>
          <p:nvSpPr>
            <p:cNvPr id="548" name=""/>
            <p:cNvSpPr/>
            <p:nvPr/>
          </p:nvSpPr>
          <p:spPr>
            <a:xfrm>
              <a:off x="4016520" y="451800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94160" y="452592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3993840" y="493380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3993840" y="5262480"/>
            <a:ext cx="405000" cy="416160"/>
            <a:chOff x="3993840" y="5262480"/>
            <a:chExt cx="405000" cy="416160"/>
          </a:xfrm>
        </p:grpSpPr>
        <p:sp>
          <p:nvSpPr>
            <p:cNvPr id="552" name=""/>
            <p:cNvSpPr/>
            <p:nvPr/>
          </p:nvSpPr>
          <p:spPr>
            <a:xfrm>
              <a:off x="4016520" y="5262480"/>
              <a:ext cx="382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94160" y="52704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993840" y="567864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3284640" y="4633920"/>
            <a:ext cx="59508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284640" y="3890880"/>
            <a:ext cx="609480" cy="72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1680" y="4651200"/>
            <a:ext cx="622440" cy="69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4669E-F87B-45F6-B84B-086635CC574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3943440" y="2295360"/>
            <a:ext cx="79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921120" y="2201760"/>
            <a:ext cx="128520" cy="201600"/>
          </a:xfrm>
          <a:custGeom>
            <a:avLst/>
            <a:gdLst/>
            <a:ahLst/>
            <a:rect l="l" t="t" r="r" b="b"/>
            <a:pathLst>
              <a:path w="81" h="127">
                <a:moveTo>
                  <a:pt x="0" y="0"/>
                </a:moveTo>
                <a:lnTo>
                  <a:pt x="80" y="60"/>
                </a:lnTo>
                <a:lnTo>
                  <a:pt x="0" y="12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344680" y="1416240"/>
            <a:ext cx="1570320" cy="2290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LT9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CAR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DER_P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F_HP_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826160" y="2297160"/>
            <a:ext cx="987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563080" y="1396800"/>
            <a:ext cx="1681560" cy="216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7632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GFXC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# *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B_F_Q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PER_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347920" y="1897200"/>
            <a:ext cx="155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564160" y="1892160"/>
            <a:ext cx="167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30200" y="4325760"/>
            <a:ext cx="8745480" cy="17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42F5-FB92-4C46-9324-E6FF1B800D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82600" y="947880"/>
            <a:ext cx="966456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1 : CAR_CODE + D_DAY +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PART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LT950  A : GFLT950_X2 : TEAM_CODE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D_DAY + PART_CODE + TEAM_CODE (P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4280" y="2732040"/>
            <a:ext cx="6548400" cy="3822840"/>
          </a:xfrm>
          <a:prstGeom prst="roundRect">
            <a:avLst>
              <a:gd name="adj" fmla="val 9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_PRT, A.HP_Q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TEAM_CDOE, B.UPFR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5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A.PART_CODE = B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ORDER_PRT = 1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PART_CODE BETWEEN :VALUE3 AND :VALUE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298600" y="243000"/>
            <a:ext cx="6070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1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시 사용된 결합 인덱스의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82600" y="2246400"/>
            <a:ext cx="83437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4722840" y="3363840"/>
            <a:ext cx="5300640" cy="2010600"/>
            <a:chOff x="4722840" y="3363840"/>
            <a:chExt cx="5300640" cy="2010600"/>
          </a:xfrm>
        </p:grpSpPr>
        <p:sp>
          <p:nvSpPr>
            <p:cNvPr id="572" name=""/>
            <p:cNvSpPr/>
            <p:nvPr/>
          </p:nvSpPr>
          <p:spPr>
            <a:xfrm>
              <a:off x="4722840" y="3363840"/>
              <a:ext cx="5300640" cy="20106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  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NESTED LO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17718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TABLE ACCESS (FULL) OF 'GFLT95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TABLE ACCESS (BY ROWID) OF 'GFXC130'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84        INDEX (UNIQUE SCAN) OF 'GFXC130_X1' (UNIQU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104040" y="4149720"/>
              <a:ext cx="677160" cy="6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2600" y="5935680"/>
            <a:ext cx="94219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: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50_X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PART_CODE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CAR_CODE + D_DAY + TEAM_CODE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A7B1B-BB5C-4B2E-9387-AF2B10E9B0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-477360" y="2863800"/>
            <a:ext cx="8436960" cy="2189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AR_CODE, A.D_DAY, A.PART_CODE, A.SPUM_COD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ORDER.PRT, A.F_HP_Q, B.TEA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T920 A,  GFXC13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A.PART_CODE = B.PART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D_DAY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.PART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BETWEEN  :VALUE3  AND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TEAM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66760" y="1103400"/>
            <a:ext cx="9736200" cy="22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1 : CAR_CODE + D_DAY + PART_CODE + TEAM_CODE (P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PART_CODE + SPUM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B : GFXC130_X1 : PART_CODE + TEAM_CODE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392720" y="4816440"/>
            <a:ext cx="5148000" cy="205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HINT :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3    NESTED 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2      TABLE ACCESS (BY ROWID) OF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3        INDEX (RANGE SCAN) OF 'GFXC13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89      TABLE ACCESS (BY ROWID) OF 'GFLT9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6390        INDEX (RANGE SCAN) OF 'GFLT920_X2'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770680" y="5562720"/>
            <a:ext cx="67716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E8175-FD48-4656-80C5-BDF8873E3F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27700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35720" y="1231920"/>
            <a:ext cx="1055880" cy="298620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95800" y="1231920"/>
            <a:ext cx="1193760" cy="29401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77880" y="2417760"/>
            <a:ext cx="878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2960" y="289872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82640" y="1219320"/>
            <a:ext cx="673200" cy="2958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06600" y="280044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94000" y="2417760"/>
            <a:ext cx="850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343560" y="3365640"/>
            <a:ext cx="84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570560" y="2417760"/>
            <a:ext cx="75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68760" y="2800440"/>
            <a:ext cx="74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69120" y="1871640"/>
            <a:ext cx="79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434440" y="2795760"/>
            <a:ext cx="84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434440" y="2332080"/>
            <a:ext cx="853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7600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3468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303600" y="138420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8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8550000" y="17287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04840" y="1876320"/>
            <a:ext cx="599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2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381480" y="442440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69200" y="4456080"/>
            <a:ext cx="1038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테이블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1520" y="443556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XC130_X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115240" y="4511520"/>
            <a:ext cx="1404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FLT920_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2440" y="5154480"/>
            <a:ext cx="92725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T920  A : GFLT920_X2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PART_CODE + D_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518080" y="1231920"/>
            <a:ext cx="701640" cy="29671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88160" y="1871640"/>
            <a:ext cx="0" cy="15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57600" y="3635280"/>
            <a:ext cx="843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6390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7A8D-F8E9-47B8-863F-94348CB5AA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-11160" y="2800440"/>
            <a:ext cx="694908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A.PART_CODE,A.SPUM_CODE,A.D_DAY,A.B_F_QT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TAG,B.ORDER_PRT,C.DC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GFBT400  A,  GFXC440  B,  GFXC130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.SPUM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B.SPUM_COD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A.PART_CODE =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.PART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A.D_DAY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ND A.TEAM_CODE = :B2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66760" y="1103400"/>
            <a:ext cx="98200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400  A :  GFBT400_X3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TEAM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 +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B :  GFXC440_X1 : SPUM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XC130  C :  GFXC130_X1 : PART_CODE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686040" y="4356000"/>
            <a:ext cx="6086520" cy="3118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NESTED 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39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TABLE  ACCESS ( BY ROWID )  OF  'GFBT4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48276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INDEX ( RANGE SCAN )  OF  'GFBT400_X3' (NON-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TABLE  ACCESS ( BY ROWID )  OF  'GFXC13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  INDEX ( UNIQUE SCAN )  OF  'GFXC13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TABLE  ACCESS ( BY ROWID )  OF  'GFXC44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391        INDEX  ( UNIQUE SCAN ) OF  'GFXC440_X1' (UNIQ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190800" y="5375160"/>
            <a:ext cx="621000" cy="11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D84DA-6BA5-4F2F-BEC6-24B4DBF4EA6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499320" y="2849400"/>
            <a:ext cx="868896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H14_ACNT_CODE, H14_GWANLI_CODE, H14_MAGAM_Y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H14_MAGAM_MM,  H14_GUBUN, H14_C_AMT, H14_D_AM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FH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0  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DER BY  H14_ACNT_CODE, H14_GWANLI_COD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9720" y="243000"/>
            <a:ext cx="570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. ORDER BY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절에서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760" y="1103400"/>
            <a:ext cx="9745560" cy="19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H14 : IFH14_KEY1 :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H14_ACNT_CODE + H14_GWANLI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MAGAM_Y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H14_MAGAM_MM +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H14_GUB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40160" y="5200560"/>
            <a:ext cx="626580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    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 SELECT STATEMENT   HINT: CHO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5743      TABLE ACCESS (BY ROWID) OF 'FH14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168188        INDEX (RANGE SCAN) OF 'IFH14_KEY1' (UNIQU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53120" y="4334040"/>
            <a:ext cx="2578320" cy="911160"/>
          </a:xfrm>
          <a:custGeom>
            <a:avLst/>
            <a:gdLst>
              <a:gd name="textAreaLeft" fmla="*/ 95400 w 2578320"/>
              <a:gd name="textAreaRight" fmla="*/ 2482920 w 2578320"/>
              <a:gd name="textAreaTop" fmla="*/ 33480 h 911160"/>
              <a:gd name="textAreaBottom" fmla="*/ 727920 h 91116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에 의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ORT Plan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이 없는 이유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5440" y="5218200"/>
            <a:ext cx="2211120" cy="691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적어도 하나 이상의 컬럼이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66F78-57EE-4293-A405-3D37CF8182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221328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3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 순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936720" y="1833480"/>
            <a:ext cx="485640" cy="3881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47240" y="1285920"/>
            <a:ext cx="18540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8360" y="5881680"/>
            <a:ext cx="20278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+ 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92280" y="2362320"/>
            <a:ext cx="40788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100160" y="2362320"/>
            <a:ext cx="0" cy="2895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614160" y="5257800"/>
            <a:ext cx="4856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62000" y="3213000"/>
            <a:ext cx="8874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48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165400" y="1841400"/>
            <a:ext cx="127008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930320" y="1285920"/>
            <a:ext cx="15368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BT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1258920" y="2286000"/>
            <a:ext cx="1297080" cy="5335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892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258920" y="2819520"/>
            <a:ext cx="1297080" cy="3045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V="1">
            <a:off x="1258920" y="4191120"/>
            <a:ext cx="1297080" cy="7617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459080" y="3068640"/>
            <a:ext cx="4032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258920" y="4038480"/>
            <a:ext cx="1297080" cy="9907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278240" y="1833480"/>
            <a:ext cx="53820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7119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6296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581800" y="1841400"/>
            <a:ext cx="1171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3460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1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78200" y="2666880"/>
            <a:ext cx="129564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78200" y="2819520"/>
            <a:ext cx="1295640" cy="167616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777920" y="37544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1000" y="4800600"/>
            <a:ext cx="1212840" cy="1522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48160" y="5781600"/>
            <a:ext cx="200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PAR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78200" y="2286000"/>
            <a:ext cx="1542960" cy="9144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878200" y="2666880"/>
            <a:ext cx="154296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2962440" y="2742840"/>
            <a:ext cx="1458720" cy="3049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75800" y="32209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2878200" y="3885840"/>
            <a:ext cx="1542960" cy="762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878200" y="4800240"/>
            <a:ext cx="154296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432560" y="1833480"/>
            <a:ext cx="487440" cy="39038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580600" y="1841400"/>
            <a:ext cx="1117440" cy="388296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344800" y="1285920"/>
            <a:ext cx="1547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756560" y="2895480"/>
            <a:ext cx="1297080" cy="18288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756560" y="2666880"/>
            <a:ext cx="1297080" cy="60984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13280" y="344952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756560" y="4800600"/>
            <a:ext cx="1297080" cy="2286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461280" y="2971800"/>
            <a:ext cx="1054080" cy="1905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63932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539040" y="281952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76440" y="329724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39040" y="3200400"/>
            <a:ext cx="1054080" cy="17524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725160" y="1285920"/>
            <a:ext cx="1864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굴림체"/>
              </a:rPr>
              <a:t>GFXC44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642720" y="5857920"/>
            <a:ext cx="19832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45228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04640" y="2222640"/>
            <a:ext cx="1265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258920" y="3504960"/>
            <a:ext cx="1297080" cy="114300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58920" y="2514600"/>
            <a:ext cx="1297080" cy="83808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378080" y="2222640"/>
            <a:ext cx="858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391</a:t>
            </a: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505360" y="3144960"/>
            <a:ext cx="833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570040" y="6229440"/>
            <a:ext cx="4730760" cy="495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TEAM_CODE + D_DAY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+ SHOP_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9F0E-736F-4345-9DC8-DD52C5C884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-509760" y="3005280"/>
            <a:ext cx="9251280" cy="207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D_DAY,  TEAM_CODE,  SPUM_CODE,  B_F_QTY,  ORDER_P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GFBT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  BETWEEN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:VALUE1 AND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TEAM_CODE =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ORDER_PR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212560" y="243000"/>
            <a:ext cx="55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의 사용을 정확히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4280" y="1103400"/>
            <a:ext cx="9409320" cy="23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D_DA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 + SERIAL_NO (PRIMARY 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BT300 : GFBT300_X2 : SPUM_CODE + D_DAY + ORDER_P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21280" y="4460760"/>
            <a:ext cx="5848200" cy="17974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STATEMENT          HINT  :  CHO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9064    SORT (ORDER 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29728      TABLE  ACCESS  (BY  ROWID)  OF  GFBT30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29729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 (RANGE  SCAN)  OF  GFBT300_X1'  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4280" y="6041880"/>
            <a:ext cx="6094440" cy="5083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: TEAM_CODE  +  D_DAY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INDEX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추가 생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5D0A-5034-4CA3-9C4C-8CDBAC77E6F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-733320" y="2882880"/>
            <a:ext cx="11084040" cy="3691080"/>
          </a:xfrm>
          <a:prstGeom prst="roundRect">
            <a:avLst>
              <a:gd name="adj" fmla="val 54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320" rIns="7632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T.D_DAY, DT.YT_CODE, DT.SHOP_CODE, DT.SLIP_NO1, DT.SLIP_NO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TAX_GUBUN, SUM(DT.BP_AMOUNT1 + DT.HP_AOUNT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ST300  DT,  GFST100  HD,  GFXC250  C,  GFXC310 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TEAM_CODE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= 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:B2  BETWEEN  C.NEW_FR_DATE  AND  C.NEW_TO_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D.SUSU_CHK  =  '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HD.D_DAY  =  :B3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상수 값이므로 최초로 풀리는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HD.PART_CODE  BETWEEN  :B4  AND :B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YT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YT_CODE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AND  HD.YT_CODE  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SHOP_COD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DT.SHOP_CODE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ND  HD.SHOP_CODE =  </a:t>
            </a:r>
            <a:r>
              <a:rPr b="1" lang="ko-KR" sz="1600" spc="-1" strike="noStrike">
                <a:solidFill>
                  <a:srgbClr val="ff00cc"/>
                </a:solidFill>
                <a:latin typeface="굴림체"/>
                <a:ea typeface="굴림체"/>
              </a:rPr>
              <a:t>C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D.D_DAY     =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T.D_DAY      AND  HD.YT_CODE  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YT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1  =  DT.SLIP_NO1   AND  HD.SHOP_CODE =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D.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HD.SLIP_NO2  =  DT.SLIP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  DT.D_DAY, DT.YT_CODE, DT.SHOP_CODE, DT.SLIP_NO1, DT.SLIP_NO2, DT.TAX_GUBUN 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66760" y="1028880"/>
            <a:ext cx="8231040" cy="18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 DT :  GFST300_X2 : </a:t>
            </a:r>
            <a:r>
              <a:rPr b="1" lang="ko-KR" sz="1400" spc="-1" strike="noStrike">
                <a:solidFill>
                  <a:srgbClr val="8000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 HD :  GFST100_X1 : </a:t>
            </a:r>
            <a:r>
              <a:rPr b="1" lang="ko-KR" sz="1400" spc="-1" strike="noStrike">
                <a:solidFill>
                  <a:srgbClr val="3333cc"/>
                </a:solidFill>
                <a:latin typeface="굴림체"/>
                <a:ea typeface="굴림체"/>
              </a:rPr>
              <a:t>D_DAY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+ YT_CODE + SHOP_CODE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440  C  :  GFXC250_X3 : </a:t>
            </a:r>
            <a:r>
              <a:rPr b="1" lang="ko-KR" sz="1400" spc="-1" strike="noStrike">
                <a:solidFill>
                  <a:srgbClr val="ff00cc"/>
                </a:solidFill>
                <a:latin typeface="굴림체"/>
                <a:ea typeface="굴림체"/>
              </a:rPr>
              <a:t>YT_CODE + SHOP_CODE 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  D  :  GFXC310_X1 : </a:t>
            </a:r>
            <a:r>
              <a:rPr b="1" lang="ko-KR" sz="1400" spc="-1" strike="noStrike">
                <a:solidFill>
                  <a:srgbClr val="009900"/>
                </a:solidFill>
                <a:latin typeface="굴림체"/>
                <a:ea typeface="굴림체"/>
              </a:rPr>
              <a:t>YT_CODE + SHOP_CODE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251840" y="3625920"/>
            <a:ext cx="2771280" cy="36180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6600cc"/>
                </a:solidFill>
                <a:latin typeface="굴림체"/>
                <a:ea typeface="굴림체"/>
              </a:rPr>
              <a:t>HD --&gt; D --&gt; C --&gt; 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C036-FF45-461D-8CF0-F201FD186EE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606600" y="1312920"/>
            <a:ext cx="8220600" cy="6877800"/>
            <a:chOff x="606600" y="1312920"/>
            <a:chExt cx="8220600" cy="6877800"/>
          </a:xfrm>
        </p:grpSpPr>
        <p:sp>
          <p:nvSpPr>
            <p:cNvPr id="676" name=""/>
            <p:cNvSpPr/>
            <p:nvPr/>
          </p:nvSpPr>
          <p:spPr>
            <a:xfrm>
              <a:off x="606600" y="1312920"/>
              <a:ext cx="8216640" cy="68778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CALL         COUNT     CPU      ELAPSED     DISK    QUERY    CURRENT     ROW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   ------- --------  ---------- -------- -------- ---------- 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PARSE            1     0.06       0.06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XECUTE         14     0.04       0.04         0        0          0       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ETCH           61    10.60      11.35        38    58338          0       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 EXECUTION  P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   --------------------------------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 SELECT   STA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SORT ( GROUP BY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8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315         NESTED  LO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20494           TABLE  ACCESS  ( BY  ROWID )  OF  'GFST1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49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    INDEX  ( RANGE  SCAN )  OF  'GFST10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TABLE  ACCESS  ( BY  ROWID )  OF  'GFXC31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627             INDEX  ( UNIQUE  SCAN )  OF  'GFXC310_X1' ( 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75         TABLE  ACCESS  ( BY  ROWID )  OF  'GFXC25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390           INDEX  ( RANGE  SCAN )  OF  'GFXC250_X3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407607       TABLE  ACCESS  ( BY  ROWID )  OF  'GFST300'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407745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 ( RANGE  SCAN )  OF  'GFST300_X2' ( NON-UNIQUE 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022240" y="4202280"/>
              <a:ext cx="804960" cy="167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H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7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9B32C-4EC4-4410-BE49-4520B722A05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234828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5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결합 인덱스를 구성하는 컬럼의 선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00040" y="1719360"/>
            <a:ext cx="406440" cy="30826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-1605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25360" y="487368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_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14440" y="2276640"/>
            <a:ext cx="385560" cy="21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59920" y="2332080"/>
            <a:ext cx="397440" cy="2173320"/>
            <a:chOff x="259920" y="2332080"/>
            <a:chExt cx="397440" cy="2173320"/>
          </a:xfrm>
        </p:grpSpPr>
        <p:sp>
          <p:nvSpPr>
            <p:cNvPr id="684" name=""/>
            <p:cNvSpPr/>
            <p:nvPr/>
          </p:nvSpPr>
          <p:spPr>
            <a:xfrm>
              <a:off x="325440" y="233208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7360" y="2332080"/>
              <a:ext cx="0" cy="2173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59920" y="4505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" name=""/>
          <p:cNvSpPr/>
          <p:nvPr/>
        </p:nvSpPr>
        <p:spPr>
          <a:xfrm rot="16200000">
            <a:off x="32040" y="1788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3986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2996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T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H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11400" y="1719360"/>
            <a:ext cx="3985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604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310_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67120" y="1730520"/>
            <a:ext cx="841320" cy="311760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49668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3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8073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696160" y="1730520"/>
            <a:ext cx="77004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248320" y="1185840"/>
            <a:ext cx="163440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ST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184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6104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_X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rot="16200000">
            <a:off x="7762320" y="187704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4076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rot="16200000">
            <a:off x="508320" y="1842480"/>
            <a:ext cx="1320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204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00720" y="1719360"/>
            <a:ext cx="411120" cy="31003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620960" y="1200240"/>
            <a:ext cx="18234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XC250_X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19800" y="1730520"/>
            <a:ext cx="843120" cy="307656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04640" y="1185840"/>
            <a:ext cx="16574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GFXC2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ctr">
              <a:lnSpc>
                <a:spcPct val="95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57960" y="189396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0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48956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3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9290160" y="2863800"/>
            <a:ext cx="62712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9290160" y="2980800"/>
            <a:ext cx="620640" cy="722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9172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14720" y="5922720"/>
            <a:ext cx="8591040" cy="679680"/>
          </a:xfrm>
          <a:prstGeom prst="roundRect">
            <a:avLst>
              <a:gd name="adj" fmla="val 12495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100 HD : GFST100_X1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D_DAY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PART_CODE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YT_CODE + SHOP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GFST300 DT : GFST300_X2 :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YT_CODE + SHOP_CODE + </a:t>
            </a:r>
            <a:r>
              <a:rPr b="1" lang="ko-KR" sz="1600" spc="-1" strike="noStrike">
                <a:solidFill>
                  <a:srgbClr val="ff0033"/>
                </a:solidFill>
                <a:latin typeface="Arial"/>
                <a:ea typeface="굴림체"/>
              </a:rPr>
              <a:t>D_DA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 + SPUM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6924600" y="2722680"/>
            <a:ext cx="749520" cy="1355760"/>
            <a:chOff x="6924600" y="2722680"/>
            <a:chExt cx="749520" cy="1355760"/>
          </a:xfrm>
        </p:grpSpPr>
        <p:sp>
          <p:nvSpPr>
            <p:cNvPr id="712" name=""/>
            <p:cNvSpPr/>
            <p:nvPr/>
          </p:nvSpPr>
          <p:spPr>
            <a:xfrm>
              <a:off x="6924600" y="3168720"/>
              <a:ext cx="749520" cy="90972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6924600" y="2722680"/>
              <a:ext cx="736560" cy="1009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8234280" y="2844720"/>
            <a:ext cx="779400" cy="6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8237520" y="3298680"/>
            <a:ext cx="747720" cy="403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8234280" y="3227400"/>
            <a:ext cx="739800" cy="866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8234280" y="2533680"/>
            <a:ext cx="720720" cy="203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8234280" y="4419720"/>
            <a:ext cx="749520" cy="4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27920" y="493380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PU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4964040"/>
            <a:ext cx="19303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TEAM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37040" y="4979880"/>
            <a:ext cx="19303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HOP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+ YT_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97000" y="5894280"/>
            <a:ext cx="18637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8598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1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773000" y="2400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773000" y="2989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773000" y="3778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25680" y="28018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73600" y="1836720"/>
            <a:ext cx="10951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돋움"/>
              </a:rPr>
              <a:t>6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017800" y="2566800"/>
            <a:ext cx="1023840" cy="284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2017800" y="3458880"/>
            <a:ext cx="100152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46160" y="2649600"/>
            <a:ext cx="1052640" cy="31752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417840" y="2592360"/>
            <a:ext cx="75096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417840" y="3471840"/>
            <a:ext cx="708120" cy="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417840" y="2938320"/>
            <a:ext cx="719280" cy="33840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500720" y="2895120"/>
            <a:ext cx="777600" cy="59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500720" y="3313080"/>
            <a:ext cx="793440" cy="433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03960" y="2890800"/>
            <a:ext cx="399960" cy="2095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03960" y="3728880"/>
            <a:ext cx="399960" cy="358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697440" y="27716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697440" y="391320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818480" y="2692440"/>
            <a:ext cx="395280" cy="662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819920" y="4060800"/>
            <a:ext cx="390600" cy="420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7671960" y="2757600"/>
            <a:ext cx="271800" cy="685800"/>
            <a:chOff x="7671960" y="2757600"/>
            <a:chExt cx="271800" cy="685800"/>
          </a:xfrm>
        </p:grpSpPr>
        <p:sp>
          <p:nvSpPr>
            <p:cNvPr id="744" name=""/>
            <p:cNvSpPr/>
            <p:nvPr/>
          </p:nvSpPr>
          <p:spPr>
            <a:xfrm>
              <a:off x="7715160" y="2757600"/>
              <a:ext cx="214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943760" y="2757600"/>
              <a:ext cx="0" cy="68580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671960" y="3443400"/>
              <a:ext cx="2574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7674120" y="4110120"/>
            <a:ext cx="269640" cy="452520"/>
            <a:chOff x="7674120" y="4110120"/>
            <a:chExt cx="269640" cy="452520"/>
          </a:xfrm>
        </p:grpSpPr>
        <p:sp>
          <p:nvSpPr>
            <p:cNvPr id="748" name=""/>
            <p:cNvSpPr/>
            <p:nvPr/>
          </p:nvSpPr>
          <p:spPr>
            <a:xfrm>
              <a:off x="7716960" y="4110120"/>
              <a:ext cx="2127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43760" y="4110120"/>
              <a:ext cx="0" cy="4525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74120" y="4562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5266800" y="2938320"/>
            <a:ext cx="255960" cy="258840"/>
            <a:chOff x="5266800" y="2938320"/>
            <a:chExt cx="255960" cy="258840"/>
          </a:xfrm>
        </p:grpSpPr>
        <p:sp>
          <p:nvSpPr>
            <p:cNvPr id="752" name=""/>
            <p:cNvSpPr/>
            <p:nvPr/>
          </p:nvSpPr>
          <p:spPr>
            <a:xfrm>
              <a:off x="5308560" y="2938320"/>
              <a:ext cx="2001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522760" y="2938320"/>
              <a:ext cx="0" cy="25884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5266800" y="3197160"/>
              <a:ext cx="2415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253120" y="3776760"/>
            <a:ext cx="269640" cy="407880"/>
            <a:chOff x="5253120" y="3776760"/>
            <a:chExt cx="269640" cy="407880"/>
          </a:xfrm>
        </p:grpSpPr>
        <p:sp>
          <p:nvSpPr>
            <p:cNvPr id="756" name=""/>
            <p:cNvSpPr/>
            <p:nvPr/>
          </p:nvSpPr>
          <p:spPr>
            <a:xfrm>
              <a:off x="5297400" y="3776760"/>
              <a:ext cx="2113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22760" y="3776760"/>
              <a:ext cx="0" cy="4078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253120" y="4184640"/>
              <a:ext cx="25560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9037440" y="24620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037440" y="316872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037440" y="43671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72640" y="255600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772640" y="28130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72640" y="34783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225320" y="324792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225320" y="3448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697080" y="3691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697080" y="30812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037080" y="28036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9037080" y="36622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059680" y="28558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5827680" y="2804760"/>
            <a:ext cx="793800" cy="1440360"/>
            <a:chOff x="5827680" y="2804760"/>
            <a:chExt cx="793800" cy="1440360"/>
          </a:xfrm>
        </p:grpSpPr>
        <p:sp>
          <p:nvSpPr>
            <p:cNvPr id="773" name=""/>
            <p:cNvSpPr/>
            <p:nvPr/>
          </p:nvSpPr>
          <p:spPr>
            <a:xfrm flipV="1">
              <a:off x="5827680" y="2804760"/>
              <a:ext cx="719280" cy="104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27680" y="3897360"/>
              <a:ext cx="782640" cy="7920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827680" y="3068640"/>
              <a:ext cx="719280" cy="381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827680" y="3745080"/>
              <a:ext cx="793800" cy="1440"/>
            </a:xfrm>
            <a:prstGeom prst="line">
              <a:avLst/>
            </a:prstGeom>
            <a:ln w="25560">
              <a:solidFill>
                <a:srgbClr val="cc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827680" y="4064040"/>
              <a:ext cx="773280" cy="18108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692760" y="416556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766880" y="44528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43760" y="30751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920880" y="2446200"/>
            <a:ext cx="81900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920880" y="3816360"/>
            <a:ext cx="807840" cy="566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920880" y="3543480"/>
            <a:ext cx="807840" cy="67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20880" y="2297160"/>
            <a:ext cx="777600" cy="538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920880" y="2608200"/>
            <a:ext cx="779400" cy="414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920880" y="2606760"/>
            <a:ext cx="765000" cy="2174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914400" y="4062240"/>
            <a:ext cx="814320" cy="447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021120" y="255276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021120" y="291924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021120" y="3433680"/>
            <a:ext cx="382320" cy="65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7306560" y="1905120"/>
            <a:ext cx="14335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4077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005800" y="1736640"/>
            <a:ext cx="12078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돋움"/>
              </a:rPr>
              <a:t>13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067600" y="3946680"/>
            <a:ext cx="810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7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8622E-AEBC-4B4B-81C2-CD1C0B479A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187280" y="1454040"/>
            <a:ext cx="135288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92520" y="1454040"/>
            <a:ext cx="1305000" cy="224172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839880" y="19047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AAB 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39880" y="21999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AAC  1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39880" y="249516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ABA  2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39880" y="27874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D  ABB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39880" y="3082680"/>
            <a:ext cx="203688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E  ABC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356280" y="19047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10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356280" y="21999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10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6280" y="2495160"/>
            <a:ext cx="1974600" cy="2559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4480" rIns="114480" tIns="0" bIns="0" anchor="ctr">
            <a:spAutoFit/>
          </a:bodyPr>
          <a:p>
            <a:pPr marL="285840" indent="-28584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10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57680" y="31590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505240" y="1898640"/>
            <a:ext cx="46656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27480" y="1879560"/>
            <a:ext cx="46512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487520" y="3754440"/>
            <a:ext cx="7714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971880" y="3735360"/>
            <a:ext cx="73188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78600" y="1824120"/>
            <a:ext cx="3146400" cy="1562040"/>
          </a:xfrm>
          <a:prstGeom prst="rect">
            <a:avLst/>
          </a:prstGeom>
          <a:solidFill>
            <a:srgbClr val="3c002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121440" y="1879560"/>
            <a:ext cx="3052800" cy="29232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A    AAB   111    A    10    A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121440" y="2170080"/>
            <a:ext cx="3052800" cy="306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B    AAC   123    B    10    A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121440" y="2476440"/>
            <a:ext cx="3052800" cy="29520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    ABA   222    C    10    A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121440" y="2782800"/>
            <a:ext cx="3052800" cy="27936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D    ABB   2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121440" y="3073320"/>
            <a:ext cx="3052800" cy="262080"/>
          </a:xfrm>
          <a:prstGeom prst="rect">
            <a:avLst/>
          </a:prstGeom>
          <a:solidFill>
            <a:srgbClr val="dddddd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E    ABC   1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2857680" y="287640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57680" y="2585880"/>
            <a:ext cx="37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849400" y="230184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49400" y="2013120"/>
            <a:ext cx="3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4120" y="2101680"/>
            <a:ext cx="515880" cy="9846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915240" y="3505320"/>
            <a:ext cx="130176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돋움"/>
              </a:rPr>
              <a:t>원하는 결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5943600" y="1521000"/>
            <a:ext cx="3282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KEY   FLD1  FLD2  KEY  COL1  COL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-35280" y="4425840"/>
            <a:ext cx="51573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27DD4-52E2-4ED9-9704-9B517E335A1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900080" y="243000"/>
            <a:ext cx="5162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6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의 정확한 이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26880" y="1098720"/>
            <a:ext cx="20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8440" y="14922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Y.COL1 = 10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5200" y="32670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Y.COL1 = 10  OR  Y.COL1 IS NULL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1040" y="504180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Y.COL1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= 1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108840" y="2157480"/>
            <a:ext cx="268596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108840" y="3726000"/>
            <a:ext cx="3565440" cy="82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순서이므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불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면 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6108840" y="5614920"/>
            <a:ext cx="314640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COL1+KEY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인덱스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KEY+COL1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이라도 사용 가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123640" y="885960"/>
            <a:ext cx="4414320" cy="55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1  X : TAB1_IX : FLD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2  Y : TAB2_IX : COL1 +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174840" y="300996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43160" y="4780080"/>
            <a:ext cx="598680" cy="230040"/>
          </a:xfrm>
          <a:prstGeom prst="downArrow">
            <a:avLst>
              <a:gd name="adj1" fmla="val 50000"/>
              <a:gd name="adj2" fmla="val 33407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FBA63-DF3C-47F6-AC8D-F858A7F9604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28440" y="2717640"/>
            <a:ext cx="7425360" cy="14799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 TAB2 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Y.COL1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IN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10,30,50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744200" y="243000"/>
            <a:ext cx="5474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7.  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4000" y="1027080"/>
            <a:ext cx="9153360" cy="11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1 X : TAB1_IX : FLD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2 Y : TAB2_IX : COL1 +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594320" y="3332160"/>
            <a:ext cx="2457360" cy="566640"/>
          </a:xfrm>
          <a:custGeom>
            <a:avLst/>
            <a:gdLst>
              <a:gd name="textAreaLeft" fmla="*/ 90720 w 2457360"/>
              <a:gd name="textAreaRight" fmla="*/ 2366640 w 2457360"/>
              <a:gd name="textAreaTop" fmla="*/ 20880 h 566640"/>
              <a:gd name="textAreaBottom" fmla="*/ 452520 h 5666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69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ORA-01719 Error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발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4200" y="4824360"/>
            <a:ext cx="7446960" cy="17758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X.KEY, X.FLD1, X.FLD2, Y.KEY, Y.COL1, Y.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X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SELECT  KEY, COL1, COL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TA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WHERE  COL1 IN (10,30,50) ) Y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X.KEY = Y.KEY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X.FLD1 &gt; 'AAA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96720" y="22748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4000" y="230508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4406760"/>
            <a:ext cx="15699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A0FA6-F28B-4ACB-B1AB-18EE1EB66F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-440280" y="2414520"/>
            <a:ext cx="9418680" cy="2485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DESCRIPTION, A.MODEL, A.DESRIPTION, NVL(B.QTY1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QTY2,0), NVL(B.QTY3, 0), NVL(B.QTY4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TPO120 A, STPO096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SA = B.SA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A.PART = B.PART(+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SA =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AR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ETWEEN :VALUE2 AND :VALUE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B.CENTER =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:VALUE4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571760" y="243000"/>
            <a:ext cx="708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8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여러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컬럼을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09600" y="1027080"/>
            <a:ext cx="92124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1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120  A : STPO120_X1 :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SA +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PO096  B : STPO096_X1 : CENTER + SA +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417920" y="4741920"/>
            <a:ext cx="5183280" cy="2010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ATEMENT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NESTED LOOP(OUT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STPO1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(RANGE SCAN) OF 'STPO120_X1' (UNIQ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</a:t>
            </a:r>
            <a:r>
              <a:rPr b="1" lang="ko-KR" sz="14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) OF 'STPO096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08720" y="5356080"/>
            <a:ext cx="4054680" cy="395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CENTER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(+)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=  :VALUE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676680" y="6172200"/>
            <a:ext cx="109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107640" y="5973480"/>
            <a:ext cx="4191840" cy="395640"/>
            <a:chOff x="107640" y="5973480"/>
            <a:chExt cx="4191840" cy="395640"/>
          </a:xfrm>
        </p:grpSpPr>
        <p:sp>
          <p:nvSpPr>
            <p:cNvPr id="850" name=""/>
            <p:cNvSpPr/>
            <p:nvPr/>
          </p:nvSpPr>
          <p:spPr>
            <a:xfrm>
              <a:off x="107640" y="5973480"/>
              <a:ext cx="4191840" cy="395640"/>
            </a:xfrm>
            <a:prstGeom prst="roundRect">
              <a:avLst>
                <a:gd name="adj" fmla="val 124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ALL_ROWS      FIRST_ROW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898640" y="6089760"/>
              <a:ext cx="249120" cy="152280"/>
            </a:xfrm>
            <a:prstGeom prst="rightArrow">
              <a:avLst>
                <a:gd name="adj1" fmla="val 50000"/>
                <a:gd name="adj2" fmla="val 8180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8918280" y="5553000"/>
            <a:ext cx="6771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09600" y="4987800"/>
            <a:ext cx="1973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3E7BD-4097-4EE4-9DC3-0139CEB151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89240" y="3463920"/>
            <a:ext cx="139680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법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017960" y="2127240"/>
            <a:ext cx="150840" cy="1522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3979440" y="4329000"/>
            <a:ext cx="149400" cy="15264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rot="10800000">
            <a:off x="4000680" y="4549680"/>
            <a:ext cx="1358640" cy="843120"/>
          </a:xfrm>
          <a:custGeom>
            <a:avLst/>
            <a:gdLst>
              <a:gd name="textAreaLeft" fmla="*/ 50040 w 1358640"/>
              <a:gd name="textAreaRight" fmla="*/ 1308600 w 1358640"/>
              <a:gd name="textAreaTop" fmla="*/ 30960 h 843120"/>
              <a:gd name="textAreaBottom" fmla="*/ 673560 h 843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44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배타적 관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(EXCLUSI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814920" y="2166840"/>
            <a:ext cx="1906560" cy="2286000"/>
            <a:chOff x="3814920" y="2166840"/>
            <a:chExt cx="1906560" cy="2286000"/>
          </a:xfrm>
        </p:grpSpPr>
        <p:sp>
          <p:nvSpPr>
            <p:cNvPr id="860" name=""/>
            <p:cNvSpPr/>
            <p:nvPr/>
          </p:nvSpPr>
          <p:spPr>
            <a:xfrm>
              <a:off x="4917960" y="231948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14920" y="231948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917960" y="4300560"/>
              <a:ext cx="8035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14920" y="430056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14920" y="2166840"/>
              <a:ext cx="201600" cy="152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814920" y="231948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814920" y="430056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 flipV="1">
              <a:off x="3814920" y="4147920"/>
              <a:ext cx="20160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8" name=""/>
          <p:cNvSpPr/>
          <p:nvPr/>
        </p:nvSpPr>
        <p:spPr>
          <a:xfrm>
            <a:off x="2143080" y="1722600"/>
            <a:ext cx="1666800" cy="3225600"/>
          </a:xfrm>
          <a:custGeom>
            <a:avLst/>
            <a:gdLst>
              <a:gd name="textAreaLeft" fmla="*/ 60840 w 1666800"/>
              <a:gd name="textAreaRight" fmla="*/ 1605960 w 1666800"/>
              <a:gd name="textAreaTop" fmla="*/ 60840 h 3225600"/>
              <a:gd name="textAreaBottom" fmla="*/ 3164760 h 3225600"/>
            </a:gdLst>
            <a:ahLst/>
            <a:rect l="textAreaLeft" t="textAreaTop" r="textAreaRight" b="textAreaBottom"/>
            <a:pathLst>
              <a:path w="21600" h="41796">
                <a:moveTo>
                  <a:pt x="2699" y="0"/>
                </a:moveTo>
                <a:arcTo wR="2699" hR="2699" stAng="16200000" swAng="-5400000"/>
                <a:lnTo>
                  <a:pt x="0" y="39097"/>
                </a:lnTo>
                <a:arcTo wR="2699" hR="2699" stAng="10800000" swAng="-5400000"/>
                <a:lnTo>
                  <a:pt x="18901" y="41796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계좌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비밀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실명확인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해지상태여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상품종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적용금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65000" y="1300320"/>
            <a:ext cx="61164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30840" y="3827520"/>
            <a:ext cx="1914480" cy="2442960"/>
          </a:xfrm>
          <a:custGeom>
            <a:avLst/>
            <a:gdLst>
              <a:gd name="textAreaLeft" fmla="*/ 69840 w 1914480"/>
              <a:gd name="textAreaRight" fmla="*/ 1844640 w 1914480"/>
              <a:gd name="textAreaTop" fmla="*/ 69840 h 2442960"/>
              <a:gd name="textAreaBottom" fmla="*/ 2373120 h 2442960"/>
            </a:gdLst>
            <a:ahLst/>
            <a:rect l="textAreaLeft" t="textAreaTop" r="textAreaRight" b="textAreaBottom"/>
            <a:pathLst>
              <a:path w="21600" h="27561">
                <a:moveTo>
                  <a:pt x="2699" y="0"/>
                </a:moveTo>
                <a:arcTo wR="2699" hR="2699" stAng="16200000" swAng="-5400000"/>
                <a:lnTo>
                  <a:pt x="0" y="24862"/>
                </a:lnTo>
                <a:arcTo wR="2699" hR="2699" stAng="10800000" swAng="-5400000"/>
                <a:lnTo>
                  <a:pt x="18901" y="27561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법인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사업자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재무상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매출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738760" y="1579680"/>
            <a:ext cx="1668600" cy="1685880"/>
          </a:xfrm>
          <a:custGeom>
            <a:avLst/>
            <a:gdLst>
              <a:gd name="textAreaLeft" fmla="*/ 60840 w 1668600"/>
              <a:gd name="textAreaRight" fmla="*/ 1607760 w 1668600"/>
              <a:gd name="textAreaTop" fmla="*/ 60840 h 1685880"/>
              <a:gd name="textAreaBottom" fmla="*/ 1625040 h 1685880"/>
            </a:gdLst>
            <a:ahLst/>
            <a:rect l="textAreaLeft" t="textAreaTop" r="textAreaRight" b="textAreaBottom"/>
            <a:pathLst>
              <a:path w="21600" h="21824">
                <a:moveTo>
                  <a:pt x="2699" y="0"/>
                </a:moveTo>
                <a:arcTo wR="2699" hR="2699" stAng="16200000" swAng="-5400000"/>
                <a:lnTo>
                  <a:pt x="0" y="19125"/>
                </a:lnTo>
                <a:arcTo wR="2699" hR="2699" stAng="10800000" swAng="-5400000"/>
                <a:lnTo>
                  <a:pt x="18901" y="21824"/>
                </a:lnTo>
                <a:arcTo wR="2699" hR="2699" stAng="5400000" swAng="-5400000"/>
                <a:lnTo>
                  <a:pt x="21600" y="2699"/>
                </a:lnTo>
                <a:arcTo wR="2699" hR="2699" stAng="0" swAng="-5400000"/>
                <a:close/>
              </a:path>
            </a:pathLst>
          </a:cu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no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# *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고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성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   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주민등록번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074640" y="1231920"/>
            <a:ext cx="82512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400" spc="-1" strike="noStrike">
                <a:solidFill>
                  <a:srgbClr val="800000"/>
                </a:solidFill>
                <a:latin typeface="Arial"/>
                <a:ea typeface="돋움"/>
              </a:rPr>
              <a:t>개인고객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2319480"/>
            <a:ext cx="0" cy="198108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726000" y="211140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08360" y="4083120"/>
            <a:ext cx="895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Arial"/>
                <a:ea typeface="돋움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58F5-E391-45F5-9437-624A8A1D8D1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20560" y="5703840"/>
            <a:ext cx="914256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4440" y="1542960"/>
            <a:ext cx="4510080" cy="443160"/>
          </a:xfrm>
          <a:prstGeom prst="rect">
            <a:avLst/>
          </a:prstGeom>
          <a:solidFill>
            <a:srgbClr val="69f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전  체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51520" y="1531800"/>
            <a:ext cx="4618080" cy="44316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c0023"/>
                </a:solidFill>
                <a:latin typeface="Arial"/>
                <a:ea typeface="돋움"/>
              </a:rPr>
              <a:t>부  분  범  위  처  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120" y="1547640"/>
            <a:ext cx="9131400" cy="4854600"/>
          </a:xfrm>
          <a:prstGeom prst="rect">
            <a:avLst/>
          </a:prstGeom>
          <a:noFill/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8200" y="1984320"/>
            <a:ext cx="9110520" cy="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01920" y="2651040"/>
            <a:ext cx="546120" cy="221796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2725560"/>
            <a:ext cx="59364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200" y="318924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42840" y="340200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19360" y="2695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19360" y="28656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19360" y="30686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19360" y="327168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19360" y="345600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19360" y="36734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19360" y="387504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19360" y="404352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9360" y="44481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19360" y="4635360"/>
            <a:ext cx="6174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19360" y="481176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65320" y="3132000"/>
            <a:ext cx="6336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65320" y="292752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5320" y="27432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65320" y="4060800"/>
            <a:ext cx="6177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65320" y="447840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65320" y="4818240"/>
            <a:ext cx="61920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964240" y="4037040"/>
            <a:ext cx="329400" cy="506520"/>
            <a:chOff x="2964240" y="4037040"/>
            <a:chExt cx="329400" cy="506520"/>
          </a:xfrm>
        </p:grpSpPr>
        <p:sp>
          <p:nvSpPr>
            <p:cNvPr id="128" name=""/>
            <p:cNvSpPr/>
            <p:nvPr/>
          </p:nvSpPr>
          <p:spPr>
            <a:xfrm>
              <a:off x="2964240" y="403704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64240" y="4176720"/>
              <a:ext cx="329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cc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cc99"/>
                  </a:solidFill>
                  <a:latin typeface="Arial"/>
                  <a:ea typeface="돋움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300560" y="2768760"/>
            <a:ext cx="6192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99120" y="2924280"/>
            <a:ext cx="6188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07040" y="312120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19160" y="2416320"/>
            <a:ext cx="625320" cy="279396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880" y="27273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42040" y="402264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2040" y="4165560"/>
            <a:ext cx="3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cc99"/>
                </a:solidFill>
                <a:latin typeface="Arial"/>
                <a:ea typeface="돋움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880" y="2708280"/>
            <a:ext cx="607680" cy="210816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6360" y="32050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7080" y="2727360"/>
            <a:ext cx="0" cy="205884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65320" y="3279600"/>
            <a:ext cx="606600" cy="44640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5880" y="3317760"/>
            <a:ext cx="62208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50160" y="2627280"/>
            <a:ext cx="509400" cy="924120"/>
          </a:xfrm>
          <a:prstGeom prst="rect">
            <a:avLst/>
          </a:prstGeom>
          <a:solidFill>
            <a:srgbClr val="dfdcd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07280" y="2701800"/>
            <a:ext cx="588960" cy="63360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10800000"/>
          </a:gra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41600" y="26146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92880" y="3378240"/>
            <a:ext cx="611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80202"/>
                </a:solidFill>
                <a:latin typeface="Arial"/>
                <a:ea typeface="돋움"/>
              </a:rPr>
              <a:t>운반단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65800" y="2671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65800" y="28414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65800" y="304488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65800" y="324792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265800" y="3432240"/>
            <a:ext cx="61596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12120" y="3106800"/>
            <a:ext cx="631800" cy="144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12120" y="290340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12120" y="2719440"/>
            <a:ext cx="620640" cy="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850240" y="2744640"/>
            <a:ext cx="6177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848800" y="2900520"/>
            <a:ext cx="61596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854920" y="3097080"/>
            <a:ext cx="62100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5600" y="2392200"/>
            <a:ext cx="627120" cy="2794320"/>
          </a:xfrm>
          <a:prstGeom prst="rect">
            <a:avLst/>
          </a:prstGeom>
          <a:gradFill rotWithShape="0">
            <a:gsLst>
              <a:gs pos="0">
                <a:srgbClr val="4b4b4b"/>
              </a:gs>
              <a:gs pos="50000">
                <a:srgbClr val="ffffff"/>
              </a:gs>
              <a:gs pos="100000">
                <a:srgbClr val="4b4b4b"/>
              </a:gs>
            </a:gsLst>
            <a:lin ang="10800000"/>
          </a:gradFill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4800" y="2684520"/>
            <a:ext cx="628560" cy="826920"/>
          </a:xfrm>
          <a:prstGeom prst="rect">
            <a:avLst/>
          </a:prstGeom>
          <a:solidFill>
            <a:srgbClr val="dddddd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5120" y="2654280"/>
            <a:ext cx="334440" cy="9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 </a:t>
            </a: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5531ae"/>
                </a:solidFill>
                <a:latin typeface="Arial"/>
                <a:ea typeface="돋움"/>
              </a:rPr>
              <a:t>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45320" y="2703600"/>
            <a:ext cx="0" cy="833400"/>
          </a:xfrm>
          <a:prstGeom prst="line">
            <a:avLst/>
          </a:prstGeom>
          <a:ln w="507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534440" y="3255840"/>
            <a:ext cx="587160" cy="193680"/>
          </a:xfrm>
          <a:prstGeom prst="line">
            <a:avLst/>
          </a:prstGeom>
          <a:ln w="12600">
            <a:solidFill>
              <a:srgbClr val="00cc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844120" y="3294000"/>
            <a:ext cx="620640" cy="0"/>
          </a:xfrm>
          <a:prstGeom prst="line">
            <a:avLst/>
          </a:prstGeom>
          <a:ln w="12600">
            <a:solidFill>
              <a:srgbClr val="5531ae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48320" y="4859280"/>
            <a:ext cx="654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35680" y="1550880"/>
            <a:ext cx="0" cy="4864320"/>
          </a:xfrm>
          <a:prstGeom prst="line">
            <a:avLst/>
          </a:prstGeom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87400" y="5783400"/>
            <a:ext cx="40957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Full Range Scan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후 가공하여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만큼 추출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094360" y="2712960"/>
            <a:ext cx="438120" cy="0"/>
          </a:xfrm>
          <a:prstGeom prst="line">
            <a:avLst/>
          </a:prstGeom>
          <a:ln w="25560">
            <a:solidFill>
              <a:srgbClr val="5531a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2680" y="1085400"/>
            <a:ext cx="971208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buClr>
                <a:srgbClr val="ff00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조건을 만족하는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Row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수가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Array Size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</a:rPr>
              <a:t>에 도달되면 멈춤</a:t>
            </a:r>
            <a:endParaRPr b="1" lang="en-US" sz="1800" spc="-1" strike="noStrike">
              <a:solidFill>
                <a:srgbClr val="000000"/>
              </a:solidFill>
              <a:latin typeface="굴림체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B2C67-FDC6-4243-A820-1EC67D88D3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6" name=""/>
          <p:cNvGraphicFramePr/>
          <p:nvPr/>
        </p:nvGraphicFramePr>
        <p:xfrm>
          <a:off x="1217520" y="4102200"/>
          <a:ext cx="8586720" cy="271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7520" y="4102200"/>
                    <a:ext cx="858672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8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36280" y="982800"/>
            <a:ext cx="2983320" cy="291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개설지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비밀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실명확인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해지상태여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상품종류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적용금리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*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고객종류 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&lt;- 1 o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890880" y="1262160"/>
            <a:ext cx="22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E688-3820-4287-9749-AAD00FA4BBC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2058120" y="243000"/>
            <a:ext cx="672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47760" y="104292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763280" y="11923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63280" y="288756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(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OR A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58600" y="5103720"/>
            <a:ext cx="5517360" cy="15757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7760" y="470700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108840" y="1935000"/>
            <a:ext cx="220968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No Rows Sel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184800" y="3652920"/>
            <a:ext cx="2210040" cy="5792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(A=B)*C + (A=C)*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A4B49-5381-4EEB-A040-715999B50B1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455480" y="24120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19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배타적 관계 모델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 활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004040" y="4576680"/>
            <a:ext cx="5540400" cy="1890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명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계좌정보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,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법인고객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LIKE  '199503%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개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B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ND   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법인고객번호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=  C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개설일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1" name=""/>
          <p:cNvGrpSpPr/>
          <p:nvPr/>
        </p:nvGrpSpPr>
        <p:grpSpPr>
          <a:xfrm>
            <a:off x="1991520" y="1063800"/>
            <a:ext cx="2406960" cy="2939760"/>
            <a:chOff x="1991520" y="1063800"/>
            <a:chExt cx="2406960" cy="2939760"/>
          </a:xfrm>
        </p:grpSpPr>
        <p:sp>
          <p:nvSpPr>
            <p:cNvPr id="892" name=""/>
            <p:cNvSpPr/>
            <p:nvPr/>
          </p:nvSpPr>
          <p:spPr>
            <a:xfrm>
              <a:off x="1991520" y="1063800"/>
              <a:ext cx="2406960" cy="2939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ctr">
              <a:spAutoFit/>
            </a:bodyPr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정보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계좌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일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개설지점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비밀번호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실명확인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해지상태여부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상품종류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적용금리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개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400" spc="-1" strike="noStrike">
                  <a:solidFill>
                    <a:srgbClr val="ff3300"/>
                  </a:solidFill>
                  <a:latin typeface="굴림체"/>
                  <a:ea typeface="굴림체"/>
                </a:rPr>
                <a:t>법인고객번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295360" y="1352520"/>
              <a:ext cx="1785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347760" y="11811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63600" y="4111560"/>
            <a:ext cx="31273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5769-B712-4D4F-9C94-85D13689C95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561960" y="1592280"/>
            <a:ext cx="5531040" cy="2710440"/>
          </a:xfrm>
          <a:prstGeom prst="roundRect">
            <a:avLst>
              <a:gd name="adj" fmla="val 939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COL1,  A.COL2,  B.COL3,  B.COL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  A.COL5  =  'AAA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BBBB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CCCC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OR  A.COL5  =  'DDDD'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45960" y="1106640"/>
            <a:ext cx="15033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20760" y="4833360"/>
            <a:ext cx="6691320" cy="1253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각각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위로 낱개의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Q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로 분리한뒤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NION A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을 사용하여 모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070600" y="2371680"/>
            <a:ext cx="4417920" cy="2526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FULL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: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BY ROWID :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05600" y="3606840"/>
            <a:ext cx="67716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9FB7-5182-4935-931C-3CFE2DC2629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604800" y="985680"/>
            <a:ext cx="3510000" cy="4221360"/>
          </a:xfrm>
          <a:custGeom>
            <a:avLst/>
            <a:gdLst>
              <a:gd name="textAreaLeft" fmla="*/ 93960 w 3510000"/>
              <a:gd name="textAreaRight" fmla="*/ 3416040 w 3510000"/>
              <a:gd name="textAreaTop" fmla="*/ 93960 h 4221360"/>
              <a:gd name="textAreaBottom" fmla="*/ 4127400 h 4221360"/>
            </a:gdLst>
            <a:ahLst/>
            <a:rect l="textAreaLeft" t="textAreaTop" r="textAreaRight" b="textAreaBottom"/>
            <a:pathLst>
              <a:path w="21600" h="25977">
                <a:moveTo>
                  <a:pt x="1975" y="0"/>
                </a:moveTo>
                <a:arcTo wR="1975" hR="1975" stAng="16200000" swAng="-5400000"/>
                <a:lnTo>
                  <a:pt x="0" y="24002"/>
                </a:lnTo>
                <a:arcTo wR="1975" hR="1975" stAng="10800000" swAng="-5400000"/>
                <a:lnTo>
                  <a:pt x="19625" y="25977"/>
                </a:lnTo>
                <a:arcTo wR="1975" hR="1975" stAng="5400000" swAng="-5400000"/>
                <a:lnTo>
                  <a:pt x="21600" y="1975"/>
                </a:lnTo>
                <a:arcTo wR="1975" hR="1975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0033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USE_CON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COL1,  A.COL2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COL3,  B.COL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1  A,  TAB2 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PK1  =  B.PK1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PK2  =  B.PK2 (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( A.COL5  =  'AAA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BBBB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CCC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 A.COL5  =  'DDDD' )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829880" y="243000"/>
            <a:ext cx="6291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0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와 같이 사용하는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46560" y="1008000"/>
            <a:ext cx="5226120" cy="7534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EXECUTE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STAT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CONCATE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NESTED  LOOPS 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 RANGE_SCAN  OF  TAB1_COL5_ID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BY  ROWID  TA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NDEX UNIQUE SCAN :TAB2_PK1+PK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712000" y="2125800"/>
            <a:ext cx="67716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462240" y="1204920"/>
            <a:ext cx="14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방안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748B-0599-4013-B456-BFA46A80DBE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"/>
          <p:cNvGrpSpPr/>
          <p:nvPr/>
        </p:nvGrpSpPr>
        <p:grpSpPr>
          <a:xfrm>
            <a:off x="4344840" y="1811160"/>
            <a:ext cx="1298880" cy="185760"/>
            <a:chOff x="4344840" y="1811160"/>
            <a:chExt cx="1298880" cy="185760"/>
          </a:xfrm>
        </p:grpSpPr>
        <p:sp>
          <p:nvSpPr>
            <p:cNvPr id="908" name=""/>
            <p:cNvSpPr/>
            <p:nvPr/>
          </p:nvSpPr>
          <p:spPr>
            <a:xfrm>
              <a:off x="4344840" y="190512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4987800" y="1901520"/>
              <a:ext cx="6559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468760" y="1811160"/>
              <a:ext cx="14004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394240" y="181116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2750760" y="5095800"/>
            <a:ext cx="4558680" cy="1538280"/>
            <a:chOff x="2750760" y="5095800"/>
            <a:chExt cx="4558680" cy="1538280"/>
          </a:xfrm>
        </p:grpSpPr>
        <p:sp>
          <p:nvSpPr>
            <p:cNvPr id="913" name=""/>
            <p:cNvSpPr/>
            <p:nvPr/>
          </p:nvSpPr>
          <p:spPr>
            <a:xfrm>
              <a:off x="2750760" y="509580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097080" y="540072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4464000" y="4627440"/>
            <a:ext cx="996840" cy="320760"/>
          </a:xfrm>
          <a:prstGeom prst="downArrow">
            <a:avLst>
              <a:gd name="adj1" fmla="val 50000"/>
              <a:gd name="adj2" fmla="val 50005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2244600" y="1059120"/>
            <a:ext cx="2111400" cy="1594800"/>
            <a:chOff x="2244600" y="1059120"/>
            <a:chExt cx="2111400" cy="1594800"/>
          </a:xfrm>
        </p:grpSpPr>
        <p:sp>
          <p:nvSpPr>
            <p:cNvPr id="918" name=""/>
            <p:cNvSpPr/>
            <p:nvPr/>
          </p:nvSpPr>
          <p:spPr>
            <a:xfrm>
              <a:off x="2260800" y="1059120"/>
              <a:ext cx="2088360" cy="15948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SENSOR_RE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READING_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244600" y="1503360"/>
              <a:ext cx="211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5369400" y="1058760"/>
            <a:ext cx="3111120" cy="1552320"/>
            <a:chOff x="5369400" y="1058760"/>
            <a:chExt cx="3111120" cy="1552320"/>
          </a:xfrm>
        </p:grpSpPr>
        <p:sp>
          <p:nvSpPr>
            <p:cNvPr id="921" name=""/>
            <p:cNvSpPr/>
            <p:nvPr/>
          </p:nvSpPr>
          <p:spPr>
            <a:xfrm>
              <a:off x="5369400" y="1058760"/>
              <a:ext cx="3111120" cy="15523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8160" bIns="38160" anchor="ctr">
              <a:spAutoFit/>
            </a:bodyPr>
            <a:p>
              <a:pPr>
                <a:lnSpc>
                  <a:spcPct val="16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NSOR_READING_REVIS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ADING_ID ( FK 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 REVISION_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592600" y="1503360"/>
              <a:ext cx="2640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287640" y="1204920"/>
            <a:ext cx="121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2680" y="50166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원하는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77200" y="3065400"/>
            <a:ext cx="135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4319640" y="3728880"/>
            <a:ext cx="1298520" cy="185760"/>
            <a:chOff x="4319640" y="3728880"/>
            <a:chExt cx="1298520" cy="185760"/>
          </a:xfrm>
        </p:grpSpPr>
        <p:sp>
          <p:nvSpPr>
            <p:cNvPr id="927" name=""/>
            <p:cNvSpPr/>
            <p:nvPr/>
          </p:nvSpPr>
          <p:spPr>
            <a:xfrm>
              <a:off x="4319640" y="3822840"/>
              <a:ext cx="720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962600" y="3819240"/>
              <a:ext cx="65556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443560" y="3728880"/>
              <a:ext cx="139680" cy="185760"/>
            </a:xfrm>
            <a:custGeom>
              <a:avLst/>
              <a:gdLst/>
              <a:ahLst/>
              <a:rect l="l" t="t" r="r" b="b"/>
              <a:pathLst>
                <a:path w="88" h="117">
                  <a:moveTo>
                    <a:pt x="87" y="0"/>
                  </a:moveTo>
                  <a:lnTo>
                    <a:pt x="0" y="58"/>
                  </a:lnTo>
                  <a:lnTo>
                    <a:pt x="87" y="1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369040" y="3728880"/>
              <a:ext cx="0" cy="17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1862640" y="2908440"/>
            <a:ext cx="2851920" cy="1538280"/>
            <a:chOff x="1862640" y="2908440"/>
            <a:chExt cx="2851920" cy="1538280"/>
          </a:xfrm>
        </p:grpSpPr>
        <p:sp>
          <p:nvSpPr>
            <p:cNvPr id="932" name=""/>
            <p:cNvSpPr/>
            <p:nvPr/>
          </p:nvSpPr>
          <p:spPr>
            <a:xfrm>
              <a:off x="1862640" y="2908440"/>
              <a:ext cx="2851920" cy="153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1   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060502   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960503   2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082960" y="3224160"/>
              <a:ext cx="241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253120" y="2881440"/>
            <a:ext cx="4239000" cy="1751400"/>
            <a:chOff x="5253120" y="2881440"/>
            <a:chExt cx="4239000" cy="1751400"/>
          </a:xfrm>
        </p:grpSpPr>
        <p:sp>
          <p:nvSpPr>
            <p:cNvPr id="935" name=""/>
            <p:cNvSpPr/>
            <p:nvPr/>
          </p:nvSpPr>
          <p:spPr>
            <a:xfrm>
              <a:off x="5253120" y="2881440"/>
              <a:ext cx="4239000" cy="175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REVISION_NO   DATE   VALU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1       960504   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0           2       960506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     3       960510   10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     1       960509   1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03           1       960503   2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     2       960508   2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575320" y="3182760"/>
              <a:ext cx="359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E1F5-41E9-4FC6-9ED8-1EE6DFEF902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-410400" y="1506600"/>
            <a:ext cx="8769240" cy="2274840"/>
          </a:xfrm>
          <a:prstGeom prst="roundRect">
            <a:avLst>
              <a:gd name="adj" fmla="val 6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(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50920" y="1027080"/>
            <a:ext cx="237816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544040" y="4359240"/>
            <a:ext cx="4558680" cy="1538280"/>
            <a:chOff x="1544040" y="4359240"/>
            <a:chExt cx="4558680" cy="1538280"/>
          </a:xfrm>
        </p:grpSpPr>
        <p:sp>
          <p:nvSpPr>
            <p:cNvPr id="941" name=""/>
            <p:cNvSpPr/>
            <p:nvPr/>
          </p:nvSpPr>
          <p:spPr>
            <a:xfrm>
              <a:off x="1544040" y="4359240"/>
              <a:ext cx="4558680" cy="153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890720" y="4664160"/>
              <a:ext cx="385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5213520" y="5079960"/>
            <a:ext cx="801360" cy="609480"/>
            <a:chOff x="5213520" y="5079960"/>
            <a:chExt cx="801360" cy="609480"/>
          </a:xfrm>
        </p:grpSpPr>
        <p:sp>
          <p:nvSpPr>
            <p:cNvPr id="944" name=""/>
            <p:cNvSpPr/>
            <p:nvPr/>
          </p:nvSpPr>
          <p:spPr>
            <a:xfrm>
              <a:off x="5213520" y="507996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213520" y="5689440"/>
              <a:ext cx="801360" cy="0"/>
            </a:xfrm>
            <a:prstGeom prst="line">
              <a:avLst/>
            </a:prstGeom>
            <a:ln w="25560">
              <a:solidFill>
                <a:srgbClr val="330099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5955480" y="492444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968440" y="552132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81640" y="5172120"/>
            <a:ext cx="268632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7FEF-A07B-469B-A6B0-114F8FB2EC8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-360000" y="1473120"/>
            <a:ext cx="9210240" cy="2578680"/>
          </a:xfrm>
          <a:prstGeom prst="roundRect">
            <a:avLst>
              <a:gd name="adj" fmla="val 724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NVL(B.DATE, A.DAT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B.VALUE, A.VALUE),  NVL(B.REVISION_NO,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SENSOR_READING_REVISION 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READING_ID  =  B.READING_ID 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B.READING_ID  ||  B.REVISION_NO IS NULL 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B.READING_ID  ||  B.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 (SELECT  READING_ID  ||  MAX ( REVISION_NO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_REVI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READING_ID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4492800" y="4057560"/>
            <a:ext cx="5514840" cy="2965320"/>
            <a:chOff x="4492800" y="4057560"/>
            <a:chExt cx="5514840" cy="2965320"/>
          </a:xfrm>
        </p:grpSpPr>
        <p:sp>
          <p:nvSpPr>
            <p:cNvPr id="952" name=""/>
            <p:cNvSpPr/>
            <p:nvPr/>
          </p:nvSpPr>
          <p:spPr>
            <a:xfrm>
              <a:off x="4492800" y="4057560"/>
              <a:ext cx="5514840" cy="2965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EXECUTION PL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--------------------------------------------------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ELEC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MERGE JOIN OU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 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JO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FIL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SORT GROUP B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FULL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: SENSOR_READING_RE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9292680" y="5045040"/>
              <a:ext cx="580680" cy="85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0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312840" y="105084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642960" y="4486320"/>
            <a:ext cx="3782880" cy="2923560"/>
            <a:chOff x="642960" y="4486320"/>
            <a:chExt cx="3782880" cy="2923560"/>
          </a:xfrm>
        </p:grpSpPr>
        <p:sp>
          <p:nvSpPr>
            <p:cNvPr id="956" name=""/>
            <p:cNvSpPr/>
            <p:nvPr/>
          </p:nvSpPr>
          <p:spPr>
            <a:xfrm>
              <a:off x="647640" y="4486320"/>
              <a:ext cx="377208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42960" y="4791240"/>
              <a:ext cx="3782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A2B8-3DB9-4687-AADB-B32F4392045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671400" y="1636560"/>
            <a:ext cx="8909280" cy="4243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READING_ID,  NVL ( B.DATE, A.DATE 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 ( B.VALUE, A.VALUE ),  NVL ( B.REVISION_NO , 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SENSOR_READING  A,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b1.READING_ID, B2.REVISION_NO, B1.DATE, b1.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1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SELECT  READING_ID, MAX(REVISION_NO) AS REVISION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SENSOR_READING_REVISION b2 GROUP BY READING_ID) 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 B1.READING_ID  = B2.READING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   B1.REVISION_NO = B2.REVISION_NO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)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.READING_ID  =  B.READING_ID(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READING_ID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829880" y="243000"/>
            <a:ext cx="6704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1.  NU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잘못된 사용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OUTE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2882880" y="5102280"/>
            <a:ext cx="3797280" cy="2923560"/>
            <a:chOff x="2882880" y="5102280"/>
            <a:chExt cx="3797280" cy="2923560"/>
          </a:xfrm>
        </p:grpSpPr>
        <p:sp>
          <p:nvSpPr>
            <p:cNvPr id="961" name=""/>
            <p:cNvSpPr/>
            <p:nvPr/>
          </p:nvSpPr>
          <p:spPr>
            <a:xfrm>
              <a:off x="2887560" y="5102280"/>
              <a:ext cx="3786120" cy="292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76320" bIns="763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READING_ID   DATE   VALUE   REVISION_NO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0      960510   108        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1      960502   11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2      960509   110        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103      960508   212     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  </a:t>
              </a:r>
              <a:r>
                <a:rPr b="1" lang="ko-KR" sz="14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04      960504   150     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882880" y="5407200"/>
              <a:ext cx="379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"/>
          <p:cNvSpPr/>
          <p:nvPr/>
        </p:nvSpPr>
        <p:spPr>
          <a:xfrm>
            <a:off x="312840" y="1179360"/>
            <a:ext cx="237780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117D2-25A4-4BE3-BF8D-8D435A75396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"/>
          <p:cNvGrpSpPr/>
          <p:nvPr/>
        </p:nvGrpSpPr>
        <p:grpSpPr>
          <a:xfrm>
            <a:off x="8155080" y="3060360"/>
            <a:ext cx="239760" cy="925920"/>
            <a:chOff x="8155080" y="3060360"/>
            <a:chExt cx="239760" cy="925920"/>
          </a:xfrm>
        </p:grpSpPr>
        <p:sp>
          <p:nvSpPr>
            <p:cNvPr id="965" name=""/>
            <p:cNvSpPr/>
            <p:nvPr/>
          </p:nvSpPr>
          <p:spPr>
            <a:xfrm>
              <a:off x="8280360" y="3519360"/>
              <a:ext cx="0" cy="45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55080" y="3828960"/>
              <a:ext cx="239760" cy="15732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98"/>
                  </a:moveTo>
                  <a:lnTo>
                    <a:pt x="76" y="0"/>
                  </a:lnTo>
                  <a:lnTo>
                    <a:pt x="150" y="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8280360" y="3060360"/>
              <a:ext cx="0" cy="4539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6039000" y="4675320"/>
            <a:ext cx="1358640" cy="222120"/>
            <a:chOff x="6039000" y="4675320"/>
            <a:chExt cx="1358640" cy="222120"/>
          </a:xfrm>
        </p:grpSpPr>
        <p:sp>
          <p:nvSpPr>
            <p:cNvPr id="970" name=""/>
            <p:cNvSpPr/>
            <p:nvPr/>
          </p:nvSpPr>
          <p:spPr>
            <a:xfrm>
              <a:off x="6713640" y="4776840"/>
              <a:ext cx="67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165800" y="4675320"/>
              <a:ext cx="23184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45" y="139"/>
                  </a:moveTo>
                  <a:lnTo>
                    <a:pt x="0" y="67"/>
                  </a:lnTo>
                  <a:lnTo>
                    <a:pt x="13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039000" y="4776840"/>
              <a:ext cx="658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3" name=""/>
          <p:cNvGrpSpPr/>
          <p:nvPr/>
        </p:nvGrpSpPr>
        <p:grpSpPr>
          <a:xfrm>
            <a:off x="2879640" y="3648240"/>
            <a:ext cx="1230480" cy="201600"/>
            <a:chOff x="2879640" y="3648240"/>
            <a:chExt cx="1230480" cy="201600"/>
          </a:xfrm>
        </p:grpSpPr>
        <p:sp>
          <p:nvSpPr>
            <p:cNvPr id="974" name=""/>
            <p:cNvSpPr/>
            <p:nvPr/>
          </p:nvSpPr>
          <p:spPr>
            <a:xfrm flipH="1">
              <a:off x="2890440" y="3741840"/>
              <a:ext cx="60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879640" y="364824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126"/>
                  </a:moveTo>
                  <a:lnTo>
                    <a:pt x="132" y="61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511440" y="3741840"/>
              <a:ext cx="598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8235000" y="4106880"/>
            <a:ext cx="307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6135840" y="2681280"/>
            <a:ext cx="1357200" cy="222120"/>
            <a:chOff x="6135840" y="2681280"/>
            <a:chExt cx="1357200" cy="222120"/>
          </a:xfrm>
        </p:grpSpPr>
        <p:sp>
          <p:nvSpPr>
            <p:cNvPr id="979" name=""/>
            <p:cNvSpPr/>
            <p:nvPr/>
          </p:nvSpPr>
          <p:spPr>
            <a:xfrm flipH="1">
              <a:off x="6145200" y="2784600"/>
              <a:ext cx="67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135840" y="2681280"/>
              <a:ext cx="231480" cy="2221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0" y="139"/>
                  </a:moveTo>
                  <a:lnTo>
                    <a:pt x="145" y="68"/>
                  </a:lnTo>
                  <a:lnTo>
                    <a:pt x="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831000" y="27846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7345440" y="3983040"/>
            <a:ext cx="1827000" cy="27226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7334280" y="4489200"/>
            <a:ext cx="1846080" cy="6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302600" y="1079640"/>
            <a:ext cx="1869840" cy="209520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이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민등록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정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319880" y="1600200"/>
            <a:ext cx="1851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4059360" y="2362320"/>
            <a:ext cx="2090520" cy="293832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76640" y="2979720"/>
            <a:ext cx="20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033560" y="2394000"/>
            <a:ext cx="1869840" cy="32943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114480" bIns="11448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# 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예정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소요비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047600" y="3049560"/>
            <a:ext cx="183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7C32-AEBD-4ECF-9F3A-FFFFEC5B9E5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76920" y="3135240"/>
            <a:ext cx="35546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주 범위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Driv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09920" y="3135240"/>
            <a:ext cx="328500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부 범위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(Checking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넓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5531ae"/>
                </a:solidFill>
                <a:latin typeface="굴림체"/>
                <a:ea typeface="굴림체"/>
              </a:rPr>
              <a:t>좁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565440" y="3048120"/>
            <a:ext cx="3002040" cy="2422440"/>
            <a:chOff x="3565440" y="3048120"/>
            <a:chExt cx="3002040" cy="2422440"/>
          </a:xfrm>
        </p:grpSpPr>
        <p:sp>
          <p:nvSpPr>
            <p:cNvPr id="172" name=""/>
            <p:cNvSpPr/>
            <p:nvPr/>
          </p:nvSpPr>
          <p:spPr>
            <a:xfrm>
              <a:off x="356544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67480" y="3048120"/>
              <a:ext cx="0" cy="242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6632280" y="3135240"/>
            <a:ext cx="1149840" cy="23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돋움"/>
              </a:rPr>
              <a:t>성 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돋움"/>
              </a:rPr>
              <a:t>불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Arial"/>
                <a:ea typeface="돋움"/>
              </a:rPr>
              <a:t>양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6560" y="3054240"/>
            <a:ext cx="7012080" cy="24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30080" y="3594240"/>
            <a:ext cx="7024680" cy="1385640"/>
            <a:chOff x="730080" y="3594240"/>
            <a:chExt cx="7024680" cy="1385640"/>
          </a:xfrm>
        </p:grpSpPr>
        <p:sp>
          <p:nvSpPr>
            <p:cNvPr id="177" name=""/>
            <p:cNvSpPr/>
            <p:nvPr/>
          </p:nvSpPr>
          <p:spPr>
            <a:xfrm>
              <a:off x="730080" y="3594240"/>
              <a:ext cx="70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730080" y="4030560"/>
              <a:ext cx="7010640" cy="949320"/>
              <a:chOff x="730080" y="4030560"/>
              <a:chExt cx="7010640" cy="949320"/>
            </a:xfrm>
          </p:grpSpPr>
          <p:sp>
            <p:nvSpPr>
              <p:cNvPr id="179" name=""/>
              <p:cNvSpPr/>
              <p:nvPr/>
            </p:nvSpPr>
            <p:spPr>
              <a:xfrm>
                <a:off x="730080" y="403056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0080" y="450540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0080" y="4979880"/>
                <a:ext cx="701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7655040" y="3487680"/>
            <a:ext cx="1652400" cy="760320"/>
          </a:xfrm>
          <a:custGeom>
            <a:avLst/>
            <a:gdLst>
              <a:gd name="textAreaLeft" fmla="*/ 61200 w 1652400"/>
              <a:gd name="textAreaRight" fmla="*/ 1591200 w 1652400"/>
              <a:gd name="textAreaTop" fmla="*/ 28080 h 760320"/>
              <a:gd name="textAreaBottom" fmla="*/ 607320 h 7603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0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주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/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부 조건의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변경 가능  </a:t>
            </a:r>
            <a:r>
              <a:rPr b="1" lang="ko-KR" sz="1600" spc="-1" strike="noStrike">
                <a:solidFill>
                  <a:srgbClr val="cc0000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9920" y="1209600"/>
            <a:ext cx="239112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부분범위 처리의 성능 결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22200" y="2104920"/>
            <a:ext cx="2259360" cy="968400"/>
          </a:xfrm>
          <a:custGeom>
            <a:avLst/>
            <a:gdLst>
              <a:gd name="textAreaLeft" fmla="*/ 83520 w 2259360"/>
              <a:gd name="textAreaRight" fmla="*/ 2175840 w 2259360"/>
              <a:gd name="textAreaTop" fmla="*/ 35640 h 968400"/>
              <a:gd name="textAreaBottom" fmla="*/ 773640 h 9684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사용 된 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INDEX</a:t>
            </a: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Arial"/>
                <a:ea typeface="굴림체"/>
              </a:rPr>
              <a:t>의해서 결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15840" y="243000"/>
            <a:ext cx="5619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부분범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(Partial Range Scan)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81D0-0293-4DB9-957B-1D6AC3BFF3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66760" y="976320"/>
            <a:ext cx="9820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A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: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+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직원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B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C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: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+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   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         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D : 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r>
              <a:rPr b="1" lang="ko-KR" sz="1500" spc="-1" strike="noStrike">
                <a:solidFill>
                  <a:srgbClr val="000000"/>
                </a:solidFill>
                <a:latin typeface="굴림체"/>
                <a:ea typeface="굴림체"/>
              </a:rPr>
              <a:t>_PK          : </a:t>
            </a:r>
            <a:r>
              <a:rPr b="1" lang="ko-KR" sz="15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84280" y="2462040"/>
            <a:ext cx="8163000" cy="4059720"/>
          </a:xfrm>
          <a:prstGeom prst="roundRect">
            <a:avLst>
              <a:gd name="adj" fmla="val 404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DISTINCT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</a:t>
            </a:r>
            <a:r>
              <a:rPr b="1" lang="ko-KR" sz="16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 ,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99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3" name=""/>
          <p:cNvGrpSpPr/>
          <p:nvPr/>
        </p:nvGrpSpPr>
        <p:grpSpPr>
          <a:xfrm>
            <a:off x="4294080" y="3713040"/>
            <a:ext cx="5743800" cy="3012840"/>
            <a:chOff x="4294080" y="3713040"/>
            <a:chExt cx="5743800" cy="3012840"/>
          </a:xfrm>
        </p:grpSpPr>
        <p:sp>
          <p:nvSpPr>
            <p:cNvPr id="994" name=""/>
            <p:cNvSpPr/>
            <p:nvPr/>
          </p:nvSpPr>
          <p:spPr>
            <a:xfrm>
              <a:off x="4294080" y="3713040"/>
              <a:ext cx="5743800" cy="30128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cc0000"/>
                  </a:solidFill>
                  <a:latin typeface="굴림체"/>
                  <a:ea typeface="굴림체"/>
                </a:rPr>
                <a:t>ROWS  EXECU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----  ---------------------------------------------------------------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0  SELECT STAT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</a:t>
              </a:r>
              <a:r>
                <a:rPr b="1" lang="ko-KR" sz="1200" spc="-1" strike="noStrike">
                  <a:solidFill>
                    <a:srgbClr val="00cc99"/>
                  </a:solidFill>
                  <a:latin typeface="굴림체"/>
                  <a:ea typeface="굴림체"/>
                </a:rPr>
                <a:t>SORT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7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NESTED LO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6   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수주진행현황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고객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43         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1275           INDEX (UNIQU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주문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</a:t>
              </a: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20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TABLE ACCESS (BY ROWID) OF '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263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     INDEX (RANGE SCAN) OF ' 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납품실행계획</a:t>
              </a:r>
              <a:r>
                <a:rPr b="1" lang="ko-KR" sz="12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_PK' (UNIQU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364680" y="4925880"/>
              <a:ext cx="654120" cy="14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45000"/>
                </a:lnSpc>
                <a:buClr>
                  <a:srgbClr val="000000"/>
                </a:buClr>
                <a:buSzPct val="120000"/>
                <a:buFont typeface="Wingdings" charset="2"/>
                <a:buChar char="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85000"/>
                </a:lnSpc>
                <a:buClr>
                  <a:srgbClr val="000000"/>
                </a:buClr>
                <a:buSzPct val="120000"/>
                <a:buFont typeface="Wingdings" charset="2"/>
                <a:buChar char="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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65000"/>
                </a:lnSpc>
                <a:buClr>
                  <a:srgbClr val="000000"/>
                </a:buClr>
                <a:buSzPct val="120000"/>
                <a:buFont typeface="Wingdings" charset="2"/>
                <a:buChar char="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 </a:t>
              </a:r>
              <a:r>
                <a:rPr b="1" lang="ko-KR" sz="1400" spc="-1" strike="noStrike">
                  <a:solidFill>
                    <a:srgbClr val="3333cc"/>
                  </a:solidFill>
                  <a:latin typeface="굴림체"/>
                  <a:ea typeface="굴림체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29E3C-D928-420D-8422-CD4AF527F96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31720" y="1766880"/>
            <a:ext cx="274680" cy="393552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6200000">
            <a:off x="6984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278000" y="1776240"/>
            <a:ext cx="92376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9424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957400" y="1766880"/>
            <a:ext cx="2858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3728880" y="1776240"/>
            <a:ext cx="924120" cy="39913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819920" y="1766880"/>
            <a:ext cx="29844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859788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72280" y="1766880"/>
            <a:ext cx="285480" cy="395748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3120" y="1776240"/>
            <a:ext cx="927000" cy="3935520"/>
          </a:xfrm>
          <a:prstGeom prst="rect">
            <a:avLst/>
          </a:prstGeom>
          <a:gradFill rotWithShape="0">
            <a:gsLst>
              <a:gs pos="0">
                <a:srgbClr val="92cbc6"/>
              </a:gs>
              <a:gs pos="50000">
                <a:srgbClr val="b8fff9"/>
              </a:gs>
              <a:gs pos="100000">
                <a:srgbClr val="92cbc6"/>
              </a:gs>
            </a:gsLst>
            <a:lin ang="108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65184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983920" y="125424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279280" y="12304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4172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rot="16200000">
            <a:off x="2539800" y="1930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9116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34700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320080" y="192564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rot="16200000">
            <a:off x="7375320" y="19335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Arial"/>
                <a:ea typeface="굴림체"/>
              </a:rPr>
              <a:t>12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882920" y="192564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8136000" y="3629160"/>
            <a:ext cx="75096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8136000" y="3036600"/>
            <a:ext cx="765000" cy="1385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352760" y="2887560"/>
            <a:ext cx="971640" cy="14670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4352760" y="5072040"/>
            <a:ext cx="970200" cy="6048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4352760" y="3598920"/>
            <a:ext cx="984240" cy="260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4352760" y="2734920"/>
            <a:ext cx="854280" cy="148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9193320" y="2900520"/>
            <a:ext cx="590400" cy="666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9190080" y="3051000"/>
            <a:ext cx="592200" cy="1616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786720" y="2676600"/>
            <a:ext cx="873000" cy="2793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786720" y="2749680"/>
            <a:ext cx="931680" cy="1892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6786720" y="4437000"/>
            <a:ext cx="931680" cy="689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8136000" y="4682880"/>
            <a:ext cx="750960" cy="142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41440" y="2697120"/>
            <a:ext cx="261720" cy="2617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9318600" y="192564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5654520" y="2935080"/>
            <a:ext cx="800280" cy="5634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5654520" y="5054760"/>
            <a:ext cx="873360" cy="777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654520" y="4354560"/>
            <a:ext cx="851040" cy="309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3255840" y="2892600"/>
            <a:ext cx="839880" cy="727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59080" y="4913280"/>
            <a:ext cx="804960" cy="2192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3255840" y="3571560"/>
            <a:ext cx="811440" cy="228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3255840" y="4127400"/>
            <a:ext cx="811440" cy="795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806400" y="2813040"/>
            <a:ext cx="679680" cy="184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806400" y="4538520"/>
            <a:ext cx="663480" cy="52704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 flipV="1">
            <a:off x="806400" y="5029200"/>
            <a:ext cx="663480" cy="1872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806400" y="2805120"/>
            <a:ext cx="695520" cy="471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887480" y="2827440"/>
            <a:ext cx="1042920" cy="998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1887480" y="2965320"/>
            <a:ext cx="1036800" cy="285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1873080" y="4127040"/>
            <a:ext cx="1051200" cy="90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916280" y="4552920"/>
            <a:ext cx="1014120" cy="345960"/>
          </a:xfrm>
          <a:prstGeom prst="line">
            <a:avLst/>
          </a:prstGeom>
          <a:ln w="25560">
            <a:solidFill>
              <a:srgbClr val="cc009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824960" y="4387680"/>
            <a:ext cx="284040" cy="466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"/>
          <p:cNvGrpSpPr/>
          <p:nvPr/>
        </p:nvGrpSpPr>
        <p:grpSpPr>
          <a:xfrm>
            <a:off x="221760" y="2752560"/>
            <a:ext cx="397440" cy="2659320"/>
            <a:chOff x="221760" y="2752560"/>
            <a:chExt cx="397440" cy="2659320"/>
          </a:xfrm>
        </p:grpSpPr>
        <p:sp>
          <p:nvSpPr>
            <p:cNvPr id="1048" name=""/>
            <p:cNvSpPr/>
            <p:nvPr/>
          </p:nvSpPr>
          <p:spPr>
            <a:xfrm>
              <a:off x="287280" y="275256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19200" y="2752560"/>
              <a:ext cx="0" cy="26593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221760" y="541188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7631280" y="4452840"/>
            <a:ext cx="293400" cy="505080"/>
            <a:chOff x="7631280" y="4452840"/>
            <a:chExt cx="293400" cy="505080"/>
          </a:xfrm>
        </p:grpSpPr>
        <p:sp>
          <p:nvSpPr>
            <p:cNvPr id="1052" name=""/>
            <p:cNvSpPr/>
            <p:nvPr/>
          </p:nvSpPr>
          <p:spPr>
            <a:xfrm>
              <a:off x="7680240" y="4452840"/>
              <a:ext cx="2332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24680" y="4452840"/>
              <a:ext cx="0" cy="50508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H="1">
              <a:off x="7631280" y="4957920"/>
              <a:ext cx="2822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5" name=""/>
          <p:cNvSpPr/>
          <p:nvPr/>
        </p:nvSpPr>
        <p:spPr>
          <a:xfrm>
            <a:off x="8986680" y="2949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8986320" y="35384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8986320" y="464184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963880" y="29336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2963880" y="377820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2963880" y="41180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963880" y="487692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381640" y="34894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381640" y="4305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381640" y="503568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27840" y="3592440"/>
            <a:ext cx="8175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813720" y="194796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7931520" y="437508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7669080" y="2517840"/>
            <a:ext cx="347760" cy="290520"/>
            <a:chOff x="7669080" y="2517840"/>
            <a:chExt cx="347760" cy="290520"/>
          </a:xfrm>
        </p:grpSpPr>
        <p:sp>
          <p:nvSpPr>
            <p:cNvPr id="1069" name=""/>
            <p:cNvSpPr/>
            <p:nvPr/>
          </p:nvSpPr>
          <p:spPr>
            <a:xfrm>
              <a:off x="7669080" y="2517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7500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210280" y="2517840"/>
            <a:ext cx="347400" cy="290520"/>
            <a:chOff x="5210280" y="2517840"/>
            <a:chExt cx="347400" cy="290520"/>
          </a:xfrm>
        </p:grpSpPr>
        <p:sp>
          <p:nvSpPr>
            <p:cNvPr id="1072" name=""/>
            <p:cNvSpPr/>
            <p:nvPr/>
          </p:nvSpPr>
          <p:spPr>
            <a:xfrm>
              <a:off x="5210280" y="2517840"/>
              <a:ext cx="34740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91280" y="2597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801720" y="3143160"/>
            <a:ext cx="725400" cy="573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1844640" y="3289320"/>
            <a:ext cx="1089000" cy="426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963880" y="324324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265560" y="3289320"/>
            <a:ext cx="815760" cy="651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375080" y="3343320"/>
            <a:ext cx="961920" cy="169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381640" y="3828960"/>
            <a:ext cx="268200" cy="698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5662440" y="3838680"/>
            <a:ext cx="857520" cy="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6765840" y="3552840"/>
            <a:ext cx="892440" cy="2779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824960" y="3502080"/>
            <a:ext cx="28404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3" name=""/>
          <p:cNvGrpSpPr/>
          <p:nvPr/>
        </p:nvGrpSpPr>
        <p:grpSpPr>
          <a:xfrm>
            <a:off x="7631280" y="3552840"/>
            <a:ext cx="293400" cy="342720"/>
            <a:chOff x="7631280" y="3552840"/>
            <a:chExt cx="293400" cy="342720"/>
          </a:xfrm>
        </p:grpSpPr>
        <p:sp>
          <p:nvSpPr>
            <p:cNvPr id="1084" name=""/>
            <p:cNvSpPr/>
            <p:nvPr/>
          </p:nvSpPr>
          <p:spPr>
            <a:xfrm>
              <a:off x="7680240" y="355284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24680" y="355284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7631280" y="3895560"/>
              <a:ext cx="28224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7" name=""/>
          <p:cNvSpPr/>
          <p:nvPr/>
        </p:nvSpPr>
        <p:spPr>
          <a:xfrm flipV="1">
            <a:off x="8129520" y="2690640"/>
            <a:ext cx="728640" cy="9036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994600" y="26416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896600" y="34304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rot="16200000">
            <a:off x="4943520" y="191448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919520" y="19051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31CAD-4A29-4925-A744-A56FDBD4735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1239840" y="1581120"/>
            <a:ext cx="6226200" cy="4558680"/>
          </a:xfrm>
          <a:prstGeom prst="roundRect">
            <a:avLst>
              <a:gd name="adj" fmla="val 6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/*+ ORDERED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DISTINCT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직원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D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출고중지구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수주진행현황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,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납품실행계획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부서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B.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주문번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B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일자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D.</a:t>
            </a:r>
            <a:r>
              <a:rPr b="1" lang="ko-KR" sz="1600" spc="-1" strike="noStrike">
                <a:solidFill>
                  <a:srgbClr val="990066"/>
                </a:solidFill>
                <a:latin typeface="굴림체"/>
                <a:ea typeface="굴림체"/>
              </a:rPr>
              <a:t>고객번호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부서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회사번호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=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A.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완료여부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IS NULL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E3008-823B-48D9-9D39-500C8DC499A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"/>
          <p:cNvSpPr/>
          <p:nvPr/>
        </p:nvSpPr>
        <p:spPr>
          <a:xfrm>
            <a:off x="2284560" y="243000"/>
            <a:ext cx="574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조인하는 테이블의 순서에 따른 차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547560" y="1936800"/>
            <a:ext cx="277920" cy="399564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6440" y="20527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359000" y="1940040"/>
            <a:ext cx="93636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978480" y="139212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수주진행현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046320" y="1936800"/>
            <a:ext cx="3081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816360" y="1940040"/>
            <a:ext cx="939960" cy="40640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7732800" y="1936800"/>
            <a:ext cx="28872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507520" y="1940040"/>
            <a:ext cx="93960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345280" y="1936800"/>
            <a:ext cx="277560" cy="4017960"/>
          </a:xfrm>
          <a:prstGeom prst="rect">
            <a:avLst/>
          </a:prstGeom>
          <a:gradFill rotWithShape="0">
            <a:gsLst>
              <a:gs pos="0">
                <a:srgbClr val="c5c5c5"/>
              </a:gs>
              <a:gs pos="50000">
                <a:srgbClr val="dddddd"/>
              </a:gs>
              <a:gs pos="100000">
                <a:srgbClr val="c5c5c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19640" y="1940040"/>
            <a:ext cx="938520" cy="4008240"/>
          </a:xfrm>
          <a:prstGeom prst="rect">
            <a:avLst/>
          </a:prstGeom>
          <a:gradFill rotWithShape="0">
            <a:gsLst>
              <a:gs pos="0">
                <a:srgbClr val="7fb1ad"/>
              </a:gs>
              <a:gs pos="50000">
                <a:srgbClr val="b8fff9"/>
              </a:gs>
              <a:gs pos="100000">
                <a:srgbClr val="7fb1ad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57000" y="140328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고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8508240" y="1393920"/>
            <a:ext cx="10004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주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543840" y="1403280"/>
            <a:ext cx="148824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납품실행계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198800" y="2038320"/>
            <a:ext cx="120780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12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543760" y="2052720"/>
            <a:ext cx="1262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12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3735360" y="2052720"/>
            <a:ext cx="100980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Arial"/>
                <a:ea typeface="굴림체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00148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08904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738432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8476560" y="205272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3362400" y="2951280"/>
            <a:ext cx="747720" cy="4586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3354480" y="3429000"/>
            <a:ext cx="755640" cy="923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3344760" y="4770000"/>
            <a:ext cx="750960" cy="572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1946160" y="2460240"/>
            <a:ext cx="936720" cy="276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960560" y="2532240"/>
            <a:ext cx="879480" cy="406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932120" y="2575080"/>
            <a:ext cx="966600" cy="652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1946160" y="4333680"/>
            <a:ext cx="920880" cy="206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V="1">
            <a:off x="1933560" y="2677680"/>
            <a:ext cx="979560" cy="1220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V="1">
            <a:off x="841320" y="2715840"/>
            <a:ext cx="876240" cy="3142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V="1">
            <a:off x="841320" y="2949480"/>
            <a:ext cx="876240" cy="3175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V="1">
            <a:off x="841320" y="4554360"/>
            <a:ext cx="830160" cy="5176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841320" y="3905280"/>
            <a:ext cx="816120" cy="8920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841320" y="2639880"/>
            <a:ext cx="876240" cy="6271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55480" y="2583000"/>
            <a:ext cx="263520" cy="2657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9254880" y="2035080"/>
            <a:ext cx="88308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221760" y="2638440"/>
            <a:ext cx="397440" cy="2658960"/>
            <a:chOff x="221760" y="2638440"/>
            <a:chExt cx="397440" cy="2658960"/>
          </a:xfrm>
        </p:grpSpPr>
        <p:sp>
          <p:nvSpPr>
            <p:cNvPr id="1131" name=""/>
            <p:cNvSpPr/>
            <p:nvPr/>
          </p:nvSpPr>
          <p:spPr>
            <a:xfrm>
              <a:off x="287280" y="2638440"/>
              <a:ext cx="31752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9200" y="2638440"/>
              <a:ext cx="0" cy="265896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221760" y="5297400"/>
              <a:ext cx="38268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054240" y="4273560"/>
            <a:ext cx="293760" cy="596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2855880" y="4334040"/>
            <a:ext cx="289080" cy="637920"/>
            <a:chOff x="2855880" y="4334040"/>
            <a:chExt cx="289080" cy="637920"/>
          </a:xfrm>
        </p:grpSpPr>
        <p:sp>
          <p:nvSpPr>
            <p:cNvPr id="1136" name=""/>
            <p:cNvSpPr/>
            <p:nvPr/>
          </p:nvSpPr>
          <p:spPr>
            <a:xfrm>
              <a:off x="2903400" y="4334040"/>
              <a:ext cx="23184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44960" y="4334040"/>
              <a:ext cx="0" cy="63792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2855880" y="4971960"/>
              <a:ext cx="279360" cy="0"/>
            </a:xfrm>
            <a:prstGeom prst="line">
              <a:avLst/>
            </a:prstGeom>
            <a:ln w="25560">
              <a:solidFill>
                <a:srgbClr val="990066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9" name=""/>
          <p:cNvSpPr/>
          <p:nvPr/>
        </p:nvSpPr>
        <p:spPr>
          <a:xfrm>
            <a:off x="5351400" y="315900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51400" y="383076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351400" y="4416480"/>
            <a:ext cx="260280" cy="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737480" y="3159000"/>
            <a:ext cx="276120" cy="828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737480" y="383076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737480" y="4416480"/>
            <a:ext cx="276120" cy="824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5661000" y="2936880"/>
            <a:ext cx="816120" cy="264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5661000" y="339732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640480" y="446580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737400" y="2951280"/>
            <a:ext cx="923760" cy="2188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721560" y="3411360"/>
            <a:ext cx="988920" cy="4557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6751800" y="4444560"/>
            <a:ext cx="958680" cy="3380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037360" y="2930040"/>
            <a:ext cx="816120" cy="26532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8037360" y="3390840"/>
            <a:ext cx="801720" cy="480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016840" y="4459320"/>
            <a:ext cx="865080" cy="34596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334040" y="2957400"/>
            <a:ext cx="988920" cy="1831680"/>
            <a:chOff x="4334040" y="2957400"/>
            <a:chExt cx="988920" cy="1831680"/>
          </a:xfrm>
        </p:grpSpPr>
        <p:sp>
          <p:nvSpPr>
            <p:cNvPr id="1155" name=""/>
            <p:cNvSpPr/>
            <p:nvPr/>
          </p:nvSpPr>
          <p:spPr>
            <a:xfrm>
              <a:off x="4349880" y="2957400"/>
              <a:ext cx="923760" cy="2192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334040" y="3417840"/>
              <a:ext cx="988920" cy="45576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363920" y="4451040"/>
              <a:ext cx="959040" cy="338040"/>
            </a:xfrm>
            <a:prstGeom prst="line">
              <a:avLst/>
            </a:prstGeom>
            <a:ln w="1260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"/>
          <p:cNvSpPr/>
          <p:nvPr/>
        </p:nvSpPr>
        <p:spPr>
          <a:xfrm flipV="1">
            <a:off x="9136080" y="3414600"/>
            <a:ext cx="660240" cy="648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910720" y="289548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910720" y="4735440"/>
            <a:ext cx="1195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굴림체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910000" y="3394080"/>
            <a:ext cx="139320" cy="1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00"/>
                </a:solidFill>
                <a:latin typeface="Arial"/>
                <a:ea typeface="굴림체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41320" y="3441600"/>
            <a:ext cx="873360" cy="180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1932120" y="3400200"/>
            <a:ext cx="966600" cy="42840"/>
          </a:xfrm>
          <a:prstGeom prst="line">
            <a:avLst/>
          </a:prstGeom>
          <a:ln w="1260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2906640" y="2409840"/>
            <a:ext cx="347760" cy="290520"/>
            <a:chOff x="2906640" y="2409840"/>
            <a:chExt cx="347760" cy="290520"/>
          </a:xfrm>
        </p:grpSpPr>
        <p:sp>
          <p:nvSpPr>
            <p:cNvPr id="1165" name=""/>
            <p:cNvSpPr/>
            <p:nvPr/>
          </p:nvSpPr>
          <p:spPr>
            <a:xfrm>
              <a:off x="2906640" y="2409840"/>
              <a:ext cx="347760" cy="290520"/>
            </a:xfrm>
            <a:prstGeom prst="ellipse">
              <a:avLst/>
            </a:prstGeom>
            <a:solidFill>
              <a:srgbClr val="ccecff"/>
            </a:solidFill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987640" y="2489040"/>
              <a:ext cx="236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0033"/>
                  </a:solidFill>
                  <a:latin typeface="Arial"/>
                  <a:ea typeface="굴림체"/>
                </a:rPr>
                <a:t>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3054240" y="3344760"/>
            <a:ext cx="284400" cy="3207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2855520" y="3381480"/>
            <a:ext cx="294120" cy="342720"/>
            <a:chOff x="2855520" y="3381480"/>
            <a:chExt cx="294120" cy="342720"/>
          </a:xfrm>
        </p:grpSpPr>
        <p:sp>
          <p:nvSpPr>
            <p:cNvPr id="1169" name=""/>
            <p:cNvSpPr/>
            <p:nvPr/>
          </p:nvSpPr>
          <p:spPr>
            <a:xfrm>
              <a:off x="2905200" y="3381480"/>
              <a:ext cx="23328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149640" y="3381480"/>
              <a:ext cx="0" cy="34272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2855520" y="3724200"/>
              <a:ext cx="282600" cy="0"/>
            </a:xfrm>
            <a:prstGeom prst="line">
              <a:avLst/>
            </a:prstGeom>
            <a:ln w="12600">
              <a:solidFill>
                <a:srgbClr val="99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3111840" y="33242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105720" y="4398840"/>
            <a:ext cx="80244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6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27840" y="3652920"/>
            <a:ext cx="817560" cy="5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150720" y="2063880"/>
            <a:ext cx="982440" cy="2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FFBF-9FBD-4A7E-9445-8AF2758ADB98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-350640" y="2625840"/>
            <a:ext cx="7567200" cy="1538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NVL(MAST_MENU_ID, ' ')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NVL(:B2, ' 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746720" y="243000"/>
            <a:ext cx="667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3.  NUL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처리를 위해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FAULT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50920" y="1103400"/>
            <a:ext cx="98200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6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01003M20  :  A01003M20_U2 : MENU_ID + MAST_MENU_ID  (UN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7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768840" y="2289240"/>
            <a:ext cx="5900760" cy="1584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   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0   SELECT   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1     TABLE  ACCESS ( BY ROWID )  OF  'A01003M20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2321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 RANGE SCAN )  OF  'A01003M20_U2' ( UNIQU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-166320" y="4914000"/>
            <a:ext cx="6469920" cy="15386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DETL,  PGM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01003M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MENU_ID  =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MAST_MENU_ID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=  NVL(:B2, 'X'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93760" y="445464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1761-A12C-4C54-8C3D-CBC1B039054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"/>
          <p:cNvSpPr/>
          <p:nvPr/>
        </p:nvSpPr>
        <p:spPr>
          <a:xfrm>
            <a:off x="-350280" y="2475000"/>
            <a:ext cx="7538400" cy="1729800"/>
          </a:xfrm>
          <a:prstGeom prst="roundRect">
            <a:avLst>
              <a:gd name="adj" fmla="val 8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O_DATE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=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OX_CODE = :VALUE2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671840" y="243000"/>
            <a:ext cx="364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50920" y="1103400"/>
            <a:ext cx="934884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FLM600 : GFLM600_PK : CAR_CODE + BOX_CODE + IO_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6916680" y="1774800"/>
            <a:ext cx="2720880" cy="758880"/>
          </a:xfrm>
          <a:custGeom>
            <a:avLst/>
            <a:gdLst>
              <a:gd name="textAreaLeft" fmla="*/ 100440 w 2720880"/>
              <a:gd name="textAreaRight" fmla="*/ 2620440 w 2720880"/>
              <a:gd name="textAreaTop" fmla="*/ 28080 h 758880"/>
              <a:gd name="textAreaBottom" fmla="*/ 606240 h 758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두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SUB-Quer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의 차이는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-80640" y="4410000"/>
            <a:ext cx="7730640" cy="2151720"/>
          </a:xfrm>
          <a:prstGeom prst="roundRect">
            <a:avLst>
              <a:gd name="adj" fmla="val 11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TOCK_Q  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IO_DATE = (SELECT  MAX(IO_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CAR_CODE = :VALUE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B.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CAR_CODE = B.CAR_CO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A.BOX_CODE = B.BOX_CODE 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746680" y="2978280"/>
            <a:ext cx="3214800" cy="33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Arial"/>
                <a:ea typeface="굴림체"/>
              </a:rPr>
              <a:t>원하는 대로 결과 나오지 않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61F2A-418D-4FD3-88A3-18AE0FE1512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-42120" y="1987560"/>
            <a:ext cx="8129520" cy="17269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DESC(A GFLM600_PK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OCK_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OWNUM = 1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-47520" y="4656240"/>
            <a:ext cx="8223480" cy="11350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114480" bIns="11448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 (MAX (IO_DATE || STOCK_Q), 9,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FLM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CAR_CODE = :VALUE1  AND  BOX_CODE = :VALU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439640" y="254160"/>
            <a:ext cx="81788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4. 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값의 처리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66760" y="1082520"/>
            <a:ext cx="4797360" cy="365004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해결 방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1)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역순 인덱스 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-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효율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2) SUBSTR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사용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없을 때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157B-AAEC-4691-B632-35CA79B3E23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1601640" y="243000"/>
            <a:ext cx="581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5.  MAX / MIN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에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분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66760" y="1103400"/>
            <a:ext cx="736740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EQPM : THISEQPM_X1 :  EQPMDEPT + EQPMPART + EQPM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-427680" y="4237200"/>
            <a:ext cx="9234720" cy="2353680"/>
          </a:xfrm>
          <a:prstGeom prst="roundRect">
            <a:avLst>
              <a:gd name="adj" fmla="val 974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/*+ INDEX_ASC(A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V.MAX_ROOM - A.EQPMROOM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(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SELECT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/*+ INDEX_DESC(THISEQPM THISEQPM_X1)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EQPMROOM  AS  MAX_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FROM  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6600"/>
                </a:solidFill>
                <a:latin typeface="굴림체"/>
                <a:ea typeface="굴림체"/>
              </a:rPr>
              <a:t>AND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ROWNUM  = 1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INV ,  THISEQPM 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 EQPMDEPT = :VALUE1  AND  EQPMPART = :VALU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ROWNUM = 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-447120" y="2676600"/>
            <a:ext cx="9214560" cy="946080"/>
          </a:xfrm>
          <a:prstGeom prst="roundRect">
            <a:avLst>
              <a:gd name="adj" fmla="val 205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(MAX(EQPMROOM) - MIN(EQPMROOM)) + 1  INTO  :NEXT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EQP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EQPMDEPT = :VALUE1  AND  EQPMPART = :VALUE2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9600" y="3811680"/>
            <a:ext cx="181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2BF76-C773-45F9-A25B-E44FF0B84D4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330120" y="1103400"/>
            <a:ext cx="936324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_TAB : A_TAB_IX1 : ID +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-741600" y="2611440"/>
            <a:ext cx="11730960" cy="3517920"/>
          </a:xfrm>
          <a:prstGeom prst="roundRect">
            <a:avLst>
              <a:gd name="adj" fmla="val 784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&gt;= :B2  AND  SDATE &lt;= :B3   AND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 (SELECT  ID, S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AND  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, SERL) IN (SELECT  ID, SDATE, MIN(SER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2A75F-F0B1-4FFF-B071-5437BEE2301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22440" y="1514520"/>
            <a:ext cx="8080200" cy="3059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ID, SUBSTR(MIN(SDATE || SERL),1,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DEPT = :B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ID, SDAT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378000" y="4437000"/>
            <a:ext cx="443844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(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과 결과 다름</a:t>
            </a:r>
            <a:r>
              <a:rPr b="1" lang="ko-KR" sz="1600" spc="-1" strike="noStrike">
                <a:solidFill>
                  <a:srgbClr val="9900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이 선택되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결과가 나오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지만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이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나온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182920" y="4675320"/>
            <a:ext cx="4299840" cy="162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ID      SDATE    SERL   DEPT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00   19970310     3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100   19970310     4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100   19970310     1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10000"/>
                </a:solidFill>
                <a:latin typeface="굴림체"/>
                <a:ea typeface="굴림체"/>
              </a:rPr>
              <a:t>100   19970310     2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994800" y="425304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764600" y="5141880"/>
            <a:ext cx="107244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504040" y="5084640"/>
            <a:ext cx="364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00640" y="550692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378000" y="985680"/>
            <a:ext cx="4275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중간 </a:t>
            </a:r>
            <a:r>
              <a:rPr b="1" lang="ko-KR" sz="1800" spc="-1" strike="noStrike">
                <a:solidFill>
                  <a:srgbClr val="99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3BAC-F7B0-406C-B0C1-D0FAE76FE17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600" y="1103400"/>
            <a:ext cx="855828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AB_A : TAB_A_X1 :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YY + 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+ DD + SALE_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-217800" y="2933640"/>
            <a:ext cx="7428600" cy="15195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A.YY || A.M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ETWEEN '9410' AND '950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74B8-B71D-48F9-8AE6-4D30104989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-318240" y="1712880"/>
            <a:ext cx="10888920" cy="2703960"/>
          </a:xfrm>
          <a:prstGeom prst="roundRect">
            <a:avLst>
              <a:gd name="adj" fmla="val 904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(COUNT(*), 0) INTO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A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SDATE  BETWEEN :B2 AND :B3   AND   PATH =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ID, SDATE) IN (SELECT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.ID, DECODE(V.DEPT, :B7, V.SDATE,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ID, SDATE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(MIN(SERL || DEPT),4,2) AS DE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SDATE BETWEEN :B2 AND :B3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ID, SDATE ) V  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1886760" y="243000"/>
            <a:ext cx="6041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6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서브쿼리 사용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MIN / MAX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66760" y="1246320"/>
            <a:ext cx="9820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7212240" y="4556160"/>
            <a:ext cx="94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B_T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946760" y="1386000"/>
            <a:ext cx="4514760" cy="91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*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전제조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: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3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자리 숫자이며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ID + SDATE + SERL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이 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PK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를 구성한다</a:t>
            </a:r>
            <a:r>
              <a:rPr b="1" lang="ko-KR" sz="1800" spc="-1" strike="noStrike">
                <a:solidFill>
                  <a:srgbClr val="cc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5293080" y="5005440"/>
            <a:ext cx="4718160" cy="1532520"/>
            <a:chOff x="5293080" y="5005440"/>
            <a:chExt cx="4718160" cy="1532520"/>
          </a:xfrm>
        </p:grpSpPr>
        <p:sp>
          <p:nvSpPr>
            <p:cNvPr id="1215" name=""/>
            <p:cNvSpPr/>
            <p:nvPr/>
          </p:nvSpPr>
          <p:spPr>
            <a:xfrm>
              <a:off x="5711400" y="5005440"/>
              <a:ext cx="4299840" cy="1532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ID      SDATE    SERL   DEPT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3     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100   19970310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    </a:t>
              </a:r>
              <a:r>
                <a:rPr b="1" lang="ko-KR" sz="1800" spc="-1" strike="noStrike">
                  <a:solidFill>
                    <a:srgbClr val="339933"/>
                  </a:solidFill>
                  <a:latin typeface="굴림체"/>
                  <a:ea typeface="굴림체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100   19970310     </a:t>
              </a:r>
              <a:r>
                <a:rPr b="1" lang="ko-KR" sz="18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1</a:t>
              </a:r>
              <a:r>
                <a:rPr b="1" lang="ko-KR" sz="1800" spc="-1" strike="noStrike">
                  <a:solidFill>
                    <a:srgbClr val="330099"/>
                  </a:solidFill>
                  <a:latin typeface="굴림체"/>
                  <a:ea typeface="굴림체"/>
                </a:rPr>
                <a:t>     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 </a:t>
              </a:r>
              <a:r>
                <a:rPr b="1" lang="ko-KR" sz="1800" spc="-1" strike="noStrike">
                  <a:solidFill>
                    <a:srgbClr val="010000"/>
                  </a:solidFill>
                  <a:latin typeface="굴림체"/>
                  <a:ea typeface="굴림체"/>
                </a:rPr>
                <a:t>100   19970310     2      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93080" y="5345280"/>
              <a:ext cx="1072440" cy="11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④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043680" y="5369040"/>
              <a:ext cx="36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8" name=""/>
          <p:cNvSpPr/>
          <p:nvPr/>
        </p:nvSpPr>
        <p:spPr>
          <a:xfrm>
            <a:off x="399960" y="4656240"/>
            <a:ext cx="4560840" cy="16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SERL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에 중복이 발생할 때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 문제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= 20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인 경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여기서는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③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되었다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:B7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걸러져 아무 로우도 선택되지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않으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원래 </a:t>
            </a:r>
            <a:r>
              <a:rPr b="1" lang="ko-KR" sz="1600" spc="-1" strike="noStrike">
                <a:solidFill>
                  <a:srgbClr val="339933"/>
                </a:solidFill>
                <a:latin typeface="굴림체"/>
                <a:ea typeface="굴림체"/>
              </a:rPr>
              <a:t>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은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②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번 로우가 선택된다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010120" y="5433840"/>
            <a:ext cx="450720" cy="441360"/>
          </a:xfrm>
          <a:prstGeom prst="rightArrow">
            <a:avLst>
              <a:gd name="adj1" fmla="val 75009"/>
              <a:gd name="adj2" fmla="val 35747"/>
            </a:avLst>
          </a:prstGeom>
          <a:solidFill>
            <a:srgbClr val="00cc99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DE86-BBBD-4F29-8831-1FE06325B9C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1899360" y="243000"/>
            <a:ext cx="3822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7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상수 조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66760" y="1103400"/>
            <a:ext cx="982008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5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PNW : CPNU_PK : DL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946440" y="4673520"/>
            <a:ext cx="8146440" cy="1965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LTF = :B11  AND  SYSF = :B12  AND  RTDT = :B13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RITM = :B14  AND  USER = :B15  AND  VALUE = :B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 :B21  = 'Y'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266760" y="45957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2063880"/>
            <a:ext cx="8715600" cy="2246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CPN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LTF = :B1, SYSF = :B2, RTDT = :B3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ITM = :B4, USER = :B5, VALUE = :B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DLTF, SYSF, RTDT, RITM, USER, VALUE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:B11, :B12, :B13, :B14, :B15, :B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FROM  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B19 != 'Y' OR :B19 IS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(:B21 = 'Y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:B21 IS NOT NUL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18E0D-7648-4853-BCE1-60360FC60F1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1688040" y="243000"/>
            <a:ext cx="716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8.  UNION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NION ALL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명확한 구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66760" y="947880"/>
            <a:ext cx="766764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HSNO A : HSNO_PK  : HSNO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L  B : COL_PK1  : YEAR + HOUSE + SERIAL_NO + HSNO + SERIAL_NO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X   : YEAR + HOUSE + SERIAL_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5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OM  C : COM_IDX1 : CLASS + D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182520" y="2655720"/>
            <a:ext cx="4884840" cy="3956040"/>
          </a:xfrm>
          <a:prstGeom prst="roundRect">
            <a:avLst>
              <a:gd name="adj" fmla="val 66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noAutofit/>
          </a:bodyPr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&lt;&gt;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.CODE, C.HSNO, A.DESCR, SUM(B.AM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HSNO A, COL B, CO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  A.HSNO = B.HSNO AND B.YEAR = C.YEA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B.HOUSE = C.HOUSE AND C.CODE LIKE :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DAT BETWEEN :B2 AND :B3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AND  C.CLASS = 'C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C.CODE, C.HSNO, A.DESCR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024520" y="2532240"/>
            <a:ext cx="4952880" cy="48531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  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PROJ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 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SORT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</a:t>
            </a:r>
            <a:r>
              <a:rPr b="1" lang="ko-KR" sz="1200" spc="-1" strike="noStrike">
                <a:solidFill>
                  <a:srgbClr val="3333cc"/>
                </a:solidFill>
                <a:latin typeface="굴림체"/>
                <a:ea typeface="굴림체"/>
              </a:rPr>
              <a:t>      UNION-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78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738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498             INDEX (RANGE SCAN) OF 'COL_PK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733    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82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SORT (GROUP B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NESTED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391            TABLE ACCESS (BY ROWID) OF 'COM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6359             INDEX (RANGE SCAN) OF 'COM_IX' (NON-UN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1829            TABLE ACCESS (BY ROWID) OF 'COL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3220             INDEX (RANGE SCAN) OF 'COL_PK1' 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TABLE ACCESS (BY ROWID) OF 'HSNO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         INDEX (RANGE SCAN) OF 'HSNO_PK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3919680" y="2066760"/>
            <a:ext cx="1585800" cy="594000"/>
          </a:xfrm>
          <a:custGeom>
            <a:avLst/>
            <a:gdLst>
              <a:gd name="textAreaLeft" fmla="*/ 58680 w 1585800"/>
              <a:gd name="textAreaRight" fmla="*/ 1527120 w 1585800"/>
              <a:gd name="textAreaTop" fmla="*/ 21960 h 594000"/>
              <a:gd name="textAreaBottom" fmla="*/ 474480 h 59400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2726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Query</a:t>
            </a: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의 목적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0099"/>
                </a:solidFill>
                <a:latin typeface="Arial"/>
                <a:ea typeface="굴림체"/>
              </a:rPr>
              <a:t>따라 효율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0FB9E-A7B7-4100-9796-C2C7760451F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"/>
          <p:cNvSpPr/>
          <p:nvPr/>
        </p:nvSpPr>
        <p:spPr>
          <a:xfrm>
            <a:off x="1629360" y="243000"/>
            <a:ext cx="382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29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불필요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66760" y="1166760"/>
            <a:ext cx="13669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641160" y="4652280"/>
            <a:ext cx="8818920" cy="1775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NVL(DAT,'999999') &gt;=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TO_CHAR(SYS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8000" y="1684440"/>
            <a:ext cx="9251640" cy="207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D, DEPT, WARD,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, :B2, :B3, :B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PAT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WARD = :C1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DAT, '999999') &gt;= 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ELECT  TO_CHAR(SYSDATE, '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FROM  SYS.DUAL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DEPT, ROOM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66760" y="4121280"/>
            <a:ext cx="201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C9A8-ACA7-41A6-89EC-CD66C42939E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66760" y="1103400"/>
            <a:ext cx="9820080" cy="22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5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ULGOT_IX     : CHULDATE + ITEM 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STATUS_ITEM : STATUS + ITEM (CASE 3,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GOT : CH_CHULNO      : CHULNO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(CASE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13160" y="4159080"/>
            <a:ext cx="8868600" cy="24670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1  AND  CHULDATE  =  '94113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WHERE  :SW = 2  AND  CHULDATE+0  LIKE  '96%'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144080" y="2682720"/>
            <a:ext cx="7129440" cy="11840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:SW =  1  AND  CHULDATE  =  '94113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:SW  = 2  AND  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CHULDATE+0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LIKE  '96%'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6760" y="410364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28A3-F1CF-4BF1-8AB7-14060AE4EB8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281960" y="1593720"/>
            <a:ext cx="5360760" cy="13842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HULNO = '254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 )  &gt;  0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191600" y="3571920"/>
            <a:ext cx="6553080" cy="2686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8160" bIns="38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SUM(C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( 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CHULNO = '254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UNION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COUNT(*) AS C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:FILED1 + :FILED2) &gt; 0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66760" y="110340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66760" y="3693960"/>
            <a:ext cx="1303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FF794-E564-4B5D-A905-E7A5D73BAB1E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487520" y="5299200"/>
            <a:ext cx="781848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 LIKE  DECODE( :SW, 1, '2%')         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STATUS  LIKE  DECODE( :SW, 1, '1%' , '3%') ;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800000"/>
                </a:solidFill>
                <a:latin typeface="굴림체"/>
                <a:ea typeface="굴림체"/>
              </a:rPr>
              <a:t>&lt;---- 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14200" y="3306600"/>
            <a:ext cx="5196600" cy="1845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6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(:SW = 1 AND (STATUS  LIKE '1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1 AND (STATUS  LIKE '2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OR  (:SW = 2 AND (STATUS  LIKE '3%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1533600" y="1378080"/>
            <a:ext cx="7419960" cy="2064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(:SW = 1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TATUS  LIKE '1%'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TATUS LIKE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2%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  (:SW = 2 AND (STATUS  LIKE '3%'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ORDER BY  STATUS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760" y="97632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66760" y="32338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942240" y="5189400"/>
            <a:ext cx="2273040" cy="501840"/>
          </a:xfrm>
          <a:custGeom>
            <a:avLst/>
            <a:gdLst>
              <a:gd name="textAreaLeft" fmla="*/ 83880 w 2273040"/>
              <a:gd name="textAreaRight" fmla="*/ 2189160 w 2273040"/>
              <a:gd name="textAreaTop" fmla="*/ 18360 h 501840"/>
              <a:gd name="textAreaBottom" fmla="*/ 401040 h 5018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302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ORDER BY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절 없음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66760" y="5291280"/>
            <a:ext cx="1303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just">
              <a:lnSpc>
                <a:spcPct val="90000"/>
              </a:lnSpc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8B44-302F-4CD7-9B3D-AA837FA6F41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461520" y="1598760"/>
            <a:ext cx="7865640" cy="18745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( :SW = 1 AND  STATUS = 1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OR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( :SW = 2 AND  STATUS  BETWEEN  20  AND 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769400" y="243000"/>
            <a:ext cx="4453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0.  OR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용 시 주의할 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42800" y="4270320"/>
            <a:ext cx="815076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</a:t>
            </a:r>
            <a:r>
              <a:rPr b="1" lang="ko-KR" sz="1800" spc="-1" strike="noStrike">
                <a:solidFill>
                  <a:srgbClr val="000000"/>
                </a:solidFill>
                <a:latin typeface="Modern"/>
                <a:ea typeface="굴림체"/>
              </a:rPr>
              <a:t>--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R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HULNO, CUSTNO, CHULDATE,UN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CHULG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STATUS BETWEEN  DECODE ( :SW , 1 , 10 , 2, 20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DECODE ( :SW , 1 , 10 , 2, 40 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760" y="1119240"/>
            <a:ext cx="27860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 (CASE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66760" y="3852720"/>
            <a:ext cx="2406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1960" indent="-291960" algn="just">
              <a:lnSpc>
                <a:spcPct val="9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85F46-4F7E-4CCC-B4C8-8AAD3E20B7C0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69720" y="1135080"/>
            <a:ext cx="6551640" cy="119376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          VARCHAR2(16)  PRIMARY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ESIGN_ID        VARCHAR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REVISION_DATE    VARCHAR2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rot="5400000">
            <a:off x="5879520" y="2212560"/>
            <a:ext cx="5245200" cy="2899080"/>
          </a:xfrm>
          <a:custGeom>
            <a:avLst/>
            <a:gdLst>
              <a:gd name="textAreaLeft" fmla="*/ 194040 w 5245200"/>
              <a:gd name="textAreaRight" fmla="*/ 5051160 w 5245200"/>
              <a:gd name="textAreaTop" fmla="*/ 107280 h 2899080"/>
              <a:gd name="textAreaBottom" fmla="*/ 2315520 h 2899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113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 rot="10800000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DRW_NO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구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69-730-34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47760" y="2717640"/>
            <a:ext cx="6805440" cy="3632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lt;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프로그램 코딩으로 해결한  방법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D1 =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132-218-12567845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  <a:ea typeface="굴림체"/>
              </a:rPr>
              <a:t>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: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5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F NOT F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* FROM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DRW_NO = SUSTR(:D1,1,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E3BE-2CBE-43D9-AAA7-0BE7BFF4597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1599480" y="243000"/>
            <a:ext cx="3074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1.  OR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활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97000" y="2163600"/>
            <a:ext cx="4300560" cy="4141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42480" y="2290680"/>
            <a:ext cx="445536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SELECT   *  FROM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도면정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WHERE   ( DRW_NO = SUBSTR( :d1 , 1, 8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9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0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2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3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4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SUBSTR( :d1 , 1, 15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1" i="1" lang="ko-KR" sz="1400" spc="-1" strike="noStrike">
                <a:solidFill>
                  <a:srgbClr val="000000"/>
                </a:solidFill>
                <a:latin typeface="Arial"/>
                <a:ea typeface="돋움"/>
              </a:rPr>
              <a:t>OR          DRW_NO =                  :d1           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Arial"/>
                <a:ea typeface="돋움"/>
              </a:rPr>
              <a:t>AND          ROWNUM  =  1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395960" y="1123920"/>
            <a:ext cx="6090840" cy="5540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33"/>
                </a:solidFill>
                <a:latin typeface="굴림체"/>
                <a:ea typeface="굴림체"/>
              </a:rPr>
              <a:t>EXECUTION 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CONCATE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TABLE  ACCESS  ( BY ROWID ) OF 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도면정보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INDEX  ( UNIQUE SCAN )  OF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r>
              <a:rPr b="1" lang="ko-KR" sz="1400" spc="-1" strike="noStrike">
                <a:solidFill>
                  <a:srgbClr val="000000"/>
                </a:solidFill>
                <a:latin typeface="굴림체"/>
                <a:ea typeface="굴림체"/>
              </a:rPr>
              <a:t> SYS_C001328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체"/>
              </a:rPr>
              <a:t>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6" name=""/>
          <p:cNvGrpSpPr/>
          <p:nvPr/>
        </p:nvGrpSpPr>
        <p:grpSpPr>
          <a:xfrm>
            <a:off x="4202280" y="2733840"/>
            <a:ext cx="1511280" cy="3340080"/>
            <a:chOff x="4202280" y="2733840"/>
            <a:chExt cx="1511280" cy="3340080"/>
          </a:xfrm>
        </p:grpSpPr>
        <p:sp>
          <p:nvSpPr>
            <p:cNvPr id="1267" name=""/>
            <p:cNvSpPr/>
            <p:nvPr/>
          </p:nvSpPr>
          <p:spPr>
            <a:xfrm flipV="1">
              <a:off x="4229280" y="2733840"/>
              <a:ext cx="1469880" cy="2992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214880" y="2824200"/>
              <a:ext cx="1484280" cy="324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14880" y="3201840"/>
              <a:ext cx="1484280" cy="1951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4202280" y="3656160"/>
              <a:ext cx="1511280" cy="1707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3992040" y="395280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901920" y="4064040"/>
            <a:ext cx="8175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Arial"/>
                <a:ea typeface="돋움"/>
              </a:rPr>
              <a:t>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22FC-736A-410D-98B2-B5BB72A2093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60080" y="1330200"/>
            <a:ext cx="1735560" cy="479160"/>
          </a:xfrm>
          <a:prstGeom prst="roundRect">
            <a:avLst>
              <a:gd name="adj" fmla="val 1084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4360" y="243000"/>
            <a:ext cx="571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년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/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월이 분리된 경우에도 인덱스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20" y="1892160"/>
            <a:ext cx="7739280" cy="2022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A.YY || A.MM, DEPT, SUM(SALE_Q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AB_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(A.YY = '94' AND A.MM BETWEEN '10'  AND '12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ff3300"/>
                </a:solidFill>
                <a:latin typeface="굴림체"/>
                <a:ea typeface="굴림체"/>
              </a:rPr>
              <a:t>OR  (A.YY = '95' AND A.MM BETWEEN '01'  AND '04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GROUP BY  A.YY || A.MM, DEPT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D590F-9D88-4CD5-ADD2-5E72453DCE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266760" y="1103400"/>
            <a:ext cx="9820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-206640" y="1606680"/>
            <a:ext cx="10555560" cy="4619880"/>
          </a:xfrm>
          <a:prstGeom prst="roundRect">
            <a:avLst>
              <a:gd name="adj" fmla="val 3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 DC_STUS_ID, INACT_RSN, TOT_AMT_OF_WON, TOT_AMT_OF_DLR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 SELECT  'Z', 'A', SUM(AMT_OF_WON), SUM(AMT_OF_DLR)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CUS_DUTY_AMT), SUM(CONSUM_TAX_AMT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 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DUTY_TOT_AM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CUS_DUTY_TOT_AMT + CONSUM_TAX_TOT_AMT +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 = :BRK_CD  AND  DCL_YEAR = :DCL_YEA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 </a:t>
            </a:r>
            <a:r>
              <a:rPr b="1" lang="ko-KR" sz="1800" spc="-1" strike="noStrike">
                <a:solidFill>
                  <a:srgbClr val="800000"/>
                </a:solidFill>
                <a:latin typeface="굴림체"/>
                <a:ea typeface="굴림체"/>
              </a:rPr>
              <a:t>:DCL_YEAR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B68D9-63A5-4D5D-B528-97A0AF10656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"/>
          <p:cNvSpPr/>
          <p:nvPr/>
        </p:nvSpPr>
        <p:spPr>
          <a:xfrm>
            <a:off x="1843560" y="243000"/>
            <a:ext cx="6402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2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두 개의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UPDATE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문을 하나로 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31720" y="236520"/>
            <a:ext cx="9082080" cy="722844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XEC 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UPDATE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3DM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T  (DC_STUS_ID, INACT_RSN, TOT_AMT_OF_WON, TOT_AMT_OF_DL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 HOLD_DATE,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UTY_TO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 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SELECT  'Z', 'A', TOT_AMT_OF_WON,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CUS_DUTY_TOT_AMT, CONSUM_TAX_TOT_AMT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_DATE(:SYS_DATE, 'YYYYMMDD'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US_DUTY_TOT_AMT + CONSUM_TAX_TOT_AMT + A.LATE_F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(SELECT  SUM(AMT_OF_WON) AS TOT_AMT_OF_W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AMT_OF_DIR) AS TOT_AMT_OF_DL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US_DUTY_AMT) AS CUS_DUTY_TOT_AMT,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SUM(CONSUM_TAX_AMT) AS CONSUM_TAX_TOT_AMT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FROM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BA004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WHERE  BRK_CD = :BRK_C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                      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AND  DCL_YEAR = :DCL_YEAR )</a:t>
            </a:r>
            <a:r>
              <a:rPr b="1" lang="ko-KR" sz="1800" spc="-1" strike="noStrike">
                <a:solidFill>
                  <a:srgbClr val="0099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V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BA003DM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YEAR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RK_CD = :BRK_CD  AND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DCL_CD =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:DCL_YEAR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3C954-131D-4449-B8BD-0AFC47A165D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1673640" y="243000"/>
            <a:ext cx="5910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43080" y="1103400"/>
            <a:ext cx="18475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85800" y="1635120"/>
            <a:ext cx="6330960" cy="6025680"/>
          </a:xfrm>
          <a:prstGeom prst="roundRect">
            <a:avLst>
              <a:gd name="adj" fmla="val 52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CON_CODE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),0), NVL(SUM(DACT_AMT),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AND  (CON_CODE IS NULL OR LENGTH(CON_CODE) = 1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A307-807B-4B14-B3E6-17DFC9F9308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717560" y="228600"/>
            <a:ext cx="81820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3.  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를 활용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SQL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통합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-133200" y="1941480"/>
            <a:ext cx="10631160" cy="3844440"/>
          </a:xfrm>
          <a:prstGeom prst="roundRect">
            <a:avLst>
              <a:gd name="adj" fmla="val 7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NVL(SUM(DACT_MH )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SUM(DACT_AMT)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MH 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CON_CODE, NULL, 0, DACT_AMT)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MH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MH, 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NVL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CON_CODE, NULL, DACT_AMT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</a:t>
            </a:r>
            <a:r>
              <a:rPr b="1" lang="ko-KR" sz="1800" spc="-1" strike="noStrike">
                <a:solidFill>
                  <a:srgbClr val="330099"/>
                </a:solidFill>
                <a:latin typeface="굴림체"/>
                <a:ea typeface="굴림체"/>
              </a:rPr>
              <a:t>DECODE(LENGTH(CON_CODE), 1, DACT_AMT, 0)</a:t>
            </a:r>
            <a:r>
              <a:rPr b="1" lang="ko-KR" sz="1800" spc="-1" strike="noStrike">
                <a:solidFill>
                  <a:srgbClr val="3399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 S_DAY_ACTS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ORDERNO 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ITEMNO  = :B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92040" y="128124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0AD97-A8A8-48E4-9D12-A84DC6D13B3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6760" y="1027080"/>
            <a:ext cx="2089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-220680" y="1407960"/>
            <a:ext cx="9406440" cy="5156280"/>
          </a:xfrm>
          <a:prstGeom prst="roundRect">
            <a:avLst>
              <a:gd name="adj" fmla="val 50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SUM(DECODE(NAPBAN, '1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1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2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DECODE(B.BOKWAN, '3', P.KUMEK2, 0)))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7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GROUP BY  B.TM, M.TAX, M.PUMMO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00cc99"/>
                </a:solidFill>
                <a:latin typeface="굴림체"/>
                <a:ea typeface="굴림체"/>
              </a:rPr>
              <a:t>ORDER BY  B.TM, M.TAX, M.PUMMOK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022B-E0EC-45B3-AA2A-9F5448FAD498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1672920" y="243000"/>
            <a:ext cx="508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34. 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과도한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DECODE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의 사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11360" y="1473120"/>
            <a:ext cx="8523000" cy="5296320"/>
          </a:xfrm>
          <a:prstGeom prst="roundRect">
            <a:avLst>
              <a:gd name="adj" fmla="val 379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B.TM, M.TAX, M.PUMMOK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1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M(DECODE(NAPBAN||B.BOKWAN, '13', P.KUMEK2, 0)),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2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2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SSU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, '3', P.KUMEK1, 0)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1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2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UM(DECODE(NAPBAN||B.BOKWAN, '33', P.KUMEK2, 0)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GGB M, GPM P, MJ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 B.YT = P.YT AND  B.MAEJANG = P.MAEJANG AND  M.CODE = P.PUMM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P.DATE BETWEEN :B1 AND :B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GROUP BY  B.TM, M.TAX, M.PUMMOK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320760" y="1012680"/>
            <a:ext cx="18478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>
              <a:lnSpc>
                <a:spcPct val="12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개선된 </a:t>
            </a: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C418-B62A-4AC8-99AB-A5DD38346B0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31640" y="4714920"/>
            <a:ext cx="4011840" cy="16376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NVL (DEPTNO, ' 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INTO 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E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EMPNO  = 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:B2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89000" y="243000"/>
            <a:ext cx="576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4. BINDING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변수의 인덱스 사용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03400"/>
            <a:ext cx="4097160" cy="38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테이블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인덱스 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EMP :  EMP_EMPNO_PK :  EMP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굴림체"/>
                <a:ea typeface="굴림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84680" y="4886280"/>
            <a:ext cx="5859360" cy="177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600" spc="-1" strike="noStrike">
                <a:solidFill>
                  <a:srgbClr val="cc0000"/>
                </a:solidFill>
                <a:latin typeface="굴림체"/>
                <a:ea typeface="굴림체"/>
              </a:rPr>
              <a:t>ROWS   EXECUTION P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------  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0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SELECT 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13148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TABLE ACCESS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BY ROWID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3300"/>
                </a:solidFill>
                <a:latin typeface="굴림체"/>
                <a:ea typeface="굴림체"/>
              </a:rPr>
              <a:t>13149</a:t>
            </a:r>
            <a:r>
              <a:rPr b="1" lang="ko-KR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     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INDEX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 OF 'EMP_EMPNO_PK' (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UNIQUE</a:t>
            </a:r>
            <a:r>
              <a:rPr b="1" lang="ko-KR" sz="1600" spc="-1" strike="noStrike">
                <a:solidFill>
                  <a:srgbClr val="3333cc"/>
                </a:solidFill>
                <a:latin typeface="굴림체"/>
                <a:ea typeface="굴림체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02360" y="3998880"/>
            <a:ext cx="3268800" cy="951120"/>
          </a:xfrm>
          <a:custGeom>
            <a:avLst/>
            <a:gdLst>
              <a:gd name="textAreaLeft" fmla="*/ 120960 w 3268800"/>
              <a:gd name="textAreaRight" fmla="*/ 3147840 w 3268800"/>
              <a:gd name="textAreaTop" fmla="*/ 34920 h 951120"/>
              <a:gd name="textAreaBottom" fmla="*/ 759600 h 9511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51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1) Dynamic SQL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2)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HOST </a:t>
            </a:r>
            <a:r>
              <a:rPr b="1" lang="ko-KR" sz="1600" spc="-1" strike="noStrike">
                <a:solidFill>
                  <a:srgbClr val="ff0033"/>
                </a:solidFill>
                <a:latin typeface="굴림체"/>
                <a:ea typeface="굴림체"/>
              </a:rPr>
              <a:t>변수</a:t>
            </a:r>
            <a:r>
              <a:rPr b="1" lang="ko-KR" sz="1600" spc="-1" strike="noStrike">
                <a:solidFill>
                  <a:srgbClr val="330099"/>
                </a:solidFill>
                <a:latin typeface="굴림체"/>
                <a:ea typeface="굴림체"/>
              </a:rPr>
              <a:t> 선언에서 주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576080" y="1147680"/>
            <a:ext cx="4117320" cy="1962360"/>
            <a:chOff x="1576080" y="1147680"/>
            <a:chExt cx="4117320" cy="1962360"/>
          </a:xfrm>
        </p:grpSpPr>
        <p:sp>
          <p:nvSpPr>
            <p:cNvPr id="198" name=""/>
            <p:cNvSpPr/>
            <p:nvPr/>
          </p:nvSpPr>
          <p:spPr>
            <a:xfrm>
              <a:off x="1576080" y="1147680"/>
              <a:ext cx="4117320" cy="1962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0" bIns="0" anchor="t">
              <a:spAutoFit/>
            </a:bodyPr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       </a:t>
              </a:r>
              <a:r>
                <a:rPr b="1" lang="ko-KR" sz="2000" spc="-1" strike="noStrike">
                  <a:solidFill>
                    <a:srgbClr val="000000"/>
                  </a:solidFill>
                  <a:latin typeface="Arial"/>
                  <a:ea typeface="굴림체"/>
                </a:rPr>
                <a:t>EM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# * EMPNO    </a:t>
              </a:r>
              <a:r>
                <a:rPr b="1" lang="ko-KR" sz="1600" spc="-1" strike="noStrike">
                  <a:solidFill>
                    <a:srgbClr val="ff0033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ENAME 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2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DEPTNO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VARCHAR2(5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   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(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총 로우 수</a:t>
              </a:r>
              <a:r>
                <a:rPr b="1" lang="ko-KR" sz="1600" spc="-1" strike="noStrike">
                  <a:solidFill>
                    <a:srgbClr val="000000"/>
                  </a:solidFill>
                  <a:latin typeface="굴림체"/>
                  <a:ea typeface="굴림체"/>
                </a:rPr>
                <a:t>:13,148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89160" y="1571760"/>
              <a:ext cx="2890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7A21-7A57-4165-B9EA-B3099E1E98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-695160" y="2751120"/>
            <a:ext cx="11445840" cy="3714840"/>
          </a:xfrm>
          <a:prstGeom prst="roundRect">
            <a:avLst>
              <a:gd name="adj" fmla="val 694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SELECT  INPTIDNO,INPTPKND,INPT,INPTLEVL,INPTMNDR,INPTDEPT,INPTCHRS,PBSCPNM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LOOR(MONTH_BETWEEN(SYSDATE,TO_DATE(PBSCBIRT,'YYMMDD'))/12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PBSCRSEX,PBSCPHNI,CODEDES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FROM  THISCODE  A,  THISPBSC  B,  THISINPT 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WHER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C.INPTCHRS = </a:t>
            </a:r>
            <a:r>
              <a:rPr b="1" lang="ko-KR" sz="1800" spc="-1" strike="noStrike">
                <a:solidFill>
                  <a:srgbClr val="ff0033"/>
                </a:solidFill>
                <a:latin typeface="굴림체"/>
                <a:ea typeface="굴림체"/>
              </a:rPr>
              <a:t>SUBSTR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(</a:t>
            </a:r>
            <a:r>
              <a:rPr b="1" lang="ko-KR" sz="1800" spc="-1" strike="noStrike">
                <a:solidFill>
                  <a:srgbClr val="00cc99"/>
                </a:solidFill>
                <a:latin typeface="굴림체"/>
                <a:ea typeface="굴림체"/>
              </a:rPr>
              <a:t>A.CODENAME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, 1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</a:t>
            </a:r>
            <a:r>
              <a:rPr b="1" lang="ko-KR" sz="18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800" spc="-1" strike="noStrike" u="sng">
                <a:solidFill>
                  <a:srgbClr val="3333cc"/>
                </a:solidFill>
                <a:uFillTx/>
                <a:latin typeface="굴림체"/>
                <a:ea typeface="굴림체"/>
              </a:rPr>
              <a:t>C.INPTDATE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= :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GUBN IN  ('A', 'B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BYBY LIKE  '1%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C.INPTIDNO = B.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AND  </a:t>
            </a:r>
            <a:r>
              <a:rPr b="1" lang="ko-KR" sz="1800" spc="-1" strike="noStrike" u="sng">
                <a:solidFill>
                  <a:srgbClr val="00cc99"/>
                </a:solidFill>
                <a:uFillTx/>
                <a:latin typeface="굴림체"/>
                <a:ea typeface="굴림체"/>
              </a:rPr>
              <a:t>A.CODEGUBN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굴림체"/>
                <a:ea typeface="굴림체"/>
              </a:rPr>
              <a:t> = '11'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42440" y="243000"/>
            <a:ext cx="565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사례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5. </a:t>
            </a:r>
            <a:r>
              <a:rPr b="1" lang="ko-KR" sz="2800" spc="-1" strike="noStrike">
                <a:solidFill>
                  <a:srgbClr val="800000"/>
                </a:solidFill>
                <a:latin typeface="Arial"/>
                <a:ea typeface="돋움체"/>
              </a:rPr>
              <a:t>인덱스 컬럼의 분리에 따른 문제 해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760" y="988920"/>
            <a:ext cx="9728280" cy="179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85840" indent="-285840" algn="just">
              <a:lnSpc>
                <a:spcPct val="13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인덱스정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CODE  A : THISCODE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CODEGUBN + COD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PBSC  B : THISPBSC_PK1 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PBSCID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HISINPT  C : THISINPT_IDX1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: INPTDATE + INPTC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140000"/>
              </a:lnSpc>
              <a:buClr>
                <a:srgbClr val="ff33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6600cc"/>
                </a:solidFill>
                <a:latin typeface="돋움체"/>
                <a:ea typeface="돋움체"/>
              </a:rPr>
              <a:t>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91080" y="4662360"/>
            <a:ext cx="5226120" cy="283032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cc0000"/>
                </a:solidFill>
                <a:latin typeface="굴림체"/>
                <a:ea typeface="굴림체"/>
              </a:rPr>
              <a:t>ROWS  EXECUTION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------ 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0  SELECT  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NESTED 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0      TABLE  ACCESS (BY ROWID)  OF  'THISINP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81       INDEX (RANGE SCAN) OF 'THISINPT_IDX1'(NON-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4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TABLE  ACCESS (BY ROWID)  OF  'THISCODE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 </a:t>
            </a:r>
            <a:r>
              <a:rPr b="1" lang="ko-KR" sz="1200" spc="-1" strike="noStrike">
                <a:solidFill>
                  <a:srgbClr val="ff3300"/>
                </a:solidFill>
                <a:latin typeface="굴림체"/>
                <a:ea typeface="굴림체"/>
              </a:rPr>
              <a:t>3290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    INDEX (</a:t>
            </a:r>
            <a:r>
              <a:rPr b="1" lang="ko-KR" sz="1200" spc="-1" strike="noStrike">
                <a:solidFill>
                  <a:srgbClr val="ff0033"/>
                </a:solidFill>
                <a:latin typeface="굴림체"/>
                <a:ea typeface="굴림체"/>
              </a:rPr>
              <a:t>RANGE SCAN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) OF 'THISCODE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TABLE  ACCESS (BY ROWID)  OF  'THISPBSC'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   </a:t>
            </a:r>
            <a:r>
              <a:rPr b="1" lang="ko-KR" sz="1200" spc="-1" strike="noStrike">
                <a:solidFill>
                  <a:srgbClr val="000000"/>
                </a:solidFill>
                <a:latin typeface="굴림체"/>
                <a:ea typeface="굴림체"/>
              </a:rPr>
              <a:t>40      INDEX (UNIQUE SCAN) OF 'THISPBSC_PK1'(UNIQ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35600" y="3848040"/>
            <a:ext cx="2343240" cy="749520"/>
          </a:xfrm>
          <a:custGeom>
            <a:avLst/>
            <a:gdLst>
              <a:gd name="textAreaLeft" fmla="*/ 86760 w 2343240"/>
              <a:gd name="textAreaRight" fmla="*/ 2256480 w 2343240"/>
              <a:gd name="textAreaTop" fmla="*/ 27720 h 749520"/>
              <a:gd name="textAreaBottom" fmla="*/ 598680 h 74952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3698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Access </a:t>
            </a: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비 효율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0099"/>
                </a:solidFill>
                <a:latin typeface="Arial"/>
                <a:ea typeface="굴림체"/>
              </a:rPr>
              <a:t>발생 부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74600" y="5465880"/>
            <a:ext cx="67860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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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120000"/>
              <a:buFont typeface="Wingdings" charset="2"/>
              <a:buChar char="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 </a:t>
            </a:r>
            <a:r>
              <a:rPr b="1" lang="ko-KR" sz="1700" spc="-1" strike="noStrike">
                <a:solidFill>
                  <a:srgbClr val="3333cc"/>
                </a:solidFill>
                <a:latin typeface="굴림체"/>
                <a:ea typeface="굴림체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3B9A-0A45-4695-97E6-336B4BFAE9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어진수</dc:creator>
  <dc:description/>
  <dc:language>en-US</dc:language>
  <cp:lastModifiedBy>kssong</cp:lastModifiedBy>
  <cp:lastPrinted>1997-11-14T05:28:08Z</cp:lastPrinted>
  <dcterms:modified xsi:type="dcterms:W3CDTF">2001-04-13T00:24:03Z</dcterms:modified>
  <cp:revision>251</cp:revision>
  <dc:subject/>
  <dc:title>슬라이드 제목 없음</dc:title>
</cp:coreProperties>
</file>