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F1C-FC20-414B-9A0A-B155BD1D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B7F-68D2-416A-B35D-264C1AE2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197D-2089-4FC7-93EA-6C8956F2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F3A-FF95-4498-ACEA-8502AB44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BE85-0518-4820-A71F-DAABA19B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73DC-FD62-4C2C-A24E-EB4339C0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C39E-AB4E-4EBB-8C55-B8CDE533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90CF-B650-47FD-9085-52A70659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5A49-1270-4E93-9AE8-C38B41AF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6260-BFD5-4616-A92C-DA1D0E6C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2616-BDE2-46C3-95A4-71037A07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22F-2C51-4B9B-B4F6-EDFF426F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CE75-0F17-427B-8951-2B9F2233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9C49-D88E-4CDF-B548-325330B2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B414-ECE9-44FA-91F6-66E50C8D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000F-18BA-45D7-9610-89DBD3C4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AD79-42B2-4152-ABDD-045A9146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8DB-186A-4D72-8C7E-5A75A611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EEA-41B2-47CD-A798-0CB18589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72C-85C7-425D-AC76-1BB82829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3E9-3412-43E4-A5DD-77A1C48C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D63-BD63-49ED-9070-7752DDF0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43E-7562-44B2-9F55-E9A4ABE0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277-9546-4964-8F8C-7A7B18DE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F74F-7C7C-4FD7-812C-A0CDFA0B981E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C4A0-1D16-4B34-9F8A-B7A2713E7B0D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E4EB-8769-462E-85FB-F1FE08D12E01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F3FF-EF4E-460D-8B42-A6DEB8435514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c.org/" TargetMode="External"/><Relationship Id="rId2" Type="http://schemas.openxmlformats.org/officeDocument/2006/relationships/hyperlink" Target="http://www.toc.org/" TargetMode="External"/><Relationship Id="rId3" Type="http://schemas.openxmlformats.org/officeDocument/2006/relationships/hyperlink" Target="http://www.toc.org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7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하드웨어와 데이터 웨어하우스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C0A-99A0-4931-9F37-4A87306E2CD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F7B78-F1E0-4B92-BC17-23B862F747C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는 데이터베이스의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한 하드웨어에만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을 포함하는 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방형 컴퓨터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0432-F311-478D-B4A1-D3A231E599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3DF5B-22D3-449E-9DB8-79CDE3B2220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titio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테이블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(tupl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수억 건 이상 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과 인덱스 파티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tic partition and hash par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ar que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적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최종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꼭 필요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6B97-A66C-480B-9FD2-C27498693C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1529E-D31C-4248-82CE-68A8DFEE11E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map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빠르고 인덱스 테이블도 작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allel Load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한꺼번에 많은 데이터를 로딩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rtable tabl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시스템의 테이블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에서 바로 데이터베이스에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able Tabl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데이터베이스에 있는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A19A-8927-4F12-AFDC-F94500BBD05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7AFB2-1697-41F1-9A8C-1CC357AAE5D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PC-D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벤치 마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(Transaction Processing Performance Counc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2"/>
              </a:rPr>
              <a:t>tp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3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TPC-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represents a broad range of decision support (DS) applications that require complex, long running queries against large complex data structures. (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Obsolete as of 4/6/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1E2-D50E-48DB-97E5-837CEE66A5D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94480-6247-4037-AF13-559337D0DB7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P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C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n on-line transaction processing benchmark, Version 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H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n ad-hoc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 business reporting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W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 transactional web e-Commerce bench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567-9BE6-4987-82BF-1F9796BC74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83CBA-5E53-4450-B88F-44D3C7A1D78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하드웨어와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-D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벤치마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75C-0DBE-46A6-B235-FCD30B3F90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5EACE-93A8-465A-AFB1-ADD33A8E03B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하드웨어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강력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al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안정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6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i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397-EEB9-48E1-B2AD-144F5DE29E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5BEF3-5E42-4719-AABE-F74C6593307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MP(Symmetric Multi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emo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은 서로 독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에 있는 프로그램과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red bu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통해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공유 버스에서 충돌 현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결방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rossbar switch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하기 편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준에서 로드 분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액세스 시에 충돌이 일어나지 않는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B217-8378-4153-9172-DDF290B6B4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375EA-0B15-42B3-A7B1-5A79F2CBB86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(Massively Parallel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PU-Memory-Dis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한조가 되어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마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베이스가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노드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노드로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node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sh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a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0C6D-1F01-48D8-A0C6-A3D6A01818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7DE45-333E-4B12-9838-A4D8DB0649C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지역성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locality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ocal 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액세스하는 것은 빠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mote disk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액세스는 느리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지역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노드간 데이터의 분산 정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좋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컬 디스크에 있는 데이터를 노드 내부에서 액세스하는 경우가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격 디스크의 데이터를 자주 액세스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내용과 액세스 형태를 고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1D4-D78F-47D1-9F74-3BDE011CB8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65462-865D-4BE2-83F7-82B6EA1E338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NUMA(Non-Uniform Memory Acces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UMA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메모리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그램과 데이터는 동일한 주소 환경에 존재하므로 지역성이 매우 강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나 데이터베이스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럼 하나만 존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376-2754-48E6-B441-3A24F6AEFD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2ECF9-D501-4EC8-97DF-8DBDB8C8144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를 도입할 때 고려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server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의 기능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의 아키텍처만 보고 속단 금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사의 데이터 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pdat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 patter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을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하드웨어를 비교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 선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요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대한 면밀한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안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D63-F7D4-408C-90CF-A92B486AA09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17220-0E3C-4416-BE94-248B87D9308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의 용량 산정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iz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3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14% +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통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시 시간이 많이 걸리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서 주기적으로 일어나는 중요한 프로세서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E1D-C523-4190-8BED-A34280168A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258D0-156C-465E-8BDA-79E427891FF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dwa2007</cp:lastModifiedBy>
  <cp:lastPrinted>1999-09-10T20:38:56Z</cp:lastPrinted>
  <dcterms:modified xsi:type="dcterms:W3CDTF">2009-06-23T07:32:58Z</dcterms:modified>
  <cp:revision>237</cp:revision>
  <dc:subject/>
  <dc:title>제6장 데이터 웨어하우스의 관리</dc:title>
</cp:coreProperties>
</file>