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9F06-7B39-4871-9549-EFACCE1B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CF93-BC43-42E7-AA6C-C10AC092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95DA-1B3B-4B14-974B-2AAE5AE8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3000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0316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3000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0316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A680-BD3E-4ADE-AB6A-1DE9C258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DCCA-BF17-4E73-9B23-94BDF2D1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AD5D-46BB-4760-8F53-5A5D82BF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4610-5147-4ADE-B4FF-71ED93F4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D54C-02B8-4C61-94D6-617614B7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9986-6D46-4964-A432-82E8044C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71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E815-BE68-4CDD-9975-F5E42173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C0B1-7A48-4546-99DF-C34178F8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488B-2E49-4AB4-A2CD-89B69C25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CA07-100B-4E2A-A4D3-339425DD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075F-3E62-40F7-A279-304EF440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B0D6-E89A-4905-9536-C8E4CE35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26EC-EBD7-4B3A-8842-3D3ED742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3000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0316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684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3000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0316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2762-90B0-40BF-8DB8-CF786E22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3717-62F8-4076-8139-F3E70E57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27F8-7D74-4363-89E7-DA55B1FC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97A1-A8C6-46D7-81F4-7E5E9DAE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71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6F1B-082B-493D-A8BA-48A68113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61E1-ADF6-4F55-9389-1C32E033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2407-1CC2-4892-A915-4044CD07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A6A1-E606-433D-9D3C-EA89747C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4400" y="1523880"/>
            <a:ext cx="368280" cy="474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6096-B901-4BD2-AB27-35098F4357EE}" type="datetime3">
              <a:rPr b="0" lang="ko-KR" sz="1200" spc="-1" strike="noStrike">
                <a:solidFill>
                  <a:srgbClr val="ffffff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4286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9559-AF5A-469B-8B09-74F36EB18B89}" type="slidenum">
              <a:rPr b="0" lang="ko-KR" sz="1400" spc="-1" strike="noStrike">
                <a:solidFill>
                  <a:srgbClr val="ffffff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91EE-403F-45D5-A428-754AE5C92605}" type="datetime3"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2692-28F3-4B15-B9CA-20EA17166D27}" type="slidenum"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92320" y="655308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1861-A957-4941-A3FE-35F4EBE2871D}" type="slidenum"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굴림"/>
              </a:rPr>
              <a:t>Data Mining: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굴림"/>
              </a:rPr>
              <a:t>Concepts and Technique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— Slides for Textbook —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 — Chapter 1 —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ahoma"/>
                <a:ea typeface="굴림"/>
              </a:rPr>
              <a:t>©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Jiawei Han and Micheline Kamb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lligent Database Systems Research La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chool of Computing Scie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imon Fraser University, Can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http://www.cs.sfu.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86D0-DA95-47A3-AC8D-62330616FC7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86D62-7A05-4471-B6B7-30EA6B91CD9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rket Analysis and Management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here are the data sources for analysi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redit card transactions, loyalty cards, discount coupons, customer complaint calls, plus (public) lifestyle stud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arget marke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ind clusters of “model” customers who share the same characteristics: interest, income level, spending habit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etermine customer purchasing patterns over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onversion of single to a joint bank account: marriage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ross-market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ssociations/co-relations between product s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ediction based on the association inform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FFA1-6815-40A2-9EBF-C15DB11C62B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A682C-C371-4821-A247-81097A2A660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rket Analysis and Management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ustomer profi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can tell you what types of customers buy what products (clustering or classificati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dentifying customer requir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dentifying the best products for different custom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use prediction to find what factors will attract new custom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Provides summary infor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various multidimensional summary repo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tatistical summary information (data central tendency and variati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7F23-7BCF-4516-AB77-9C1A5109517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A0258-4C55-4264-B3BC-56A7CA5229D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Corporate Analysis and Risk Manag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Finance planning and asset evalu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ash flow analysis and pre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ontingent claim analysis to evaluate asset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ross-sectional and time series analysis (financial-ratio, trend analysis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Resource plann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ummarize and compare the resources and spend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ompeti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onitor competitors and market direction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group customers into classes and a class-based pricing proced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et pricing strategy in a highly competitive mark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2455-9810-4896-A032-697C2F0504B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C3B9D-3C75-4A46-B3D1-3C1A228FC38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Fraud Detection and Management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widely used in health care, retail, credit card services, telecommunications (phone card fraud)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pproa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use historical data to build models of fraudulent behavior and use data mining to help identify similar insta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uto insuranc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detect a group of people who stage accidents to collect on insur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oney launder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detect suspicious money transactions (US Treasury's Financial Crimes Enforcement Network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edical insuranc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detect professional patients and ring of doctors and ring of refer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7941-16B0-4A88-9A6D-A22284012BD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D6FAA7-E2CC-4428-AC23-9E7B0C49523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92468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Fraud Detection and Management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etecting inappropriate medical treat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ustralian Health Insurance Commission identifies that in many cases blanket screening tests were requested  (save Australian $1m/yr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etecting telephone frau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elephone call model: destination of the call, duration, time of day or week.  Analyze patterns that deviate from an expected nor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British Telecom identified discrete groups of callers with frequent intra-group calls, especially mobile phones, and broke a multimillion dollar frau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Reta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nalysts estimate that 38% of retail shrink is due to dishonest employe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54E1-6B79-489F-A55E-A708EF39BFC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0FDEF-2D96-4908-BBEF-984DA1E2378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28800" y="533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Other Applic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po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BM Advanced Scout analyzed NBA game statistics (shots blocked, assists, and fouls) to gain competitive advantage for New York Knicks and Miami He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strono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JPL and the Palomar Observatory discovered 22 quasars with the help of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rnet Web Surf-A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BM Surf-Aid applies data mining algorithms to Web access logs for market-related pages to discover customer preference and behavior pages, analyzing effectiveness of Web marketing, improving Web site organization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9BFC-01AE-4709-B0FA-BAFE0179A5B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ADF9BA-FFD1-426E-B9BF-65925778439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A KDD Proc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: the core of knowledge discovery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219320" y="510516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781680" y="159984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05520" y="2666880"/>
            <a:ext cx="99036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276720" y="373356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556272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563868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59436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9436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601992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6324480"/>
            <a:ext cx="685800" cy="1526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57150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579132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6095880"/>
            <a:ext cx="685800" cy="1526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2760" y="487692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Clea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6240" y="54100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Integ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62485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4114800"/>
            <a:ext cx="19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4572000"/>
            <a:ext cx="685800" cy="68580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3429000"/>
            <a:ext cx="457200" cy="45720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77120" y="1981080"/>
            <a:ext cx="75960" cy="609840"/>
          </a:xfrm>
          <a:prstGeom prst="rect">
            <a:avLst/>
          </a:prstGeom>
          <a:solidFill>
            <a:srgbClr val="ff505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3080" y="2209680"/>
            <a:ext cx="76320" cy="381240"/>
          </a:xfrm>
          <a:prstGeom prst="rect">
            <a:avLst/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2133720"/>
            <a:ext cx="76320" cy="457200"/>
          </a:xfrm>
          <a:prstGeom prst="rect">
            <a:avLst/>
          </a:prstGeom>
          <a:solidFill>
            <a:srgbClr val="00e4a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29400" y="2362320"/>
            <a:ext cx="76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2590920"/>
            <a:ext cx="685800" cy="75960"/>
          </a:xfrm>
          <a:prstGeom prst="rect">
            <a:avLst/>
          </a:prstGeom>
          <a:solidFill>
            <a:srgbClr val="00e4a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362320"/>
            <a:ext cx="152280" cy="228600"/>
          </a:xfrm>
          <a:prstGeom prst="rect">
            <a:avLst/>
          </a:prstGeom>
          <a:solidFill>
            <a:srgbClr val="ff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086600" y="990720"/>
            <a:ext cx="174312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Knowledg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9" name=""/>
          <p:cNvSpPr/>
          <p:nvPr/>
        </p:nvSpPr>
        <p:spPr>
          <a:xfrm>
            <a:off x="2511000" y="3276720"/>
            <a:ext cx="228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Task-relevant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41760" y="405288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Sel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5280" y="2590920"/>
            <a:ext cx="15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imes New Roman"/>
                <a:ea typeface="굴림"/>
              </a:rPr>
              <a:t>Data M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4560" y="1676520"/>
            <a:ext cx="22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attern Eval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124080"/>
            <a:ext cx="0" cy="21337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2057400"/>
            <a:ext cx="0" cy="3200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962160" y="5257800"/>
            <a:ext cx="33526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962520" y="4343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15200" y="5257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286000" y="6095880"/>
            <a:ext cx="502920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1905120" y="5409720"/>
            <a:ext cx="380880" cy="6858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5410080"/>
            <a:ext cx="16002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657600" y="4191120"/>
            <a:ext cx="0" cy="121896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9FAC-EFA0-48E7-ADD1-D2CA127E8C1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EBD56-2122-4D92-B806-97D4AB1A34A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57909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Steps of a KDD Proces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Learning the application domai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relevant prior knowledge and goals of appl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reating a target data set: data sele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Data clean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and preprocessing: (may take 60% of effort!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Data reduction and transform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Find useful features, dimensionality/variable reduction, invariant representa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oosing functions of data min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summarization, classification, regression, association, cluster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oosing the mining algorithm(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Data min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search for patterns of inter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Pattern evaluation and knowledge pres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visualization, transformation, removing redundant pattern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Use of discovered knowle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2551-44A5-4ED2-A53A-7AE2B37760D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563D7-DD84-445A-BCCC-98DE74CB5A6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Data Mining and Business Intelligenc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5029200"/>
          </a:xfrm>
          <a:prstGeom prst="flowChartExtra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586728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5257800"/>
            <a:ext cx="5638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449568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373392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954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33520" y="1447920"/>
            <a:ext cx="0" cy="5029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839080" y="1447920"/>
            <a:ext cx="0" cy="5029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7960" y="1509840"/>
            <a:ext cx="191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Increasing poten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to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business decis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50440" y="195588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End 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54400" y="2946240"/>
            <a:ext cx="94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Busin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Analy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43320" y="3784680"/>
            <a:ext cx="8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Analy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03600" y="56894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D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3960" y="20574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Mak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eci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8680" y="299880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Pres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7440" y="335268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Visualization Techni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71440" y="377208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Mi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2360" y="403848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Information Discov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4572000"/>
            <a:ext cx="1889280" cy="36828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Explo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7280" y="556272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OLAP, M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1240" y="4800600"/>
            <a:ext cx="43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Statistical Analysis, Querying and Repor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8480" y="5257800"/>
            <a:ext cx="32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Warehouses / Data Mar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11680" y="58672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600" y="6095880"/>
            <a:ext cx="60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Paper, Files, Information Providers, Database Systems, OL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6477120"/>
            <a:ext cx="8381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A3E8-48F0-40AD-88B6-040C66C6211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66002-1873-4D23-B7A0-9F9E0FB7F7A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Architecture of a Typical Data Mining Syst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548640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5334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52880" y="6172200"/>
            <a:ext cx="129564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5486400"/>
            <a:ext cx="129564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2880" y="5334120"/>
            <a:ext cx="1295640" cy="30456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556272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57800" y="4038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4038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38098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3276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4120" y="3276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4952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952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5029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cleaning &amp; data 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4952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Filt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617220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48640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334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17220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90920" y="579132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43200" y="4952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4343400"/>
            <a:ext cx="350496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4343400"/>
            <a:ext cx="2667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base or data warehouse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3505320"/>
            <a:ext cx="350532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Data mining 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2666880"/>
            <a:ext cx="3504960" cy="6098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Pattern 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14600" y="1752480"/>
            <a:ext cx="3657600" cy="6098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Graphical user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52680" y="2362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2362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5880" y="2971800"/>
            <a:ext cx="106704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3200400"/>
            <a:ext cx="990720" cy="380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3124080"/>
            <a:ext cx="914400" cy="838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297180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3809880"/>
            <a:ext cx="914400" cy="3812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nowledge-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C7E9-99A3-499F-9790-9C640A48A2E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5D986-D0C7-436B-BCD0-200B4FC040C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Acknowledgem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his work on this set of slides started with my (Han’s) tutorial for UCLA Extension course in February 199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r.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  <a:ea typeface="굴림"/>
              </a:rPr>
              <a:t>Hongjun L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from Hong Kong Univ. of Science and Technology taught jointly with me a Data Mining Summer Course in Shanghai, China in July 1998.  He has contributed many excellent slides to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ome graduate students have contributed many new slides in the following years.  Notable contributors include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  <a:ea typeface="굴림"/>
              </a:rPr>
              <a:t>Eugene Belchev, Jian Pe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, and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  <a:ea typeface="굴림"/>
              </a:rPr>
              <a:t>Osmar R. Zaia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(now teaching in Univ. of Albert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C30D-B1B4-4D0C-A95D-02802B0FE6D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60EEBF-15A5-4149-B94A-8E9A41FEA1D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On What Kind of Data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Relational datab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 wareho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ransactional datab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dvanced DB and information reposito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bject-oriented and object-relational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patial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ime-series data and temporal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ext databases and multimedia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Heterogeneous and legacy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58C8-231D-403A-8D9F-3DE4E46A662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E1ADC-A31A-4565-9CB0-2804FE41046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52120" y="685440"/>
            <a:ext cx="649620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Concept description: Characterization and discrim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Generalize, summarize, and contrast data characteristics, e.g., dry vs. wet reg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ssoci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correlation and causalit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ulti-dimensional vs. single-dimensional associ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ge(X, “20..29”) ^ income(X, “20..29K”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buys(X, “PC”) [support = 2%, confidence = 60%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ontains(T, “computer”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contains(x, “software”) [1%, 75%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1077-AA1D-4190-BBBB-D0B40784759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3C1BD-495C-40DE-B7EE-DEDB9D106D1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39800" y="700200"/>
            <a:ext cx="6664320" cy="63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Classification and Predic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inding models (functions) that describe and distinguish classes or concepts for future pre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.g., classify countries based on climate, or classify cars based on gas mile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esentation: decision-tree, classification rule, neural net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ediction: Predict some unknown or missing numerical valu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Cluster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lass label is unknown: Group data to form new classes, e.g., cluster houses to find distribution patter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lustering based on the principle: maximizing the intra-class similarity and minimizing the interclass simila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2284-9BAC-4EB9-9EDD-38429CF99B7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D21E2-C3EB-4600-90C6-CEEBE00AF3E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39800" y="700200"/>
            <a:ext cx="6664320" cy="63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 (3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utlier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Outlier: a data object that does not comply with the general behavior of the da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It can be considered as noise or exception but is quite useful in fraud detection, rare events analys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rend and evolution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rend and deviation:  regression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equential pattern mining, periodicity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imilarity-based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ther pattern-directed or statistical analy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F03F-E88B-4AEE-8267-90B5ED99DEB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91D6B-F251-472D-9D10-7C67A047DD2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Are All the “Discovered” Patterns Interesting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 data mining system/query may generate thousands of patterns, not all of them are interest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Suggested approach: Human-centered, query-based, focused min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nterestingness measur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A pattern is </a:t>
            </a:r>
            <a:r>
              <a:rPr b="0" lang="en-US" sz="2000" spc="-1" strike="noStrike">
                <a:solidFill>
                  <a:srgbClr val="ff5050"/>
                </a:solidFill>
                <a:latin typeface="Tahoma"/>
                <a:ea typeface="굴림"/>
              </a:rPr>
              <a:t>interest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if it i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easily understoo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by humans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valid on new or test dat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with some degree of certainty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potentially usefu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novel, or validates some hypothesi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that a user seeks to confirm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bjective vs. subjective interestingness measur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bjectiv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based on statistics and structures of patterns, e.g., support, confidence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ubjectiv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based on user’s belief in the data, e.g., unexpectedness, novelty, actionability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BC24-4BCE-4C8C-961B-0BAAB86E0DD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05A08-97AA-46B1-94E0-47760231451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Can We Find All and Only Interesting Pattern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Find all the interesting patterns: Complete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an a data mining system fi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l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the interesting pattern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ssociation vs. classification vs. cluste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earch for only interesting patterns: Optimiz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an a data mining system fi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nl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the interesting pattern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pproach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irst general all the patterns and then filter out the uninteresting o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Generate only the interesting patterns—mining query optimiz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29BC-1486-411A-81E2-7BFF2E81C3F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A674D-304E-456B-9162-B5F9732C026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4678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Confluence of Multiple Discipline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3429000" y="3429000"/>
            <a:ext cx="2209680" cy="914400"/>
          </a:xfrm>
          <a:prstGeom prst="rect">
            <a:avLst/>
          </a:prstGeom>
          <a:solidFill>
            <a:srgbClr val="ffcf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Data M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52480" y="1905120"/>
            <a:ext cx="198144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ba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1905120"/>
            <a:ext cx="198108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tatis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5257800"/>
            <a:ext cx="1981440" cy="76212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iscip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71600" y="5181480"/>
            <a:ext cx="1981080" cy="76212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c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505320"/>
            <a:ext cx="198144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ach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505320"/>
            <a:ext cx="198144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Visual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62320" y="388620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95480" y="2666880"/>
            <a:ext cx="129564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876560" y="2666880"/>
            <a:ext cx="114300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714640" y="388620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5028840" y="4419720"/>
            <a:ext cx="152388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438280" y="4419720"/>
            <a:ext cx="160020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0AF2-DE97-4ED5-9651-68830A6D69D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C3E12-5552-4FC6-A460-E9B635B5F65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Classification Schem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General function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escriptive data min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Predictive data m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Different views, different classif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databases to be mi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knowledge to be discove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techniques utiliz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applications adap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9982-6673-4601-AFA6-00EF4086CE9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BAD52-FDAF-4C55-B2BE-7575D23A752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A Multi-Dimensional View of Data Mining Classific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bases to be mi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Relational, transactional, object-oriented, object-relational, active, spatial, time-series, text, multi-media, heterogeneous, legacy, WWW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Knowledge to be mi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aracterization, discrimination, association, classification, clustering, trend, deviation and outlier analysi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ultiple/integrated functions and mining at multiple leve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echniques utiliz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base-oriented, data warehouse (OLAP), machine learning, statistics, visualization, neural network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pplications adap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Retail, telecommunication, banking, fraud analysis, DNA mining, stock market analysis, Web mining, Weblog analysi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2B3E-1B04-4AFC-808C-921B5143519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783A1-804A-407C-A845-49805532A1C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OLAP Mining: An Integration of Data Mining and Data Warehous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 systems, DBMS, Data warehouse systems coup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No coupling, loose-coupling, semi-tight-coupling, tight-coupl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On-line analytical mining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gration of mining and OLAP technolog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ractive mining multi-level knowle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Necessity of mining knowledge and patterns at different levels of abstraction by drilling/rolling, pivoting, slicing/dicing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gration of multiple mining fun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aracterized classification, first clustering and then associ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E08A-1DBF-4C08-AC7F-D78947CB55F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E2D5F-B8EB-4D6D-8977-867611B15EA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16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CMPT-459-00.3 Course Schedu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1. Introduction {W1:L2, 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2. Data warehousing and OLAP technology for data mining {W2:L1-3, W3:L1-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# 1 distribution (SQLServer7.0+ DBMiner2.0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3. Data preprocessing {W3:L3, W4: L1-L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4. Data mining primitives, languages and system architectures  {W4: L3, W5: L1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#1 due, homework #2 distribu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5. Concept description: Characterization and comparison  {W5: L2, L3, W6: L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W6:L1 Thanksgiving Da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6. Mining association rules in large databases  {W6: L3, W7: L1-3, W8: L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Midterm {W8: L2}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7. Classification and prediction {W8:L3, W9: 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8. Clustering analysis  {W10: 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W10: L3 Homework #2 du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9. Mining complex types of data {W11: L2-L3, W12: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W11:L1 Remembrance Day, W12:L3 Course project du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10. Data mining applications and trends in data mining {W13: 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Final Exam (W14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F11E-8515-40C1-95D8-D4BE08A627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EF9EB-207B-4189-8BDD-CDCA1D52A84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An OLAM Architect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5715000" y="4495680"/>
            <a:ext cx="685800" cy="22860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15000" y="41148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419112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886200"/>
            <a:ext cx="1143000" cy="10666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81080" y="579132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1080" y="5638680"/>
            <a:ext cx="914400" cy="3812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6477120"/>
            <a:ext cx="129564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52880" y="5791320"/>
            <a:ext cx="129564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52880" y="5638680"/>
            <a:ext cx="1295640" cy="30492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76920" y="5867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2720" y="4648320"/>
            <a:ext cx="133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Meta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5268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MDD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4724280" y="4343040"/>
            <a:ext cx="838440" cy="228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1676520"/>
            <a:ext cx="5715000" cy="7596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3505320"/>
            <a:ext cx="5715000" cy="7596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2057400"/>
            <a:ext cx="2514600" cy="10666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OL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2057400"/>
            <a:ext cx="2514600" cy="10666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OL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2362320" y="3657600"/>
            <a:ext cx="91440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2133360" y="3809880"/>
            <a:ext cx="106668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876920" y="3657600"/>
            <a:ext cx="60948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952880" y="365724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0020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3372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5308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243828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74320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2388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0968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1500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7712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1676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User GUI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6680" y="3124080"/>
            <a:ext cx="18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Cube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5181480"/>
            <a:ext cx="5715000" cy="7632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3828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438280" y="4647960"/>
            <a:ext cx="91440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4495320" y="4800600"/>
            <a:ext cx="6858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22640" y="5181480"/>
            <a:ext cx="16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95480" y="6248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61722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1480" y="586728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clea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8120" y="6248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35812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51814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" y="167652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238880" y="205740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OLAP/OL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38880" y="388620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MDD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38880" y="5562720"/>
            <a:ext cx="19051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Reposi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38880" y="83808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User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76920" y="14479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1447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477120" y="11426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52578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Filtering&amp;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62720" y="5257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Filt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6477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66680" y="579132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66680" y="5638680"/>
            <a:ext cx="914400" cy="3812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66680" y="6477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609588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388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23880" y="14479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1447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1523880" y="12952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838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Mining 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10080" y="838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Mining res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095880" y="3657600"/>
            <a:ext cx="228600" cy="457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3CB1-CE63-4EE5-99FA-A15B96AEE7E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A7864-CAC4-4B73-80F5-F02470541C3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ining methodology and user inter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ining different kinds of knowledge in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ractive mining o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knowledge at multiple levels of abstr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corporation of background knowle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query languages and ad-hoc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pression and visualization of data mining resul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andling noise and incomplete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attern evaluation: the interestingness probl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Performance and scal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fficiency and scalability of data mining algorith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arallel, distributed and incremental mining metho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2F0B-6B23-4BDF-9A75-7ED7D24DE59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9BCB7-5578-43F3-9049-6ACDE1FCA67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ssues relating to the diversity of data typ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andling relational and complex types of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ining information from heterogeneous databases and global information systems (WWW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ssues related to applications and social impa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pplication of discovered knowle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omain-specific data mining too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lligent query answe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ocess control and decision mak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gration of the discovered knowledge with existing knowledge: A knowledge fusion probl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otection of data security, integrity, and priva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CBCE-B95D-4E8D-9CE9-AA087CBFFF6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8581C-3126-4038-8B6C-7814B457D34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: discovering interesting patterns from large amounts of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 natural evolution of database technology, in great demand, with wide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 KDD process includes data cleaning, data integration, data selection, transformation, data mining, pattern evaluation, and knowledge pres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ining can be performed in a variety of information reposito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: characterization, discrimination, association, classification, clustering, outlier and trend analysi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lassification of data mining syst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F9AF-163F-4EA3-8B8A-0377D041389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32947-16B8-46DB-B22E-D21DEA06DA7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A Brief History of Data Mining Socie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89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JCAI Workshop on Knowledge Discovery in Databases (Piatetsky-Shapir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Knowledge Discovery in Databases (G. Piatetsky-Shapiro and W. Frawley, 1991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91-1994 Workshops on Knowledge Discovery in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Advances in Knowledge Discovery and Data Mining (U. Fayyad, G. Piatetsky-Shapiro, P. Smyth, and R. Uthurusamy, 1996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95-1998 International Conferences on Knowledge Discovery in Databases and Data Mining (KDD’95-9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Journal of Data Mining and Knowledge Discovery (1997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98 ACM SIGKDD, SIGKDD’1999-2001 conferences, and SIGKDD Explor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ore conferences on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PAKDD, PKDD, SIAM-Data Mining, (IEEE) ICDM, et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BB2-875E-4773-8E14-0AC4EFFC3AB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CB319-577D-4918-8E3D-0A0725EB537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3880" y="68580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Where to Find Reference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 mining and KDD (SIGKDD member CDROM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KDD, and others, such as PKDD, PAKDD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: Data Mining and Knowledge Discove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base field (SIGMOD member CD ROM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ACM-SIGMOD, ACM-PODS, VLDB, ICDE, EDBT, DASFA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ACM-TODS, J. ACM, IEEE-TKDE, JII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I and Machine Learning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Machine learning, AAAI, IJCAI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Machine Learning, Artificial Intelligence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tatistic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Joint Stat. Meeting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Annals of statistic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Visualizatio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CHI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IEEE Trans. visualization and computer graphic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BD39-3297-4ED9-9BCF-62BD5A71B0B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845FF-BAF7-4FD4-AD5E-BDD0D21C896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99760" y="609480"/>
            <a:ext cx="7155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U. M. Fayyad, G. Piatetsky-Shapiro, P. Smyth, and R. Uthurusamy. Advances in Knowledge Discovery and Data Mining. AAAI/MIT Press, 199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J. Han and M. Kamber. Data Mining: Concepts and Techniques. Morgan Kaufmann, 2000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T. Imielinski and H. Mannila. A database perspective on knowledge discovery. Communications of ACM, 39:58-64, 199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G. Piatetsky-Shapiro, U. Fayyad, and P. Smith. From data mining to knowledge discovery: An overview. In U.M. Fayyad, et al. (eds.), Advances in Knowledge Discovery and Data Mining, 1-35. AAAI/MIT Press, 199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G. Piatetsky-Shapiro and W. J. Frawley. Knowledge Discovery in Databases. AAAI/MIT Press, 1991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74D2-0AC7-4104-A4AF-4F4C9BE8125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27949-6171-4052-B52B-3967B713F37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31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굴림"/>
              </a:rPr>
              <a:t>http://www.cs.sfu.ca/~h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54097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"/>
                <a:ea typeface="굴림"/>
              </a:rPr>
              <a:t>Thank you !!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590920" y="1219320"/>
          <a:ext cx="418932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219320"/>
                    <a:ext cx="41893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6831-F0EA-4926-A2F6-169FFB1BE38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1C793-4D1D-47F7-9603-26C4C2440DC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CMPT-843 Course Arrange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1st week: full instructor teac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2nd to 11th week: 1/2 graduate student + 1/2 instructor teac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12-13th week: full student graduate project present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Course evaluati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esentation (quality of presentation slides 7% + presentation 8%) 15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midterm exam 35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oject (presentation 5% + report 25%)  total 30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 (2): 20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Deadline for the selection of your work in the semester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selection of course presentation: at the end of the 1st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selection of the course project: at the end of the 3rd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oject proposal due date: at the end of the 4th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due dates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oject due date: end of the semes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Your presentation slides due date: one day before the present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midterm date: end of the 8th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9E99-9E0D-4D9C-94E1-CD42DC6604A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188F1-29DF-4BEA-999A-61CF829BE1C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Where to Find the Set of Slid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utorial sections (MS PowerPoint files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http://www.cs.sfu.ca/~han/dmbo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Other conference presentation slides (.ppt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ttp://db.cs.sfu.ca/ or http://www.cs.sfu.ca/~h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Research papers, DBMiner system, and other related information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ttp://db.cs.sfu.ca/ or http://www.cs.sfu.ca/~h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290A-53CA-4A60-A13E-F697A82021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946F8-5818-40A4-89DD-AE786CDED66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Chapter 1.  Introdu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otivation: Why data min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hat is data min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: On what kind of dat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re all the patterns interest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lassification of data mining syst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427C-5606-42EA-9181-DD1DB726F3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34DDFE-0988-4DE6-BF79-A195EB0D05E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otivation:  “Necessity is the Mother of Invention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 explosion proble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utomated data collection tools and mature database technology lead to tremendous amounts of data stored in databases, data warehouses and other information repositories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We are drowning in data, but starving for knowledge!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olution: Data warehousing and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Data warehousing and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on-line analytical process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traction of interesting knowledge (rules, regularities,  patterns, constraints) from data in large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54E1-756B-48F5-B521-827BFF66C1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EC6E70-1652-4B1F-8662-472D9C9652C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Evolution of Database Technology</a:t>
            </a: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(See Fig. 1.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ahoma"/>
                <a:ea typeface="굴림"/>
              </a:rPr>
              <a:t>196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collection, database creation, IMS and network DB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1970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Relational data model, relational DBMS implem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1980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RDBMS, advanced data models (extended-relational, OO, deductive, etc.) and application-oriented DBMS (spatial, scientific, engineering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1990s—2000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and data warehousing, multimedia databases, and Web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F230-9B57-4BCF-B872-C5A004627C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E2F29-5B73-479D-997C-44F77004050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8640" y="699840"/>
            <a:ext cx="7507080" cy="80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What Is Data Mining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 (knowledge discovery in databases):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traction of interesting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(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non-trivial,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implicit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previously unknown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potentially useful)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formation or patterns from data i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large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lternative names and their “inside stories”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: a misnomer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Knowledge discovery(mining) in databases (KDD), knowledge extraction, data/pattern analysis, data archeology, data dredging, information harvesting, business intelligence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hat is not data min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(Deductive) query processing.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pert systems or small ML/statistical progra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772400" y="228600"/>
            <a:ext cx="1087560" cy="1174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238880" y="4932360"/>
            <a:ext cx="1905120" cy="13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0B45-585E-48C2-A206-BC2CF01091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AA9C2-675C-4242-A190-5824F823DC4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Why Data Mining? — Potential Applic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base analysis and decision suppo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Market analysis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arget marketing, customer relation management,  market basket analysis, cross selling, market segm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Risk analysis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orecasting, customer retention, improved underwriting, quality control, competitive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Fraud detection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Other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Text mining (news group, email, documents) and Web analys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Intelligent query answer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397C-D55F-47DE-A767-9CE367A103D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860686-AA64-4B95-ADE3-61020D5D601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1T22:01:55Z</dcterms:created>
  <dc:creator>Jiawei Han</dc:creator>
  <dc:description/>
  <dc:language>en-US</dc:language>
  <cp:lastModifiedBy>Jong Soo Park</cp:lastModifiedBy>
  <cp:lastPrinted>2000-06-01T21:00:25Z</cp:lastPrinted>
  <dcterms:modified xsi:type="dcterms:W3CDTF">2002-05-14T02:30:51Z</dcterms:modified>
  <cp:revision>167</cp:revision>
  <dc:subject/>
  <dc:title>Mining Frequent Patterns Without Candidate Generation</dc:title>
</cp:coreProperties>
</file>