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F243-21BB-4705-A9A8-49C326AB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7720" y="380628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3F22-1AAF-4CC9-84FA-58B3E4F7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7700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33BC-9E49-46F0-B2AF-23088E2A8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6868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0000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772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6868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0000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CD44-8D45-4BBF-B4F2-98BF3FA52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0CFE-AFE9-4162-86FD-BEE3EB8E2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7F9B-FCF1-4AB2-81D0-4A725FE4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A594-2A9D-40C9-8350-F2807770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70B6-FDB6-4BA7-8757-6BEF5A49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6AA5-B83C-44C8-8281-E3A86876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762120" y="304920"/>
            <a:ext cx="81532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2883-CF1E-4CEA-B4A6-9B5765AB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1EBA-6289-42AF-A86F-EEAD1FD3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6CEE-4551-48CD-83D9-FFC804F1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7700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FBAC-CF9E-4A9E-B53D-5372525E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362F-4B9F-4E03-9652-0733BED6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837720" y="380628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245A-D998-4DAF-BAE6-976C1742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97700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58DD-034F-42C3-AEE7-6C1196135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6868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30000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83772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6868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30000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1310-05EB-4A21-B265-3D18DC864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2D5C-217B-4BCE-9451-75B48314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A6FB-E524-4D80-A9E0-DDF014BE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ECB5-3CB1-4B39-9B64-40DAF425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762120" y="304920"/>
            <a:ext cx="81532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A4B2-7411-4DC4-9AE9-92CD12D9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C4FE-961A-4D89-925B-06DF18F2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7700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9F0D-0DD6-4042-9F74-2D58F075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C960-0182-4612-8855-79960C1F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33520" y="68580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99072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11430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7621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1430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2666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4190760" y="63244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0354-1E53-4E88-97FC-D968E6B690D9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f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f5f5f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5f5f5f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f5f5f"/>
                </a:solidFill>
                <a:latin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5f5f5f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f5f5f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6394-2025-4601-89AE-8AA35819AAA6}" type="slidenum">
              <a:rPr b="0" lang="ko-KR" sz="1400" spc="-1" strike="noStrike">
                <a:solidFill>
                  <a:srgbClr val="5f5f5f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ccffcc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990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99"/>
                </a:solidFill>
                <a:latin typeface="Arial"/>
              </a:rPr>
              <a:t>데이터 웨어하우스와 </a:t>
            </a:r>
            <a:br>
              <a:rPr sz="4800"/>
            </a:br>
            <a:r>
              <a:rPr b="0" lang="ko-KR" sz="4800" spc="-1" strike="noStrike">
                <a:solidFill>
                  <a:srgbClr val="333399"/>
                </a:solidFill>
                <a:latin typeface="Arial"/>
              </a:rPr>
              <a:t>데이터마이닝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박  종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컴퓨터정보학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성신여자대학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Arial"/>
              </a:rPr>
              <a:t>http://cs.sungshin.ac.kr/~jp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2_2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6781680" cy="5260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통합에 대한 문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221E-C491-4C67-976D-5AC845A0D265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2_3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7543800" cy="4903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의 비휘발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B8CD-F851-46BE-8514-1C0F3DFDCDC7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2_4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391520" cy="4956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의 시간 변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A80D-0CED-44A1-97AC-2E7800DDEEBC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2438280" y="1752120"/>
            <a:ext cx="5715360" cy="4000680"/>
            <a:chOff x="2438280" y="1752120"/>
            <a:chExt cx="5715360" cy="4000680"/>
          </a:xfrm>
        </p:grpSpPr>
        <p:grpSp>
          <p:nvGrpSpPr>
            <p:cNvPr id="124" name=""/>
            <p:cNvGrpSpPr/>
            <p:nvPr/>
          </p:nvGrpSpPr>
          <p:grpSpPr>
            <a:xfrm>
              <a:off x="5638680" y="1752120"/>
              <a:ext cx="2514960" cy="1495440"/>
              <a:chOff x="5638680" y="1752120"/>
              <a:chExt cx="2514960" cy="149544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6552000" y="2666880"/>
                <a:ext cx="686880" cy="580680"/>
                <a:chOff x="6552000" y="2666880"/>
                <a:chExt cx="686880" cy="58068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6553080" y="2666880"/>
                  <a:ext cx="68580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6553080" y="274284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238880" y="274284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29" name=""/>
                <p:cNvCxnSpPr>
                  <a:stCxn id="127" idx="0"/>
                  <a:endCxn id="128" idx="0"/>
                </p:cNvCxnSpPr>
                <p:nvPr/>
              </p:nvCxnSpPr>
              <p:spPr>
                <a:xfrm flipH="1" rot="16200000">
                  <a:off x="6894360" y="2781360"/>
                  <a:ext cx="2160" cy="686520"/>
                </a:xfrm>
                <a:prstGeom prst="curvedConnector5">
                  <a:avLst>
                    <a:gd name="adj1" fmla="val 6880000"/>
                    <a:gd name="adj2" fmla="val 50000"/>
                    <a:gd name="adj3" fmla="val 68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30" name=""/>
              <p:cNvGrpSpPr/>
              <p:nvPr/>
            </p:nvGrpSpPr>
            <p:grpSpPr>
              <a:xfrm>
                <a:off x="5638680" y="1980720"/>
                <a:ext cx="381240" cy="460080"/>
                <a:chOff x="5638680" y="1980720"/>
                <a:chExt cx="381240" cy="460080"/>
              </a:xfrm>
            </p:grpSpPr>
            <p:sp>
              <p:nvSpPr>
                <p:cNvPr id="131" name=""/>
                <p:cNvSpPr/>
                <p:nvPr/>
              </p:nvSpPr>
              <p:spPr>
                <a:xfrm flipV="1">
                  <a:off x="5638680" y="19803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63868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01956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34" name=""/>
                <p:cNvCxnSpPr>
                  <a:stCxn id="132" idx="0"/>
                  <a:endCxn id="133" idx="0"/>
                </p:cNvCxnSpPr>
                <p:nvPr/>
              </p:nvCxnSpPr>
              <p:spPr>
                <a:xfrm flipH="1" rot="16200000">
                  <a:off x="5828400" y="21718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35" name=""/>
              <p:cNvGrpSpPr/>
              <p:nvPr/>
            </p:nvGrpSpPr>
            <p:grpSpPr>
              <a:xfrm>
                <a:off x="7772400" y="1980720"/>
                <a:ext cx="381240" cy="460080"/>
                <a:chOff x="7772400" y="1980720"/>
                <a:chExt cx="381240" cy="460080"/>
              </a:xfrm>
            </p:grpSpPr>
            <p:sp>
              <p:nvSpPr>
                <p:cNvPr id="136" name=""/>
                <p:cNvSpPr/>
                <p:nvPr/>
              </p:nvSpPr>
              <p:spPr>
                <a:xfrm flipV="1">
                  <a:off x="7772400" y="19803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77240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815328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39" name=""/>
                <p:cNvCxnSpPr>
                  <a:stCxn id="137" idx="0"/>
                  <a:endCxn id="138" idx="0"/>
                </p:cNvCxnSpPr>
                <p:nvPr/>
              </p:nvCxnSpPr>
              <p:spPr>
                <a:xfrm flipH="1" rot="16200000">
                  <a:off x="7962120" y="21718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40" name=""/>
              <p:cNvGrpSpPr/>
              <p:nvPr/>
            </p:nvGrpSpPr>
            <p:grpSpPr>
              <a:xfrm>
                <a:off x="6172200" y="1828440"/>
                <a:ext cx="381240" cy="460080"/>
                <a:chOff x="6172200" y="1828440"/>
                <a:chExt cx="381240" cy="460080"/>
              </a:xfrm>
            </p:grpSpPr>
            <p:sp>
              <p:nvSpPr>
                <p:cNvPr id="141" name=""/>
                <p:cNvSpPr/>
                <p:nvPr/>
              </p:nvSpPr>
              <p:spPr>
                <a:xfrm flipV="1">
                  <a:off x="6172200" y="182808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17220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55308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44" name=""/>
                <p:cNvCxnSpPr>
                  <a:stCxn id="142" idx="0"/>
                  <a:endCxn id="143" idx="0"/>
                </p:cNvCxnSpPr>
                <p:nvPr/>
              </p:nvCxnSpPr>
              <p:spPr>
                <a:xfrm flipH="1" rot="16200000">
                  <a:off x="6361920" y="201960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45" name=""/>
              <p:cNvGrpSpPr/>
              <p:nvPr/>
            </p:nvGrpSpPr>
            <p:grpSpPr>
              <a:xfrm>
                <a:off x="6705360" y="1752120"/>
                <a:ext cx="381240" cy="460080"/>
                <a:chOff x="6705360" y="1752120"/>
                <a:chExt cx="381240" cy="460080"/>
              </a:xfrm>
            </p:grpSpPr>
            <p:sp>
              <p:nvSpPr>
                <p:cNvPr id="146" name=""/>
                <p:cNvSpPr/>
                <p:nvPr/>
              </p:nvSpPr>
              <p:spPr>
                <a:xfrm flipV="1">
                  <a:off x="6705360" y="17517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705360" y="18284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086240" y="18284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49" name=""/>
                <p:cNvCxnSpPr>
                  <a:stCxn id="147" idx="0"/>
                  <a:endCxn id="148" idx="0"/>
                </p:cNvCxnSpPr>
                <p:nvPr/>
              </p:nvCxnSpPr>
              <p:spPr>
                <a:xfrm flipH="1" rot="16200000">
                  <a:off x="6895080" y="19432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50" name=""/>
              <p:cNvGrpSpPr/>
              <p:nvPr/>
            </p:nvGrpSpPr>
            <p:grpSpPr>
              <a:xfrm>
                <a:off x="7238880" y="1828440"/>
                <a:ext cx="381240" cy="460080"/>
                <a:chOff x="7238880" y="1828440"/>
                <a:chExt cx="381240" cy="460080"/>
              </a:xfrm>
            </p:grpSpPr>
            <p:sp>
              <p:nvSpPr>
                <p:cNvPr id="151" name=""/>
                <p:cNvSpPr/>
                <p:nvPr/>
              </p:nvSpPr>
              <p:spPr>
                <a:xfrm flipV="1">
                  <a:off x="7238880" y="182808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23888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61976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54" name=""/>
                <p:cNvCxnSpPr>
                  <a:stCxn id="152" idx="0"/>
                  <a:endCxn id="153" idx="0"/>
                </p:cNvCxnSpPr>
                <p:nvPr/>
              </p:nvCxnSpPr>
              <p:spPr>
                <a:xfrm flipH="1" rot="16200000">
                  <a:off x="7428600" y="201960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cxnSp>
            <p:nvCxnSpPr>
              <p:cNvPr id="155" name=""/>
              <p:cNvCxnSpPr>
                <a:stCxn id="133" idx="1"/>
                <a:endCxn id="127" idx="0"/>
              </p:cNvCxnSpPr>
              <p:nvPr/>
            </p:nvCxnSpPr>
            <p:spPr>
              <a:xfrm>
                <a:off x="6019560" y="2361600"/>
                <a:ext cx="534240" cy="38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6" name=""/>
              <p:cNvCxnSpPr>
                <a:stCxn id="148" idx="1"/>
                <a:endCxn id="126" idx="0"/>
              </p:cNvCxnSpPr>
              <p:nvPr/>
            </p:nvCxnSpPr>
            <p:spPr>
              <a:xfrm flipH="1">
                <a:off x="6895440" y="2133360"/>
                <a:ext cx="191160" cy="534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7" name=""/>
              <p:cNvCxnSpPr>
                <a:stCxn id="143" idx="1"/>
                <a:endCxn id="126" idx="1"/>
              </p:cNvCxnSpPr>
              <p:nvPr/>
            </p:nvCxnSpPr>
            <p:spPr>
              <a:xfrm>
                <a:off x="6553080" y="2209680"/>
                <a:ext cx="100800" cy="480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8" name=""/>
              <p:cNvCxnSpPr>
                <a:stCxn id="153" idx="1"/>
                <a:endCxn id="126" idx="7"/>
              </p:cNvCxnSpPr>
              <p:nvPr/>
            </p:nvCxnSpPr>
            <p:spPr>
              <a:xfrm flipH="1">
                <a:off x="7138440" y="2209680"/>
                <a:ext cx="481680" cy="480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9" name=""/>
              <p:cNvCxnSpPr>
                <a:stCxn id="137" idx="1"/>
                <a:endCxn id="128" idx="0"/>
              </p:cNvCxnSpPr>
              <p:nvPr/>
            </p:nvCxnSpPr>
            <p:spPr>
              <a:xfrm flipH="1">
                <a:off x="7238520" y="2361600"/>
                <a:ext cx="534240" cy="38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160" name=""/>
            <p:cNvGrpSpPr/>
            <p:nvPr/>
          </p:nvGrpSpPr>
          <p:grpSpPr>
            <a:xfrm>
              <a:off x="2438280" y="1752120"/>
              <a:ext cx="2514960" cy="1495440"/>
              <a:chOff x="2438280" y="1752120"/>
              <a:chExt cx="2514960" cy="1495440"/>
            </a:xfrm>
          </p:grpSpPr>
          <p:grpSp>
            <p:nvGrpSpPr>
              <p:cNvPr id="161" name=""/>
              <p:cNvGrpSpPr/>
              <p:nvPr/>
            </p:nvGrpSpPr>
            <p:grpSpPr>
              <a:xfrm>
                <a:off x="3351600" y="2666880"/>
                <a:ext cx="686880" cy="580680"/>
                <a:chOff x="3351600" y="2666880"/>
                <a:chExt cx="686880" cy="58068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3352680" y="2666880"/>
                  <a:ext cx="68580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352680" y="274284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038480" y="274284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65" name=""/>
                <p:cNvCxnSpPr>
                  <a:stCxn id="163" idx="0"/>
                  <a:endCxn id="164" idx="0"/>
                </p:cNvCxnSpPr>
                <p:nvPr/>
              </p:nvCxnSpPr>
              <p:spPr>
                <a:xfrm flipH="1" rot="16200000">
                  <a:off x="3693960" y="2781360"/>
                  <a:ext cx="2160" cy="686520"/>
                </a:xfrm>
                <a:prstGeom prst="curvedConnector5">
                  <a:avLst>
                    <a:gd name="adj1" fmla="val 6880000"/>
                    <a:gd name="adj2" fmla="val 50000"/>
                    <a:gd name="adj3" fmla="val 68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66" name=""/>
              <p:cNvGrpSpPr/>
              <p:nvPr/>
            </p:nvGrpSpPr>
            <p:grpSpPr>
              <a:xfrm>
                <a:off x="2438280" y="1980720"/>
                <a:ext cx="381240" cy="460080"/>
                <a:chOff x="2438280" y="1980720"/>
                <a:chExt cx="381240" cy="460080"/>
              </a:xfrm>
            </p:grpSpPr>
            <p:sp>
              <p:nvSpPr>
                <p:cNvPr id="167" name=""/>
                <p:cNvSpPr/>
                <p:nvPr/>
              </p:nvSpPr>
              <p:spPr>
                <a:xfrm flipV="1">
                  <a:off x="2438280" y="19803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43828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81916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70" name=""/>
                <p:cNvCxnSpPr>
                  <a:stCxn id="168" idx="0"/>
                  <a:endCxn id="169" idx="0"/>
                </p:cNvCxnSpPr>
                <p:nvPr/>
              </p:nvCxnSpPr>
              <p:spPr>
                <a:xfrm flipH="1" rot="16200000">
                  <a:off x="2628000" y="21718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71" name=""/>
              <p:cNvGrpSpPr/>
              <p:nvPr/>
            </p:nvGrpSpPr>
            <p:grpSpPr>
              <a:xfrm>
                <a:off x="4572000" y="1980720"/>
                <a:ext cx="381240" cy="460080"/>
                <a:chOff x="4572000" y="1980720"/>
                <a:chExt cx="381240" cy="460080"/>
              </a:xfrm>
            </p:grpSpPr>
            <p:sp>
              <p:nvSpPr>
                <p:cNvPr id="172" name=""/>
                <p:cNvSpPr/>
                <p:nvPr/>
              </p:nvSpPr>
              <p:spPr>
                <a:xfrm flipV="1">
                  <a:off x="4572000" y="19803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57200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95288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75" name=""/>
                <p:cNvCxnSpPr>
                  <a:stCxn id="173" idx="0"/>
                  <a:endCxn id="174" idx="0"/>
                </p:cNvCxnSpPr>
                <p:nvPr/>
              </p:nvCxnSpPr>
              <p:spPr>
                <a:xfrm flipH="1" rot="16200000">
                  <a:off x="4761720" y="21718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76" name=""/>
              <p:cNvGrpSpPr/>
              <p:nvPr/>
            </p:nvGrpSpPr>
            <p:grpSpPr>
              <a:xfrm>
                <a:off x="2971800" y="1828440"/>
                <a:ext cx="381240" cy="460080"/>
                <a:chOff x="2971800" y="1828440"/>
                <a:chExt cx="381240" cy="460080"/>
              </a:xfrm>
            </p:grpSpPr>
            <p:sp>
              <p:nvSpPr>
                <p:cNvPr id="177" name=""/>
                <p:cNvSpPr/>
                <p:nvPr/>
              </p:nvSpPr>
              <p:spPr>
                <a:xfrm flipV="1">
                  <a:off x="2971800" y="182808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97180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35268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80" name=""/>
                <p:cNvCxnSpPr>
                  <a:stCxn id="178" idx="0"/>
                  <a:endCxn id="179" idx="0"/>
                </p:cNvCxnSpPr>
                <p:nvPr/>
              </p:nvCxnSpPr>
              <p:spPr>
                <a:xfrm flipH="1" rot="16200000">
                  <a:off x="3161520" y="201960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81" name=""/>
              <p:cNvGrpSpPr/>
              <p:nvPr/>
            </p:nvGrpSpPr>
            <p:grpSpPr>
              <a:xfrm>
                <a:off x="3504960" y="1752120"/>
                <a:ext cx="381240" cy="460080"/>
                <a:chOff x="3504960" y="1752120"/>
                <a:chExt cx="381240" cy="460080"/>
              </a:xfrm>
            </p:grpSpPr>
            <p:sp>
              <p:nvSpPr>
                <p:cNvPr id="182" name=""/>
                <p:cNvSpPr/>
                <p:nvPr/>
              </p:nvSpPr>
              <p:spPr>
                <a:xfrm flipV="1">
                  <a:off x="3504960" y="17517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504960" y="18284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885840" y="18284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85" name=""/>
                <p:cNvCxnSpPr>
                  <a:stCxn id="183" idx="0"/>
                  <a:endCxn id="184" idx="0"/>
                </p:cNvCxnSpPr>
                <p:nvPr/>
              </p:nvCxnSpPr>
              <p:spPr>
                <a:xfrm flipH="1" rot="16200000">
                  <a:off x="3694680" y="19432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86" name=""/>
              <p:cNvGrpSpPr/>
              <p:nvPr/>
            </p:nvGrpSpPr>
            <p:grpSpPr>
              <a:xfrm>
                <a:off x="4038480" y="1828440"/>
                <a:ext cx="381240" cy="460080"/>
                <a:chOff x="4038480" y="1828440"/>
                <a:chExt cx="381240" cy="460080"/>
              </a:xfrm>
            </p:grpSpPr>
            <p:sp>
              <p:nvSpPr>
                <p:cNvPr id="187" name=""/>
                <p:cNvSpPr/>
                <p:nvPr/>
              </p:nvSpPr>
              <p:spPr>
                <a:xfrm flipV="1">
                  <a:off x="4038480" y="182808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03848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41936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90" name=""/>
                <p:cNvCxnSpPr>
                  <a:stCxn id="188" idx="0"/>
                  <a:endCxn id="189" idx="0"/>
                </p:cNvCxnSpPr>
                <p:nvPr/>
              </p:nvCxnSpPr>
              <p:spPr>
                <a:xfrm flipH="1" rot="16200000">
                  <a:off x="4228200" y="201960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cxnSp>
            <p:nvCxnSpPr>
              <p:cNvPr id="191" name=""/>
              <p:cNvCxnSpPr>
                <a:stCxn id="169" idx="1"/>
                <a:endCxn id="163" idx="0"/>
              </p:cNvCxnSpPr>
              <p:nvPr/>
            </p:nvCxnSpPr>
            <p:spPr>
              <a:xfrm>
                <a:off x="2819160" y="2361600"/>
                <a:ext cx="534240" cy="38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2" name=""/>
              <p:cNvCxnSpPr>
                <a:stCxn id="184" idx="1"/>
                <a:endCxn id="162" idx="0"/>
              </p:cNvCxnSpPr>
              <p:nvPr/>
            </p:nvCxnSpPr>
            <p:spPr>
              <a:xfrm flipH="1">
                <a:off x="3695040" y="2133360"/>
                <a:ext cx="191160" cy="534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3" name=""/>
              <p:cNvCxnSpPr>
                <a:stCxn id="179" idx="1"/>
                <a:endCxn id="162" idx="1"/>
              </p:cNvCxnSpPr>
              <p:nvPr/>
            </p:nvCxnSpPr>
            <p:spPr>
              <a:xfrm>
                <a:off x="3352680" y="2209680"/>
                <a:ext cx="100800" cy="480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4" name=""/>
              <p:cNvCxnSpPr>
                <a:stCxn id="189" idx="1"/>
                <a:endCxn id="162" idx="7"/>
              </p:cNvCxnSpPr>
              <p:nvPr/>
            </p:nvCxnSpPr>
            <p:spPr>
              <a:xfrm flipH="1">
                <a:off x="3938040" y="2209680"/>
                <a:ext cx="481680" cy="480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5" name=""/>
              <p:cNvCxnSpPr>
                <a:stCxn id="173" idx="1"/>
                <a:endCxn id="164" idx="0"/>
              </p:cNvCxnSpPr>
              <p:nvPr/>
            </p:nvCxnSpPr>
            <p:spPr>
              <a:xfrm flipH="1">
                <a:off x="4038120" y="2361600"/>
                <a:ext cx="534240" cy="38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196" name=""/>
            <p:cNvGrpSpPr/>
            <p:nvPr/>
          </p:nvGrpSpPr>
          <p:grpSpPr>
            <a:xfrm>
              <a:off x="3809880" y="3771720"/>
              <a:ext cx="2895480" cy="1981080"/>
              <a:chOff x="3809880" y="3771720"/>
              <a:chExt cx="2895480" cy="1981080"/>
            </a:xfrm>
          </p:grpSpPr>
          <p:sp>
            <p:nvSpPr>
              <p:cNvPr id="197" name=""/>
              <p:cNvSpPr/>
              <p:nvPr/>
            </p:nvSpPr>
            <p:spPr>
              <a:xfrm>
                <a:off x="4267080" y="3771720"/>
                <a:ext cx="175248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267080" y="392400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019560" y="392400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00" name=""/>
              <p:cNvCxnSpPr>
                <a:stCxn id="198" idx="0"/>
                <a:endCxn id="199" idx="0"/>
              </p:cNvCxnSpPr>
              <p:nvPr/>
            </p:nvCxnSpPr>
            <p:spPr>
              <a:xfrm flipH="1" rot="16200000">
                <a:off x="5142600" y="3657960"/>
                <a:ext cx="2160" cy="1753200"/>
              </a:xfrm>
              <a:prstGeom prst="curvedConnector5">
                <a:avLst>
                  <a:gd name="adj1" fmla="val 13380000"/>
                  <a:gd name="adj2" fmla="val 49989"/>
                  <a:gd name="adj3" fmla="val 1338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201" name=""/>
              <p:cNvGrpSpPr/>
              <p:nvPr/>
            </p:nvGrpSpPr>
            <p:grpSpPr>
              <a:xfrm>
                <a:off x="3809880" y="5295600"/>
                <a:ext cx="457200" cy="457200"/>
                <a:chOff x="3809880" y="5295600"/>
                <a:chExt cx="457200" cy="4572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3809880" y="5295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962160" y="567648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4419360" y="5295600"/>
                <a:ext cx="457200" cy="457200"/>
                <a:chOff x="4419360" y="5295600"/>
                <a:chExt cx="457200" cy="45720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4419360" y="5295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571640" y="567648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5029200" y="5295600"/>
                <a:ext cx="457200" cy="457200"/>
                <a:chOff x="5029200" y="5295600"/>
                <a:chExt cx="457200" cy="4572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5029200" y="5295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181480" y="567648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638680" y="5295600"/>
                <a:ext cx="457200" cy="457200"/>
                <a:chOff x="5638680" y="5295600"/>
                <a:chExt cx="457200" cy="4572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5638680" y="5295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790960" y="567648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6248160" y="5295600"/>
                <a:ext cx="457200" cy="457200"/>
                <a:chOff x="6248160" y="5295600"/>
                <a:chExt cx="457200" cy="45720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6248160" y="5295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400440" y="567648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 flipH="1">
                <a:off x="4038120" y="4762440"/>
                <a:ext cx="11430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4647960" y="4762440"/>
                <a:ext cx="5335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181480" y="4762440"/>
                <a:ext cx="763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181480" y="4762440"/>
                <a:ext cx="60948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181480" y="4762440"/>
                <a:ext cx="12193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3733920" y="3238200"/>
              <a:ext cx="12189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333760" y="3238200"/>
              <a:ext cx="15238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307440" y="2971800"/>
            <a:ext cx="911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eta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71600" y="30492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굴림"/>
              </a:rPr>
              <a:t>데이터웨어하우스의 구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238880" y="1143000"/>
            <a:ext cx="17528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thly s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 product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81-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38880" y="2666880"/>
            <a:ext cx="17528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weekly sales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subproduct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1984-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5880" y="3962520"/>
            <a:ext cx="175284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ales d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0-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05720" y="5257800"/>
            <a:ext cx="175248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les d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84-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3962520"/>
            <a:ext cx="99036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2666880"/>
            <a:ext cx="15242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light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summar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(datamar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8120" y="5257800"/>
            <a:ext cx="76176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1905120"/>
            <a:ext cx="152424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mmar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19320" y="5029200"/>
            <a:ext cx="167616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per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438280" y="4419720"/>
            <a:ext cx="21337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7194-7413-48B1-B5F8-12EBCA9A9890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웨어하우스 구축과정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한번에 한 단계씩 설계되고 구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Arial"/>
              </a:rPr>
              <a:t>점증적인 반복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400" spc="-1" strike="noStrike">
                <a:solidFill>
                  <a:srgbClr val="ff0000"/>
                </a:solidFill>
                <a:latin typeface="Arial"/>
              </a:rPr>
              <a:t>과정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을 통해 완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첫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운영 활동 처리를 위한 시스템들만 존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둘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3333cc"/>
                </a:solidFill>
                <a:latin typeface="Arial"/>
              </a:rPr>
              <a:t>DW</a:t>
            </a:r>
            <a:r>
              <a:rPr b="0" lang="ko-KR" sz="2000" spc="-1" strike="noStrike">
                <a:solidFill>
                  <a:srgbClr val="3333cc"/>
                </a:solidFill>
                <a:latin typeface="Arial"/>
              </a:rPr>
              <a:t>의 첫번째 주제영역에 대한 몇몇 테이블 생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셋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더 많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DW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들이 생성되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사용자들도 증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네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DW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가 점점 확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, DW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는 분석적 처리를 위한 데이터 원천으로 인식 시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다섯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부서별 데이터베이스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데이터마트 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OLAP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가 활성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여섯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많은 부서별 시스템이 구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번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아키텍쳐가 완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몇 년은 일반적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일째부터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일째까지의 이동 과정 동안에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DSS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환경이 성숙되고 발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1E59-8677-414D-9077-BF350124549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2_10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400800" cy="53337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데이터웨어하우스 구축과정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1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일 –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일까지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D960-F4D7-4B4C-80E0-42AC62BA052D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웨어하우스 설계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Star Jo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Database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설계에서는 모든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는 같다고 가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DW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에서는 “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는 결코 대등하지 않다”에서 출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Arial"/>
              </a:rPr>
              <a:t>Fact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량의 데이터를 포함하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Jo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의 중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주위의 테이블을 참조할 수 있는 외래키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(foreign key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를 가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Arial"/>
              </a:rPr>
              <a:t>Dimension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주위의 엔터티들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테이블들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스타 조인 생성의 이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DSS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처리 과정에서 데이터를 능률적으로 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데이터를 미리 연결하고 선택적으로 중복 데이터를 생성하여 데이터 액세스와 분석을 더욱 간단하고 효율적으로 할 수 있게 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D66D-D331-45A4-ABA6-C6737C93C99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KDD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Knowledge Discovery in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데이터베이스에서 지식 탐사는 데이터에서 유효하고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귀하고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잠재적으로 유용하고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궁극적으로 이해될 수 있는 </a:t>
            </a:r>
            <a:r>
              <a:rPr b="1" i="1" lang="ko-KR" sz="2000" spc="-1" strike="noStrike">
                <a:solidFill>
                  <a:srgbClr val="ff0000"/>
                </a:solidFill>
                <a:latin typeface="Arial"/>
              </a:rPr>
              <a:t>패턴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을 알아내는 쉽지않은 과정이다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전체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KDD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과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데이터 마이닝 과정의 적용 영역과 목표의 이해를 밝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목적 데이터 집합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(target data set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을 선택하거나 얻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데이터 청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사전처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리고 변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모델 개발과 가설 설정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Arial"/>
              </a:rPr>
              <a:t>적절한 데이터 마이닝 알고리즘의 선택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결과 해석 및 시각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결과 검사 및 검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Arial"/>
              </a:rPr>
              <a:t>발견된 지식을 사용하고 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90DB-B235-45B1-8350-217F5A68EED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82440" y="692280"/>
            <a:ext cx="1282680" cy="749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940440" y="5873760"/>
            <a:ext cx="2044800" cy="596880"/>
          </a:xfrm>
          <a:prstGeom prst="rect">
            <a:avLst/>
          </a:prstGeom>
          <a:solidFill>
            <a:srgbClr val="e8e8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5720" y="760320"/>
            <a:ext cx="1151280" cy="641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돋움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956320" y="1157400"/>
            <a:ext cx="2064240" cy="51912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Target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310440" y="1303200"/>
            <a:ext cx="2382480" cy="945720"/>
          </a:xfrm>
          <a:prstGeom prst="rect">
            <a:avLst/>
          </a:prstGeom>
          <a:solidFill>
            <a:srgbClr val="3333cc"/>
          </a:solidFill>
          <a:ln w="12600">
            <a:solidFill>
              <a:srgbClr val="99ff99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Preproc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54320" y="3665520"/>
            <a:ext cx="2202840" cy="945720"/>
          </a:xfrm>
          <a:prstGeom prst="rect">
            <a:avLst/>
          </a:prstGeom>
          <a:solidFill>
            <a:srgbClr val="33ccff"/>
          </a:solidFill>
          <a:ln w="12600">
            <a:solidFill>
              <a:srgbClr val="00ccff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Transfor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94240" y="3763800"/>
            <a:ext cx="2076480" cy="7020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cc"/>
                </a:solidFill>
                <a:latin typeface="Arial"/>
                <a:ea typeface="돋움"/>
              </a:rPr>
              <a:t>Patter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47920" y="1219320"/>
            <a:ext cx="1371600" cy="1522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011360" y="5867280"/>
            <a:ext cx="194544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  <a:ea typeface="돋움"/>
              </a:rPr>
              <a:t>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81480" y="1523880"/>
            <a:ext cx="990720" cy="30492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361960" y="2438280"/>
            <a:ext cx="5105160" cy="1143000"/>
          </a:xfrm>
          <a:prstGeom prst="line">
            <a:avLst/>
          </a:prstGeom>
          <a:ln w="25560">
            <a:solidFill>
              <a:srgbClr val="0099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33920" y="4191120"/>
            <a:ext cx="1523880" cy="0"/>
          </a:xfrm>
          <a:prstGeom prst="line">
            <a:avLst/>
          </a:prstGeom>
          <a:ln w="50760">
            <a:solidFill>
              <a:srgbClr val="0099ff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4572000"/>
            <a:ext cx="1143000" cy="121932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07320" y="944640"/>
            <a:ext cx="1231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33440" y="944640"/>
            <a:ext cx="1815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Pre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14480" y="2697120"/>
            <a:ext cx="189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Trans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71800" y="3794040"/>
            <a:ext cx="10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305400" y="4754520"/>
            <a:ext cx="1754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Interpretatio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21520" y="60480"/>
            <a:ext cx="7216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Overview of the steps constituting the KDD pro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2ADC-C447-432C-8A94-EF113D140074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ata Mining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관찰된 데이터로 부터 패턴이나 모델의 추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KDD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에서 한 단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데이터 마이닝 작업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(Data Mining Tas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Data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Arial"/>
              </a:rPr>
              <a:t>Clu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Arial"/>
              </a:rPr>
              <a:t>Link Analysis (Associ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Model Visu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Exploratory Data Analysis (E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BF81-FB28-41DF-BF2E-30C37129596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웨어하우스 구축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방법론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의사결정 지원 시스템의 발전과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데이터웨어하우스 환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데이터웨어하우스와 설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데이터웨어하우스의 구체화 정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데이터웨어하우스와 기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KDD and Data M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82ED-83D8-499C-A6D5-568B8B5F5BC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807696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ypes of Data-Mining Problem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77720" y="1715760"/>
            <a:ext cx="3214800" cy="38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ed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S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900240" y="1687680"/>
            <a:ext cx="4870440" cy="45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Knowledge Dis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ation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base 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Clu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Association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m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65B4-0542-4015-8C50-53C885E871F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143360" y="304920"/>
            <a:ext cx="39661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  <a:ea typeface="돋움"/>
              </a:rPr>
              <a:t>Association R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22240" y="1127160"/>
            <a:ext cx="8016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Ex: the statement tha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90% of transactions that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bread and but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 also purch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mil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428480" y="2155680"/>
            <a:ext cx="5956920" cy="458280"/>
            <a:chOff x="1428480" y="2155680"/>
            <a:chExt cx="5956920" cy="458280"/>
          </a:xfrm>
        </p:grpSpPr>
        <p:sp>
          <p:nvSpPr>
            <p:cNvPr id="270" name=""/>
            <p:cNvSpPr/>
            <p:nvPr/>
          </p:nvSpPr>
          <p:spPr>
            <a:xfrm>
              <a:off x="1428480" y="2155680"/>
              <a:ext cx="2323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[</a:t>
              </a:r>
              <a:r>
                <a:rPr b="0" lang="en-US" sz="2400" spc="-1" strike="noStrike">
                  <a:solidFill>
                    <a:srgbClr val="009900"/>
                  </a:solidFill>
                  <a:latin typeface="Arial"/>
                  <a:ea typeface="돋움"/>
                </a:rPr>
                <a:t>Brea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], [</a:t>
              </a:r>
              <a:r>
                <a:rPr b="0" lang="en-US" sz="2400" spc="-1" strike="noStrike">
                  <a:solidFill>
                    <a:srgbClr val="009900"/>
                  </a:solidFill>
                  <a:latin typeface="Arial"/>
                  <a:ea typeface="돋움"/>
                </a:rPr>
                <a:t>Butte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86200" y="238428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54720" y="2155680"/>
              <a:ext cx="28306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[Milk] (12.5%, 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"/>
                  <a:ea typeface="돋움"/>
                </a:rPr>
                <a:t>90%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506240" y="3336840"/>
            <a:ext cx="6507360" cy="1357560"/>
            <a:chOff x="1506240" y="3336840"/>
            <a:chExt cx="6507360" cy="1357560"/>
          </a:xfrm>
        </p:grpSpPr>
        <p:sp>
          <p:nvSpPr>
            <p:cNvPr id="274" name=""/>
            <p:cNvSpPr/>
            <p:nvPr/>
          </p:nvSpPr>
          <p:spPr>
            <a:xfrm>
              <a:off x="1506240" y="3336840"/>
              <a:ext cx="6390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  <a:ea typeface="돋움"/>
                </a:rPr>
                <a:t>90%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 : confidence factor of the rule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돋움"/>
                </a:rPr>
                <a:t>(not 100%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506960" y="3870360"/>
              <a:ext cx="6506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12.5%: support for the rule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the fraction of transactions in data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1886400" y="2697120"/>
            <a:ext cx="1445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돋움"/>
              </a:rPr>
              <a:t>antece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62760" y="2697120"/>
            <a:ext cx="1503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돋움"/>
              </a:rPr>
              <a:t>consequ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66600" y="5089680"/>
            <a:ext cx="6907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Find all rules that have “Diet Coke” as consequ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Find all rules that have “bagels” in the anteced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Find the “best”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 rules that have “bagels” in the consequ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41C0-6A7D-4ADA-B306-58122F66F8AA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81532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연관규칙의 정의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: a set of literals called i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: a set of items such that 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, trans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ssociation rule is an implication of the fo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ere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, 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and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upport, confid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1447920" y="4191120"/>
                <a:ext cx="67053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pport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# of transactions containing all the items in </m:t>
                        </m:r>
                        <m:r>
                          <m:t xml:space="preserve">X</m:t>
                        </m:r>
                        <m:r>
                          <m:t xml:space="preserve">∪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# of transactions in the databas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1447920" y="5105520"/>
                <a:ext cx="62481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fidence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# of transactions that contain both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# of transactions contaning 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10DB-676C-48D8-AA0A-70C55ADD059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Generalized Association Rules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associations between items at any level of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xonom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ople who buy</a:t>
            </a:r>
            <a:r>
              <a:rPr b="1" lang="en-US" sz="18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Arial"/>
              </a:rPr>
              <a:t>clothes</a:t>
            </a:r>
            <a:r>
              <a:rPr b="1" lang="en-US" sz="18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nd to buy shoes. (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ople who buy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uterw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nd to buy shoes. ( o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ople who buy</a:t>
            </a:r>
            <a:r>
              <a:rPr b="1" lang="en-US" sz="18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jack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nd to buy shoes. (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838080" y="3505320"/>
            <a:ext cx="7925040" cy="2743200"/>
            <a:chOff x="838080" y="3505320"/>
            <a:chExt cx="7925040" cy="2743200"/>
          </a:xfrm>
        </p:grpSpPr>
        <p:sp>
          <p:nvSpPr>
            <p:cNvPr id="286" name=""/>
            <p:cNvSpPr/>
            <p:nvPr/>
          </p:nvSpPr>
          <p:spPr>
            <a:xfrm>
              <a:off x="838080" y="3505320"/>
              <a:ext cx="7925040" cy="274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990720" y="3576960"/>
              <a:ext cx="7696080" cy="2418480"/>
              <a:chOff x="990720" y="3576960"/>
              <a:chExt cx="7696080" cy="2418480"/>
            </a:xfrm>
          </p:grpSpPr>
          <p:sp>
            <p:nvSpPr>
              <p:cNvPr id="288" name=""/>
              <p:cNvSpPr/>
              <p:nvPr/>
            </p:nvSpPr>
            <p:spPr>
              <a:xfrm>
                <a:off x="2819520" y="3576960"/>
                <a:ext cx="11430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loth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676520" y="4587480"/>
                <a:ext cx="1523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uterwea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886200" y="4587480"/>
                <a:ext cx="106704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hir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990720" y="5596560"/>
                <a:ext cx="1523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Jacke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971800" y="5596560"/>
                <a:ext cx="152424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ki Pa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105520" y="4587480"/>
                <a:ext cx="9907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ho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782040" y="4587480"/>
                <a:ext cx="190476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iking Boo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867640" y="3647880"/>
                <a:ext cx="1523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Footwea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353040" y="4010040"/>
                <a:ext cx="914400" cy="57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2514240" y="4010040"/>
                <a:ext cx="762120" cy="57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553440" y="4082040"/>
                <a:ext cx="914400" cy="57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5714640" y="4082040"/>
                <a:ext cx="762120" cy="57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514600" y="4948200"/>
                <a:ext cx="914400" cy="57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1676160" y="4948200"/>
                <a:ext cx="762120" cy="57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8087-230D-4622-9861-B9E749A4F38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yclic Association Rule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Beer and chips are sold together primarily </a:t>
            </a:r>
            <a:r>
              <a:rPr b="0" i="1" lang="ko-KR" sz="2800" spc="-1" strike="noStrike">
                <a:solidFill>
                  <a:srgbClr val="ff0000"/>
                </a:solidFill>
                <a:latin typeface="Arial"/>
              </a:rPr>
              <a:t>between 6PM and 9PM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Association rules could also display regular hourly, daily, weekly, etc., variation that has the appearance of cy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ff"/>
                </a:solidFill>
                <a:latin typeface="Arial"/>
              </a:rPr>
              <a:t>An association rule </a:t>
            </a:r>
            <a:r>
              <a:rPr b="0" i="1" lang="ko-KR" sz="2800" spc="-1" strike="noStrike">
                <a:solidFill>
                  <a:srgbClr val="0000ff"/>
                </a:solidFill>
                <a:latin typeface="Arial"/>
              </a:rPr>
              <a:t>X </a:t>
            </a:r>
            <a:r>
              <a:rPr b="0" i="1" lang="ko-KR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i="1" lang="ko-KR" sz="2800" spc="-1" strike="noStrike">
                <a:solidFill>
                  <a:srgbClr val="0000ff"/>
                </a:solidFill>
                <a:latin typeface="Arial"/>
              </a:rPr>
              <a:t> Y</a:t>
            </a:r>
            <a:r>
              <a:rPr b="0" lang="ko-KR" sz="2800" spc="-1" strike="noStrike">
                <a:solidFill>
                  <a:srgbClr val="0000ff"/>
                </a:solidFill>
                <a:latin typeface="Arial"/>
              </a:rPr>
              <a:t> holds in time unit </a:t>
            </a:r>
            <a:r>
              <a:rPr b="0" i="1" lang="ko-KR" sz="28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i="1" lang="ko-KR" sz="28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if the support of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D[i]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exceeds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MinSup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the confidence of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D[i]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exceeds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MinConf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It has a cycle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c = (l, o),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a length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and an offset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33"/>
                </a:solidFill>
                <a:latin typeface="Arial"/>
              </a:rPr>
              <a:t>“</a:t>
            </a:r>
            <a:r>
              <a:rPr b="0" i="1" lang="ko-KR" sz="2800" spc="-1" strike="noStrike">
                <a:solidFill>
                  <a:srgbClr val="ff0033"/>
                </a:solidFill>
                <a:latin typeface="Arial"/>
              </a:rPr>
              <a:t>coffee </a:t>
            </a:r>
            <a:r>
              <a:rPr b="0" i="1" lang="ko-KR" sz="2800" spc="-1" strike="noStrike">
                <a:solidFill>
                  <a:srgbClr val="ff0033"/>
                </a:solidFill>
                <a:latin typeface="Symbol"/>
                <a:ea typeface="Symbol"/>
              </a:rPr>
              <a:t></a:t>
            </a:r>
            <a:r>
              <a:rPr b="0" i="1" lang="ko-KR" sz="2800" spc="-1" strike="noStrike">
                <a:solidFill>
                  <a:srgbClr val="ff0033"/>
                </a:solidFill>
                <a:latin typeface="Arial"/>
              </a:rPr>
              <a:t> doughnuts” </a:t>
            </a:r>
            <a:r>
              <a:rPr b="0" lang="ko-KR" sz="2800" spc="-1" strike="noStrike">
                <a:solidFill>
                  <a:srgbClr val="ff0033"/>
                </a:solidFill>
                <a:latin typeface="Arial"/>
              </a:rPr>
              <a:t>has a cycle (24, 7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if the unit of time is an hour and “coffee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doughnuts” holds during the interval 7AM-8AM everyday (I.e., every 24 hou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80CA-3F5F-48BB-BDA6-50D849BBE9F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hen is Market Basket Analysis useful?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three rules are examples of real rules generated from real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ursda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rocery store consumers often purchas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apers and be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Arial"/>
              </a:rPr>
              <a:t>Useful r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high quality, actionable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s who purchase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aintenance agre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very likely to purchas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arge applia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vial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new hardware store opens, one of the most commonly sold items i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oilet r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explicable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248E-99E2-4179-86BB-1E667E9DC1E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190080"/>
            <a:ext cx="647712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equential Pattern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78483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Examples of patter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Customers typically rent “Star Wars”, then “Empire Strikes Back”, and then “Return of the jedi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Note that these rentals need not to be consecu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수강신청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관광과 여가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(1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학기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) </a:t>
            </a:r>
            <a:r>
              <a:rPr b="0" lang="ko-KR" sz="2400" spc="-1" strike="noStrike">
                <a:solidFill>
                  <a:srgbClr val="ff0033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수도권과 주택문제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(2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학기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) </a:t>
            </a:r>
            <a:r>
              <a:rPr b="0" lang="ko-KR" sz="2400" spc="-1" strike="noStrike">
                <a:solidFill>
                  <a:srgbClr val="ff0033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  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증권시장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(3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학기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주가 변동 패턴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400" spc="-1" strike="noStrike">
                <a:solidFill>
                  <a:srgbClr val="0000ff"/>
                </a:solidFill>
                <a:latin typeface="Arial"/>
              </a:rPr>
              <a:t>삼성전자 주가 상승 </a:t>
            </a:r>
            <a:r>
              <a:rPr b="0" lang="ko-KR" sz="24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0000ff"/>
                </a:solidFill>
                <a:latin typeface="Arial"/>
              </a:rPr>
              <a:t>LG</a:t>
            </a:r>
            <a:r>
              <a:rPr b="0" lang="ko-KR" sz="2400" spc="-1" strike="noStrike">
                <a:solidFill>
                  <a:srgbClr val="0000ff"/>
                </a:solidFill>
                <a:latin typeface="Arial"/>
              </a:rPr>
              <a:t>전자 주가 상승 </a:t>
            </a:r>
            <a:r>
              <a:rPr b="0" lang="ko-KR" sz="24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ff"/>
                </a:solidFill>
                <a:latin typeface="Arial"/>
              </a:rPr>
              <a:t> 보해양조 주가 상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구매패턴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양복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와이셔츠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 검정색 구두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의료진단에서 질병 발생 순서 패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환자 치료에서 진료 및 투약 패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F2CD-5D51-40D9-A2B0-F178011BB75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ining Path Traversal Pattern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Understanding </a:t>
            </a:r>
            <a:r>
              <a:rPr b="0" lang="ko-KR" sz="2800" spc="-1" strike="noStrike">
                <a:solidFill>
                  <a:srgbClr val="0000ff"/>
                </a:solidFill>
                <a:latin typeface="Arial"/>
              </a:rPr>
              <a:t>user access patterns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in a </a:t>
            </a:r>
            <a:r>
              <a:rPr b="0" lang="ko-KR" sz="2800" spc="-1" strike="noStrike">
                <a:solidFill>
                  <a:srgbClr val="ff0066"/>
                </a:solidFill>
                <a:latin typeface="Arial"/>
              </a:rPr>
              <a:t>distributed information providing environment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such as WWW, Hitel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help improving the system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lead to better marke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Capturing user access patterns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mining path traversal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capturing user traveling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improving the quality of such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63B4-78E5-46DF-AAC9-18EAC3E0A27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044960" y="76824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11240" y="526428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97040" y="404496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5960" y="404496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01960" y="282564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01760" y="282564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50080" y="282564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940440" y="282564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16160" y="183528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54640" y="183528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59160" y="526428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2514240" y="990720"/>
            <a:ext cx="15238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838080" y="3200400"/>
            <a:ext cx="609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2742840" y="3200400"/>
            <a:ext cx="3049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2133360" y="4343400"/>
            <a:ext cx="53316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95480" y="4343400"/>
            <a:ext cx="60984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990720"/>
            <a:ext cx="190476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6171840" y="2133720"/>
            <a:ext cx="152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553080" y="213372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514600" y="213372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447920" y="2057400"/>
            <a:ext cx="7617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193840" y="1828800"/>
            <a:ext cx="387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79440" y="2803680"/>
            <a:ext cx="32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3640" y="402264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79640" y="28036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74000" y="402264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89280" y="5241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336120" y="524196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231600" y="18129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927760" y="28036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18480" y="28036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22640" y="7462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2514240" y="838080"/>
            <a:ext cx="1219320" cy="76212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1371240" y="1981080"/>
            <a:ext cx="609480" cy="60984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533160" y="3048120"/>
            <a:ext cx="533160" cy="83808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1143000" y="3352320"/>
            <a:ext cx="609480" cy="83844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1828800" y="2361960"/>
            <a:ext cx="457200" cy="6094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2590920" y="3200400"/>
            <a:ext cx="304560" cy="76212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2057400" y="4267080"/>
            <a:ext cx="457200" cy="83844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362320" y="4572000"/>
            <a:ext cx="304560" cy="91440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00760" y="-2819160"/>
            <a:ext cx="1065960" cy="8076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ff"/>
            </a:solidFill>
            <a:custDash>
              <a:ds d="499000" sp="20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95680" y="838080"/>
            <a:ext cx="1828800" cy="91440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019560" y="2133720"/>
            <a:ext cx="152280" cy="60948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6400800" y="2285640"/>
            <a:ext cx="0" cy="68580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705720" y="2133720"/>
            <a:ext cx="457200" cy="60948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955960" y="746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584360" y="18129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93640" y="3032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432080" y="36417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41560" y="25750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032280" y="21178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666880" y="2057400"/>
            <a:ext cx="533520" cy="68580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422440" y="31845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65240" y="42512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422440" y="49370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48120" y="4267080"/>
            <a:ext cx="533160" cy="91440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84560" y="4327560"/>
            <a:ext cx="701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75280" y="303228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41960" y="89856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699160" y="204156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08640" y="2514600"/>
            <a:ext cx="54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cc"/>
                </a:solidFill>
                <a:latin typeface="Arial"/>
                <a:ea typeface="돋움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42160" y="211788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26120" y="4602240"/>
            <a:ext cx="4548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  <a:ea typeface="돋움"/>
              </a:rPr>
              <a:t>Maximal forward re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{ABCD, ABEGH, ABEGW, AOU, AOV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95640" y="152280"/>
            <a:ext cx="2827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돋움"/>
              </a:rPr>
              <a:t>Traversal patt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73360" y="5973840"/>
            <a:ext cx="4502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2. Find maximal reference seque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74080" y="5592600"/>
            <a:ext cx="4121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1. Find large reference seque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703A-386E-4887-9CD1-EB9614571E36}" type="slidenum">
              <a:t>2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의사결정지원 시스템의 발전과정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아키텍쳐 환경의 발전 단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6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년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 files,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ts of master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년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SD (Direct Access Storage Device) &amp; DB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, high-performance transaction processing (OLT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년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s, 4GL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 processing &amp; MIS/D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년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M(Data Mining) &amp; DW(Data Warehous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CC98-8F60-46CA-9C3F-91E70181FB4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1_5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6248160" cy="52070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거미줄 구조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(The Spider Web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78E1-0EF8-4794-A287-5AC1147B5568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가지 수준의 아키텍쳐 환경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운영 수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perational le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ailed, day to day, current valued, high probability of access, application ori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원자 또는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데이터웨어하우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수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tomic or DW le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granular, time variant, integrated, subject oriented, some 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부서 수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partmental le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ochial, some derived; some primitive, typical departments(accounting, marketing, actuari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개인 수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dividual le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ry, ad hoc, heuristic, non-repetitive, PC or workstation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7837-BDBF-4521-8DEA-79E94472ABD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1_11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8458200" cy="5234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evels of the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F63C-F970-4C32-A7F1-8FFA0BA81D49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W SDLC (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시스템 개발 생명 주기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stem development life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DS(SDLC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의 반대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라고도 부른다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 ware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for b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agains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DS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Understand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6025-9CB3-425B-8AE8-56771BF9F63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웨어하우스의 환경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467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데이터웨어하우스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ff0000"/>
                </a:solidFill>
                <a:latin typeface="Arial"/>
              </a:rPr>
              <a:t>관리자의 의사결정을 지원하기 위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주제중심의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(subject oriented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통합된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(integrated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비휘발성의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(nonvolatile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시간변이적인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(time varia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ff0000"/>
                </a:solidFill>
                <a:latin typeface="Arial"/>
              </a:rPr>
              <a:t>데이터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800" spc="-1" strike="noStrike">
                <a:solidFill>
                  <a:srgbClr val="ff0000"/>
                </a:solidFill>
                <a:latin typeface="Arial"/>
              </a:rPr>
              <a:t>집합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이다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2288-7619-492D-B7D4-508CC8FD30F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2_1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553080" cy="5178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의 주제중심의 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06EE-4A1A-4476-8216-4E5211444BBA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2T11:14:05Z</dcterms:created>
  <dc:creator>박종수</dc:creator>
  <dc:description/>
  <dc:language>en-US</dc:language>
  <cp:lastModifiedBy>Jong Soo Park</cp:lastModifiedBy>
  <dcterms:modified xsi:type="dcterms:W3CDTF">2002-05-14T02:32:52Z</dcterms:modified>
  <cp:revision>42</cp:revision>
  <dc:subject/>
  <dc:title>DB와 DM 설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EncodingType">
    <vt:r8>-99</vt:r8>
  </property>
  <property fmtid="{D5CDD505-2E9C-101B-9397-08002B2CF9AE}" pid="8" name="GraphicType">
    <vt:r8>2</vt:r8>
  </property>
  <property fmtid="{D5CDD505-2E9C-101B-9397-08002B2CF9AE}" pid="9" name="HomePage">
    <vt:lpwstr/>
  </property>
  <property fmtid="{D5CDD505-2E9C-101B-9397-08002B2CF9AE}" pid="10" name="LinkColor">
    <vt:r8>16711782</vt:r8>
  </property>
  <property fmtid="{D5CDD505-2E9C-101B-9397-08002B2CF9AE}" pid="11" name="MailAddress">
    <vt:lpwstr>jmlee@hansung.ac.kr</vt:lpwstr>
  </property>
  <property fmtid="{D5CDD505-2E9C-101B-9397-08002B2CF9AE}" pid="12" name="NavBtnPos">
    <vt:r8>4</vt:r8>
  </property>
  <property fmtid="{D5CDD505-2E9C-101B-9397-08002B2CF9AE}" pid="13" name="Other">
    <vt:lpwstr/>
  </property>
  <property fmtid="{D5CDD505-2E9C-101B-9397-08002B2CF9AE}" pid="14" name="OutputDir">
    <vt:lpwstr>D:\jmlee\2000\lecture\db</vt:lpwstr>
  </property>
  <property fmtid="{D5CDD505-2E9C-101B-9397-08002B2CF9AE}" pid="15" name="ScreenSize">
    <vt:r8>3</vt:r8>
  </property>
  <property fmtid="{D5CDD505-2E9C-101B-9397-08002B2CF9AE}" pid="16" name="ScreenUsage">
    <vt:r8>2</vt:r8>
  </property>
  <property fmtid="{D5CDD505-2E9C-101B-9397-08002B2CF9AE}" pid="17" name="ShowNotes">
    <vt:bool>0</vt:bool>
  </property>
  <property fmtid="{D5CDD505-2E9C-101B-9397-08002B2CF9AE}" pid="18" name="TemplateType">
    <vt:r8>1</vt:r8>
  </property>
  <property fmtid="{D5CDD505-2E9C-101B-9397-08002B2CF9AE}" pid="19" name="TextColor">
    <vt:r8>0</vt:r8>
  </property>
  <property fmtid="{D5CDD505-2E9C-101B-9397-08002B2CF9AE}" pid="20" name="TransparentButton">
    <vt:r8>0</vt:r8>
  </property>
  <property fmtid="{D5CDD505-2E9C-101B-9397-08002B2CF9AE}" pid="21" name="UseBrowserColor">
    <vt:bool>1</vt:bool>
  </property>
  <property fmtid="{D5CDD505-2E9C-101B-9397-08002B2CF9AE}" pid="22" name="VisitedColor">
    <vt:r8>10040268</vt:r8>
  </property>
</Properties>
</file>