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9D86-027E-4564-AC9F-380973CE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1C2-F54C-4317-B37E-02D2F822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7AB8-4C7E-485C-912B-14B8AD37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1F6-BFB6-4D0E-A429-848AA4D8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7E14-73FF-4F83-B1E9-E047B192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9660-9825-4335-A402-A2636680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3571-E7F6-41EC-9E63-644EBF95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AB7E-AE7D-4997-8792-EB838468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5C88-8671-4BCB-89A4-F8288E14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4FBA-91D3-4D80-AFC5-470771C7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5D44-1E80-468F-BC5A-DB2A9C31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238-C634-4CE5-8A7F-09C07EB3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DA38-3551-445A-8ADD-0CA0FA45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1662-A771-4FD0-A03F-9AB071D9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3E27-2987-48BA-91D9-81E5853A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A24D-2762-4B0A-ABFA-35CF4F44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8F5B-7AFA-4F56-9099-97C93FF6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360-EF2B-4E2F-9C15-2DCD35E1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B816-8B4D-4BD7-AED0-CA29F6C8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A942-4249-47D7-8A51-630C5ECA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8C4-8C41-409F-A98C-D7112311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C295-6E5B-4251-9232-DA4954A4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CA0-12D2-430D-90C6-A2682AF2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C9E-285D-40DE-86BE-E117CF68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AB4A-76F3-45C3-B0B5-15B19A30B332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C5AD-D4C0-4FA8-85DA-BC8125BAD084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8040-30BD-45A1-8721-E3D09BA93243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EF24-D19E-46E5-BCC9-5BE485F3246C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개발 전략 </a:t>
            </a:r>
            <a:br>
              <a:rPr sz="54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 —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hapter 4 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Engineering L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ool of Computing Science and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ngshin Women’s University, Ko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FC6-74FE-43D2-97F6-8A1CEF49BFE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3727D-AC20-4401-9834-F24051FFB9E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조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그림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-4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핵심 구성 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변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응용 프로그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관리 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 의사 결정 지원 도구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 works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F61-469D-498A-B87F-8A42390FD7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FA2AE-BBD2-4258-9272-1153CF972D1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술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기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플랫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 관련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ol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건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기술이 데이터 웨어하우징에 적합한지를 확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술 범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 action="ppaction://hlinksldjump"/>
              </a:rPr>
              <a:t>그림 4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술 플랫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드웨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프트웨어 그리고 통신 네트워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련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산성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 의사 결정 지원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185-80CB-4C3F-895E-B1A91DB4EC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7EB7A-4AF5-4E72-9F07-6755E1BEF765}" type="datetime3">
              <a:rPr lang="en-US"/>
              <a:t>July 31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1523880"/>
          <a:ext cx="8381880" cy="5024520"/>
        </p:xfrm>
        <a:graphic>
          <a:graphicData uri="http://schemas.openxmlformats.org/drawingml/2006/table">
            <a:tbl>
              <a:tblPr/>
              <a:tblGrid>
                <a:gridCol w="2057040"/>
                <a:gridCol w="2667240"/>
                <a:gridCol w="1752480"/>
                <a:gridCol w="1905120"/>
              </a:tblGrid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플랫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스 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최종 사용자 도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서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모델링과 데이터베이스의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특별조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저장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운영체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리엔니지니어링과 클리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관리조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DB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추출과 변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다차원 분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응용프로그램 서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운영과 성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마이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네트워크 프로토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의사결정지원 응용프로그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워크스테이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시스템 유틸리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447920" y="457200"/>
            <a:ext cx="6476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 action="ppaction://hlinksldjump"/>
              </a:rPr>
              <a:t>그림 4-5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술 범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B5E-D307-4BCD-BC6E-2A8079AF226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29528-6031-41B2-9E54-A2D80CF8530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5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조직체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을 조직체 내의 배치 위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 시스템 조직과 업무 사용자 조직의 역할과 책임 명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4-6 :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데이터 웨어하우징 팀의 역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적 구성 수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숙련 기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정보 자원 관리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RM: information resource manage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업무 사용자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처리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응용 프로그램 시스템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술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2B89-C9C5-4971-9CC3-FE7A3B3706F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7868F-D30E-4924-BE11-55DE20947AD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3880" y="8380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6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의 역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447920"/>
          <a:ext cx="8076960" cy="4749840"/>
        </p:xfrm>
        <a:graphic>
          <a:graphicData uri="http://schemas.openxmlformats.org/drawingml/2006/table">
            <a:tbl>
              <a:tblPr/>
              <a:tblGrid>
                <a:gridCol w="2438280"/>
                <a:gridCol w="563868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역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주요 책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스 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전략 수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계획 및 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징 목표 전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구축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업 데이터 모델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요건 분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징 데이터 구조 설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데이터 시각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저장소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표준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저장소 및 사용자 디렉토리 관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베이스 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물리적 데이터베이스 구조 작성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적재 감시 및  조회 수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25B-9B02-47B7-A46E-301F4C1D0F6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72451-4130-4C3B-BDF4-D1167BD500E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838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6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의 역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계속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1447920"/>
          <a:ext cx="8076960" cy="5043240"/>
        </p:xfrm>
        <a:graphic>
          <a:graphicData uri="http://schemas.openxmlformats.org/drawingml/2006/table">
            <a:tbl>
              <a:tblPr/>
              <a:tblGrid>
                <a:gridCol w="2438280"/>
                <a:gridCol w="5638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역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주요 책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사용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설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규칙 지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변환 결과 시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응용프로그램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처리분석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의사 결정 지원 응용 프로그램 개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응용프로그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시스템전문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존 시스템 데이터의 정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변환분석가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프로그래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 데이터와 데이터 웨어하우스의 대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를 선택 및 적재할 프로그램 작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술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도구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술 구성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교육 전문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접근에 관한 교육 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생산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 시스템 작업 진행 및 데이터 웨어하우징 적재 감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EC2-1032-400A-A04E-287772CE646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C0165-25DE-4CA5-929B-BE2D136788A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6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발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환경을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작업 세분화 구조와 작업 계획의 근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반복적인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소한의 일련의 데이터를 시작으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가적인 데이터가 연속적으로 반복해서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7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FF26-EA0A-4C0D-8B61-369CA8092BA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862AB-262C-4ADC-9DF6-563D005CCB7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09680" y="20574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운영 환경 수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6002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프로젝트 착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5146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기업정보 구조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3048120"/>
            <a:ext cx="1676520" cy="47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데이터베이스 설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4290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데이터 변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26708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4724280"/>
            <a:ext cx="198108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 인터페이스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52578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생산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5410080"/>
            <a:ext cx="16765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도구 및 응용 프로그램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5867280"/>
            <a:ext cx="16765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및 롤아웃 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838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7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개발 과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676520" y="2209680"/>
            <a:ext cx="533160" cy="228600"/>
            <a:chOff x="1676520" y="2209680"/>
            <a:chExt cx="533160" cy="228600"/>
          </a:xfrm>
        </p:grpSpPr>
        <p:sp>
          <p:nvSpPr>
            <p:cNvPr id="142" name=""/>
            <p:cNvSpPr/>
            <p:nvPr/>
          </p:nvSpPr>
          <p:spPr>
            <a:xfrm>
              <a:off x="1676520" y="2438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895480" y="2666880"/>
            <a:ext cx="533160" cy="228600"/>
            <a:chOff x="2895480" y="2666880"/>
            <a:chExt cx="533160" cy="228600"/>
          </a:xfrm>
        </p:grpSpPr>
        <p:sp>
          <p:nvSpPr>
            <p:cNvPr id="145" name=""/>
            <p:cNvSpPr/>
            <p:nvPr/>
          </p:nvSpPr>
          <p:spPr>
            <a:xfrm>
              <a:off x="2895480" y="2895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95480" y="266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124080"/>
            <a:ext cx="533160" cy="228600"/>
            <a:chOff x="4191120" y="3124080"/>
            <a:chExt cx="533160" cy="228600"/>
          </a:xfrm>
        </p:grpSpPr>
        <p:sp>
          <p:nvSpPr>
            <p:cNvPr id="148" name=""/>
            <p:cNvSpPr/>
            <p:nvPr/>
          </p:nvSpPr>
          <p:spPr>
            <a:xfrm>
              <a:off x="4191120" y="33526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91120" y="3124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533160" cy="228600"/>
            <a:chOff x="5791320" y="3505320"/>
            <a:chExt cx="533160" cy="228600"/>
          </a:xfrm>
        </p:grpSpPr>
        <p:sp>
          <p:nvSpPr>
            <p:cNvPr id="151" name=""/>
            <p:cNvSpPr/>
            <p:nvPr/>
          </p:nvSpPr>
          <p:spPr>
            <a:xfrm>
              <a:off x="5791320" y="37339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132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362320" y="4038480"/>
            <a:ext cx="4419360" cy="381240"/>
            <a:chOff x="2362320" y="4038480"/>
            <a:chExt cx="4419360" cy="381240"/>
          </a:xfrm>
        </p:grpSpPr>
        <p:sp>
          <p:nvSpPr>
            <p:cNvPr id="154" name=""/>
            <p:cNvSpPr/>
            <p:nvPr/>
          </p:nvSpPr>
          <p:spPr>
            <a:xfrm flipH="1">
              <a:off x="2362320" y="441972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816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752480" y="4876920"/>
            <a:ext cx="533160" cy="228600"/>
            <a:chOff x="1752480" y="4876920"/>
            <a:chExt cx="533160" cy="228600"/>
          </a:xfrm>
        </p:grpSpPr>
        <p:sp>
          <p:nvSpPr>
            <p:cNvPr id="157" name=""/>
            <p:cNvSpPr/>
            <p:nvPr/>
          </p:nvSpPr>
          <p:spPr>
            <a:xfrm>
              <a:off x="1752480" y="5105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876920" y="5638680"/>
            <a:ext cx="533160" cy="228600"/>
            <a:chOff x="4876920" y="5638680"/>
            <a:chExt cx="533160" cy="228600"/>
          </a:xfrm>
        </p:grpSpPr>
        <p:sp>
          <p:nvSpPr>
            <p:cNvPr id="160" name=""/>
            <p:cNvSpPr/>
            <p:nvPr/>
          </p:nvSpPr>
          <p:spPr>
            <a:xfrm>
              <a:off x="4876920" y="5867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76920" y="5638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81280" y="5334120"/>
            <a:ext cx="533160" cy="228600"/>
            <a:chOff x="3581280" y="5334120"/>
            <a:chExt cx="533160" cy="228600"/>
          </a:xfrm>
        </p:grpSpPr>
        <p:sp>
          <p:nvSpPr>
            <p:cNvPr id="163" name=""/>
            <p:cNvSpPr/>
            <p:nvPr/>
          </p:nvSpPr>
          <p:spPr>
            <a:xfrm>
              <a:off x="3581280" y="55627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1280" y="5334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77120" y="6019920"/>
            <a:ext cx="533160" cy="228600"/>
            <a:chOff x="6477120" y="6019920"/>
            <a:chExt cx="533160" cy="228600"/>
          </a:xfrm>
        </p:grpSpPr>
        <p:sp>
          <p:nvSpPr>
            <p:cNvPr id="166" name=""/>
            <p:cNvSpPr/>
            <p:nvPr/>
          </p:nvSpPr>
          <p:spPr>
            <a:xfrm>
              <a:off x="6477120" y="6248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77120" y="6019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CDE-FB67-4F0D-984D-7B5F9D0AB0A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35504-932F-4B46-AEE2-C85DBB64E6A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발 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에 알맞은 구현 및 개발 순서 제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반복적이며 단계 지향적인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전환과 제거에 대한 논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현 순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교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9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10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은 제거되었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A07-B6BC-4A90-A49F-3FECB1AAE20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8CF9D-D07B-4147-851E-CFA29F9CAB6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념 증명 프로젝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적으로 가능할 때마다 방법론이나 도구들에서 나타나는 모순을 파악하고 정정하기 위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제되고 제한된 환경에서 데이터 웨어하우스를 개발하고 시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 성공 요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 편이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수 조회 및 응용 프로그램을 이용한 데이터 접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융통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투명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젝트 구현 계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규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간 및 다원을 추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ED6-5DF7-48B1-9BE7-129A485FAE7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82D44-D114-42A4-8940-E64AD796D7E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4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개발 전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점</a:t>
            </a: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  <a:ea typeface="굴림"/>
              </a:rPr>
              <a:t>point)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나의 부서에서 필요한 구체적이고 협소한 의미의 요건들을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통 접근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후 업무에 대한 통합된 시각을 제공하는 의사 결정 지원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의 개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전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문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내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F36-9441-4447-878A-32FDCC3831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AADC3-DA11-4900-B349-7E88A7A479E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관리 관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포함 요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성공 요인과 성과 측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높은 수준의 가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위험 요소와 위험을 줄이기 위한 제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대 사항 관리에 관한 토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목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결정적 성공 요인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4-1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위험 평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대사항 관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F2F-C0CB-49E3-8727-DD3E4163FC4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BA5F2-0F2A-4103-9E38-02B850A580B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결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을 개발하기위한 한 가지 접근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문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계획된 그리고 조정된 데이터 웨어하우징 개발이 이루어질 수 있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체계화된 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구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목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목표 그리고 개념들을 조직체에게 전달하고 이해시키기 위한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미래의 비전 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에 도달하는 확실한 단계들 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89DC-C3A0-430A-AF69-CB3E0B7CA69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8D5AB-C28D-4136-916E-6E094F37CB9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전략 개발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의 개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작성 및 발표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월 이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의 규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면담 횟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전에 문서화된 구조상의 노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 상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후원자의 긴급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팀 규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0D7-433B-4BE3-9A43-0FBA4025A3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A644A-3621-405A-87FE-0C24B80D132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목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의 정보 필요성 만족 범위 평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영역에서의 실행 과정을 권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목적을 위하여 전략 정보의 적시 포착과 배포에 적합한 구조 창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 기반 도구를 비롯한 새로운 기술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F8F-154E-4A61-AAD3-63C8356B16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D9FF0-F581-4234-8E24-DCE2FB93954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 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연구팀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명 –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외부 자문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일제 팀 구성원 중 한 명은 내부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71A-3A34-4478-A7FF-01C830505B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7A0C2-EAC8-4DDA-9BE2-41F83BB1489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 연구 활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건 수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요 사업 관계 인사와 면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의 잔존 시스템과 관련된 문서 조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의 구조 문서 검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권고사항 전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실행 과정을 권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업 조직체의 우선 순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정보 필요사항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및 기술 환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EDB8-2AFC-4F03-A0AB-74E1D09492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48D11-F7CC-4213-831B-931C009C396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전략 문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 차례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평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 요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 고려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E48-FC51-4BEC-BD8F-51583A0598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94E2B-6E79-48B7-9AD2-FA4FC0E582A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에 전략과 관련된 핵심적인 권고 사항들을 요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에 대한 타당한 사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과 조직체 요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점진적 결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음 단계를 진행하기 위한 경영진의 행동 또는 승인에 대한 요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1C8F-EDF5-4D95-B122-33D7A1284F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A1A3A-BD9F-421B-AC77-6AD37FBF7AA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현재 평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리 우선 순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4-3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데이터 주제 지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분화 정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부 사항 수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품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확성 완전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일관성과 무결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도 패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공유 및 분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시성과 과거 기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소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 워크스테이션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1B5-FB07-4DC9-B72B-5D3BA6951C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EE536-DCBE-4BDF-8D60-45E73A5E372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박종수</dc:creator>
  <dc:description/>
  <dc:language>en-US</dc:language>
  <cp:lastModifiedBy>박종수</cp:lastModifiedBy>
  <cp:lastPrinted>1999-09-10T20:38:56Z</cp:lastPrinted>
  <dcterms:modified xsi:type="dcterms:W3CDTF">2002-04-09T05:57:08Z</dcterms:modified>
  <cp:revision>217</cp:revision>
  <dc:subject/>
  <dc:title>데이터 웨어하우징 개발 전략</dc:title>
</cp:coreProperties>
</file>