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470-6FE4-43E5-94D8-0B0D58A1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92F-17C9-4EA6-B2A5-413EE15F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44F-94DF-4EDE-8842-A186B307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DE6-1E0B-436A-AC62-73339BC9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0C42-74B5-4278-A23C-123237F8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2B47-9DBE-47CA-BF08-58C464ED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6D97-C96D-44C9-91D6-72230D1A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BCD7-31C6-465F-8F10-423FB134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4BF8-E3A0-4626-8816-945DAACA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BBEE-52C4-4531-BE38-53AA3506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74EE-6726-4B03-A59A-C92FA2F8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A17-006C-4D0B-880D-9F213EF3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695A-D42D-4FDD-8607-982EB793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0217-C773-44A6-9817-2955CED9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94C9-1D12-4308-94E6-1777E3D5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E868-5106-40A0-B257-972CE1BD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ECED-B1E5-4C0D-8FA1-D6678503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BDC-1F3F-4C11-909D-E43FD2FE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F21-F14D-437A-BB34-BC37B56C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5A1-2CE3-4DB4-BE10-7837E14B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E24-031D-44F9-B4C7-DA27B76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CDC-C450-43A7-A7E2-794F7209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152-AB8D-4328-8FD8-7B09372C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7AD-7BE7-4860-AF13-9D046FF9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237B-A631-41B7-8E7F-0D410FFEBF55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E76B-7819-42F6-81C8-B2814D1F60C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6C19-0287-47F0-B9E2-EEA66CE41150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6F32-A903-4A99-B2F1-BA8B1BE001EC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위한 데이터베이스 설계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기본요건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FE6-30EE-4D80-90D2-E015AC1064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9AC3F-9505-482E-AFC3-24683FB89E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신뢰할 수 있는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있는 해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번째 중요한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일괄 형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tch format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으로 적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클린징 또는 변환 과정이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결성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형 스키마에 함축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 키 외부 키 참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imary key foreign key 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결합 경로의 명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23E-B766-4740-A507-0DAEDC68D3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C7039-4920-45DD-8CC6-74DCDBDA3FA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9_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B92-E4E3-43D3-A01C-D5434D7F8D8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B0647-A69B-414D-B1A5-ABB275128BE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회 처리 속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세 번째 중요한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분석가들의 조회를 신속히 처리하고 그들의 사고 흐름을 따라잡을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안정된 고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 시에 고려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표 열 위에 구축된 색인의 유형과 색인 수의 함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 차원 표의 모든 열마다 색인을 붙이는 것이 훌륭한 전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차원에 대해 각기  다른 유형의 색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287-68FB-432B-A933-7400FD4AF8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D8E50-4906-43A8-8088-EB6BC1F7CAF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적재 처리와 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번째 중요한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설계에서 더 결정적인 측정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에서 웨어하우스로 데이터를 적재하는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몇 시간 대 며칠의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재 속도는 웨어하우스 설계의 다른 기본 원칙을 고수하면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시 성형 스키마 스타일 단순성의 원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 구조의 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깨끗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 등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5F2-8B87-4AEB-B4FD-BD122C8C8E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FE664-D3DF-4367-B750-EE2604E9DB4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의 갖가지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스키마의 점증하는 복잡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-fact sta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917-880C-4C17-BFD2-91150401FA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F1156-DD95-49C6-9C65-29F9A7814F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utboard T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외부 키 참조를 통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rigger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라 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 차원에 너무 많은 부담을 주게 될 데이터를 격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 단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4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CD6-C724-48E4-B643-BAE78BC738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04AD6-B0C0-4B8C-9555-16FDEC6A00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9_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44E-6875-424A-A5F8-FC580941E6F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05227-CEC6-4C35-B499-CFBED3A4BE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 표 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치 체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기업 전반에 걸쳐 종종 가치 체인의 부분들을 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조직체를 통틀어 제품 또는 서비스의 흐름을 반영하는 일련의 연결된 업무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공유 차원들을 갖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사실 “군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family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다음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6EF-834E-42BE-8587-A0DFFC363F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8E139-3DFB-46D8-8BF9-14A49C48960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9_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696080" cy="65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3CA-DDA3-4827-8D62-8390517ACAA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6F42D-0CD9-456B-86F2-AE77C9A5480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다성형 사실 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 키의 어떤 조합이 사실 표에서 둘 이상의 행을 가리킬 경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-star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6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B1F-B055-459D-AC9F-5085FE7F43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9B83C-B35E-4C1C-B1AC-559AE5F59E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9 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설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본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가지 규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간단하게 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em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시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속도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조회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자 데이터 적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변경되지 않고 무결성이 엄격히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1F6-D175-4155-BB53-3C6A99DEF4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E5DF5-7A0B-40A7-AB38-A0D0CC727B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9_6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65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95A-FE80-4A5F-BB65-EEA3C8B0579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D35E2-5E2D-4242-8062-A3AE6B2C45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onceptual Modeling of Data Wareho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deling data warehouses: dimensions &amp;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tar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fact table in the middle connected to a set of dimension tab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nowflake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refinement of star schema where some dimensional hierarchy i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normalized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 into a set of smaller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forming a shape similar to snowfl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Fact constell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Multiple fact tables share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viewed as a collection of stars, therefo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galaxy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r fact constel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E5A-A7B1-4D9A-8AF2-3F4EF3E2E5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0C48D-473C-4391-B7D6-9F3B3394F93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tar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19880" y="1676160"/>
            <a:ext cx="2495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548160" y="31622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40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06360" y="3867120"/>
            <a:ext cx="1902600" cy="1873800"/>
            <a:chOff x="6606360" y="3867120"/>
            <a:chExt cx="1902600" cy="1873800"/>
          </a:xfrm>
        </p:grpSpPr>
        <p:sp>
          <p:nvSpPr>
            <p:cNvPr id="143" name=""/>
            <p:cNvSpPr/>
            <p:nvPr/>
          </p:nvSpPr>
          <p:spPr>
            <a:xfrm>
              <a:off x="6606360" y="4276800"/>
              <a:ext cx="1902600" cy="1464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06720" y="386712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48800" y="227952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8160" y="26971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74320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6600" y="319248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8160" y="36273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240" y="363852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8160" y="40910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5160" y="411480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455616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5880" y="460692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8160" y="502128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76240" y="50515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48160" y="548640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7880" y="549756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905440"/>
            <a:ext cx="121932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47811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52560" y="53240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52560" y="56926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28840" y="39495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356000"/>
            <a:ext cx="1040040" cy="387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80000" y="2709360"/>
            <a:ext cx="1077840" cy="67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13200" y="1603080"/>
            <a:ext cx="1431720" cy="1910880"/>
            <a:chOff x="6613200" y="1603080"/>
            <a:chExt cx="1431720" cy="1910880"/>
          </a:xfrm>
        </p:grpSpPr>
        <p:sp>
          <p:nvSpPr>
            <p:cNvPr id="168" name=""/>
            <p:cNvSpPr/>
            <p:nvPr/>
          </p:nvSpPr>
          <p:spPr>
            <a:xfrm>
              <a:off x="6613200" y="2049840"/>
              <a:ext cx="143172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3440" y="160308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44200" y="3886200"/>
            <a:ext cx="1499760" cy="1383120"/>
            <a:chOff x="844200" y="3886200"/>
            <a:chExt cx="1499760" cy="1383120"/>
          </a:xfrm>
        </p:grpSpPr>
        <p:sp>
          <p:nvSpPr>
            <p:cNvPr id="171" name=""/>
            <p:cNvSpPr/>
            <p:nvPr/>
          </p:nvSpPr>
          <p:spPr>
            <a:xfrm>
              <a:off x="9244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42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F45-CF6A-48AB-A1B8-758F05988C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ADAC1-CB2F-433E-813D-03A14477BC7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nowflake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317760" y="31050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76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869440" y="3809880"/>
            <a:ext cx="1369800" cy="1321200"/>
            <a:chOff x="5869440" y="3809880"/>
            <a:chExt cx="1369800" cy="1321200"/>
          </a:xfrm>
        </p:grpSpPr>
        <p:sp>
          <p:nvSpPr>
            <p:cNvPr id="179" name=""/>
            <p:cNvSpPr/>
            <p:nvPr/>
          </p:nvSpPr>
          <p:spPr>
            <a:xfrm>
              <a:off x="5870160" y="4215600"/>
              <a:ext cx="1369080" cy="91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440" y="380988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72400" y="215280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7760" y="26398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240" y="268596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313524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7760" y="35701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5840" y="358128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17760" y="40338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5120" y="405756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7760" y="44989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5480" y="454968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7760" y="49640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5840" y="499428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17760" y="54291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7480" y="54403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121896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90920" y="4723920"/>
            <a:ext cx="76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71840" y="5267160"/>
            <a:ext cx="788760" cy="5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71840" y="5635800"/>
            <a:ext cx="904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720" y="388620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267080"/>
            <a:ext cx="457200" cy="533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34120" y="2819160"/>
            <a:ext cx="60948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46840" y="1526760"/>
            <a:ext cx="1367640" cy="1910880"/>
            <a:chOff x="5946840" y="1526760"/>
            <a:chExt cx="1367640" cy="1910880"/>
          </a:xfrm>
        </p:grpSpPr>
        <p:sp>
          <p:nvSpPr>
            <p:cNvPr id="204" name=""/>
            <p:cNvSpPr/>
            <p:nvPr/>
          </p:nvSpPr>
          <p:spPr>
            <a:xfrm>
              <a:off x="5946840" y="1973520"/>
              <a:ext cx="136764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152676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15600" y="3886200"/>
            <a:ext cx="1499760" cy="1383120"/>
            <a:chOff x="615600" y="3886200"/>
            <a:chExt cx="1499760" cy="1383120"/>
          </a:xfrm>
        </p:grpSpPr>
        <p:sp>
          <p:nvSpPr>
            <p:cNvPr id="207" name=""/>
            <p:cNvSpPr/>
            <p:nvPr/>
          </p:nvSpPr>
          <p:spPr>
            <a:xfrm>
              <a:off x="6958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9320" y="1984680"/>
            <a:ext cx="1441080" cy="984960"/>
            <a:chOff x="7699320" y="1984680"/>
            <a:chExt cx="1441080" cy="984960"/>
          </a:xfrm>
        </p:grpSpPr>
        <p:sp>
          <p:nvSpPr>
            <p:cNvPr id="210" name=""/>
            <p:cNvSpPr/>
            <p:nvPr/>
          </p:nvSpPr>
          <p:spPr>
            <a:xfrm>
              <a:off x="7708680" y="2328480"/>
              <a:ext cx="1431720" cy="641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9320" y="1984680"/>
              <a:ext cx="116532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7238880" y="297144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47040" y="4800600"/>
            <a:ext cx="1712520" cy="1471680"/>
            <a:chOff x="7547040" y="4800600"/>
            <a:chExt cx="1712520" cy="1471680"/>
          </a:xfrm>
        </p:grpSpPr>
        <p:sp>
          <p:nvSpPr>
            <p:cNvPr id="214" name=""/>
            <p:cNvSpPr/>
            <p:nvPr/>
          </p:nvSpPr>
          <p:spPr>
            <a:xfrm>
              <a:off x="7550640" y="5206320"/>
              <a:ext cx="1708920" cy="10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7040" y="4800600"/>
              <a:ext cx="5659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62920" y="5105520"/>
            <a:ext cx="45720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FBA-77D2-43B8-9B0B-8B7D42DBE48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50F72-1E97-42E6-AD5B-3C6DF140A87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46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Fact Constel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2200" y="1219320"/>
            <a:ext cx="1631520" cy="1967040"/>
            <a:chOff x="232200" y="1219320"/>
            <a:chExt cx="1631520" cy="1967040"/>
          </a:xfrm>
        </p:grpSpPr>
        <p:sp>
          <p:nvSpPr>
            <p:cNvPr id="220" name=""/>
            <p:cNvSpPr/>
            <p:nvPr/>
          </p:nvSpPr>
          <p:spPr>
            <a:xfrm>
              <a:off x="232560" y="1633680"/>
              <a:ext cx="1631160" cy="15526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200" y="1219320"/>
              <a:ext cx="593640" cy="366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8760" y="4038480"/>
            <a:ext cx="1712160" cy="1718640"/>
            <a:chOff x="5108760" y="4038480"/>
            <a:chExt cx="1712160" cy="1718640"/>
          </a:xfrm>
        </p:grpSpPr>
        <p:sp>
          <p:nvSpPr>
            <p:cNvPr id="223" name=""/>
            <p:cNvSpPr/>
            <p:nvPr/>
          </p:nvSpPr>
          <p:spPr>
            <a:xfrm>
              <a:off x="5112000" y="4447800"/>
              <a:ext cx="1708920" cy="130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4038480"/>
              <a:ext cx="92412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740320" y="2133720"/>
            <a:ext cx="170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5909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666880"/>
            <a:ext cx="160200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12408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5053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3505320"/>
            <a:ext cx="1600200" cy="64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9625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0800" y="3981600"/>
            <a:ext cx="16005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0560" y="4419720"/>
            <a:ext cx="1635120" cy="4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1880" y="4473720"/>
            <a:ext cx="15886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60560" y="48769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960" y="4917960"/>
            <a:ext cx="159300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60560" y="53341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2080" y="5364000"/>
            <a:ext cx="159624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715000"/>
            <a:ext cx="1219320" cy="366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84400" y="46479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065320" y="51908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65320" y="55594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41600" y="38163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905120" y="2362320"/>
            <a:ext cx="914400" cy="380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2670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2743200"/>
            <a:ext cx="762120" cy="525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86520" y="1527480"/>
            <a:ext cx="1293120" cy="1725120"/>
            <a:chOff x="5186520" y="1527480"/>
            <a:chExt cx="1293120" cy="1725120"/>
          </a:xfrm>
        </p:grpSpPr>
        <p:sp>
          <p:nvSpPr>
            <p:cNvPr id="248" name=""/>
            <p:cNvSpPr/>
            <p:nvPr/>
          </p:nvSpPr>
          <p:spPr>
            <a:xfrm>
              <a:off x="5186520" y="1943280"/>
              <a:ext cx="1293120" cy="130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9240" y="1527480"/>
              <a:ext cx="63180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0320" y="3962520"/>
            <a:ext cx="1279440" cy="1216440"/>
            <a:chOff x="310320" y="3962520"/>
            <a:chExt cx="1279440" cy="1216440"/>
          </a:xfrm>
        </p:grpSpPr>
        <p:sp>
          <p:nvSpPr>
            <p:cNvPr id="251" name=""/>
            <p:cNvSpPr/>
            <p:nvPr/>
          </p:nvSpPr>
          <p:spPr>
            <a:xfrm>
              <a:off x="310320" y="4356360"/>
              <a:ext cx="1279440" cy="82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960" y="3962520"/>
              <a:ext cx="8038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012080" y="24955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6560" y="1581120"/>
            <a:ext cx="20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ing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2080" y="20383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11464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2080" y="257184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2080" y="29527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2080" y="2952720"/>
            <a:ext cx="160020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2080" y="34099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7760" y="3429000"/>
            <a:ext cx="15994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rom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77160" y="3867120"/>
            <a:ext cx="16351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07760" y="3943440"/>
            <a:ext cx="156420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77160" y="43243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09200" y="4365720"/>
            <a:ext cx="1580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77160" y="47815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90840" y="4811760"/>
            <a:ext cx="1630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hi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6629400" y="152352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742840" y="15238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905120" y="15238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553080" y="2666880"/>
            <a:ext cx="53352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160" y="3657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477120" y="41911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91720" y="3200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618320" y="5410080"/>
            <a:ext cx="1332360" cy="1458720"/>
            <a:chOff x="7618320" y="5410080"/>
            <a:chExt cx="1332360" cy="1458720"/>
          </a:xfrm>
        </p:grpSpPr>
        <p:sp>
          <p:nvSpPr>
            <p:cNvPr id="276" name=""/>
            <p:cNvSpPr/>
            <p:nvPr/>
          </p:nvSpPr>
          <p:spPr>
            <a:xfrm>
              <a:off x="7625520" y="5802840"/>
              <a:ext cx="1325160" cy="1065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8320" y="5410080"/>
              <a:ext cx="8542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8610120" y="4800600"/>
            <a:ext cx="38124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3200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866920" y="5790960"/>
            <a:ext cx="175284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B38-D957-4028-89E3-11EBB01583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36794-07C9-4B69-BB13-F11457B6552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본적인 설계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일관성과 정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적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적인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비스를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설계는 매우 기본적이 되게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의 의견을 들은 뒤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일관성 있고 가치 있는 정보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54A-FEF1-416C-834E-BBAB0B09D3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F23F1-888B-4087-84D5-B7F0F1099D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데이터베이스의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지 기본적인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는 간단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깨끗하고 일관성이 있으며 정확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회처리는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를 데이터베이스에 상당히 빠르게 적재할 수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22B-408B-4805-8C5B-9449750FF4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CF17A-3F10-4124-B849-E0B98BB962C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순환적 결합 경로를 가진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OLTP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스키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9_1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9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D03-3584-4406-9DD9-6C79753F99B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690C0-B62A-4404-8FE4-D1045F6C302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단순성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hema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의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기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이 편리하도록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MIS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원들에게 이익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되도록 설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 개의 표를 결합하는 지정된 경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가의 업무 요건들을 평가 – “차원”을 파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사용되고 있는 보고서들을 분석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집단이 사용하는 “표”를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Tahoma"/>
                <a:ea typeface="굴림"/>
              </a:rPr>
              <a:t>실제 차원과 업무 자체의 조건에 바탕을 둔 직관적인 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251-4A79-42C7-933A-078CC700C1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76A77-CCF3-4508-8BFF-DAC397A63A9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 스키마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순하고 직관적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나의 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St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에 관한 모든 수집된 사실과 숫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별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뾰족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차원들을 설명하는 일군의 표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2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10B-C8EE-4A62-9543-7F620F0BEA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B6FA9-163E-42AE-9BB5-2ECF2CB170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간단한 성형 스키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9_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838-E181-4A1C-A4DE-F8274959120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453A3-5412-431B-8A42-E613F63886B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장 규모가 큰 – 수백만 개 또는 수억 개의 행이 포함된 – 중앙에 있는 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측정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업무 값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공간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95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뼈만 추린” 대부분 숫자로 된 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에 저장된 사실들은 분석가가 추적할 필요가 있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실제 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선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약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C22-4B03-43F9-8700-E144437F46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B3308-3F63-4C20-93DC-C4C75A3F35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차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의 “기정 사실”일 가능성이 많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보고서의 행 제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숫자 데이터보다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문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경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가 필요로 하는 디스크 공간은 비교적 적게 차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기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품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업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구통계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홍보활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9A0-C9D9-4AC3-99F9-6C39A65701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5C73D-314F-48CB-BF09-55EA6B7C7B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6-03T08:22:04Z</dcterms:modified>
  <cp:revision>301</cp:revision>
  <dc:subject/>
  <dc:title>No Slide Title</dc:title>
</cp:coreProperties>
</file>