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B078-54D5-4ED2-ADAC-448EFD08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EF6-922F-4540-925F-474DCD53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C39-B482-416F-9D4A-A096D093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D3A-1740-4ECF-8E79-E10F60AE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93F5-20B4-4E3E-87E0-9D950653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1132-FFD9-451C-A769-C4189593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500A-B4FF-4B94-BB2E-CCBB8A0B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C57F-C29E-452A-9EC9-1FDEFF2E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7A4A-36B9-459B-BD32-24FDC7E0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01F4-CA48-4B4F-BE40-FDD4EB5D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A0F1-E24E-42AD-AA10-6185CB6C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437-3107-4C32-9FF9-FB6351AB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8D26-14D1-4D81-82DD-98D72CA2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7FFE-711D-4A67-B892-D821E123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FE3C-CDC6-4208-B282-53C4A00D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FF57-6F96-4C4D-B686-31B7D443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D9B8-5AF0-4C3F-80A3-359CE9D0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5EDB-E960-4A94-A059-80D506A1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E58-E425-45D4-A776-4DB67257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9F53-BCBA-46CB-884A-92E06F70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1554-8A19-42B5-9F19-46DBE545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B923-D09D-4E03-B566-FE7EE309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07C-174B-4D8C-9E23-44E53791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DC0C-503C-4AA0-B02E-EE1AB3E6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DEE9-96FF-46E4-9019-77B505FDB88A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3C72-ADE1-4D26-89FD-20AFFA096AAE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4EDF-C0D2-43D0-BC19-F09D540F1C08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F244-2868-4667-9CE2-7DEF3D761E48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5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추출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가공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로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ETT)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056E-E52A-4007-8C14-C0B82E54A6A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BB393-09D3-4C7F-ACBE-7D545F2FC8B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중요성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생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있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정확하고 신속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어려운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준화된 솔루션이 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많고 하드웨어가 열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질이 낮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6515-4261-4335-B85D-0AB5A835C6B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69DB9-153B-460D-AB18-531D8C7C0FB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운영계 시스템과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동시에 구축할 경우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통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 구축 후에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잘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동시에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은 시간과 경비를 절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 데이터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공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에서 필요한 장표를 만드는 노력을 대폭 절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6E84-2E28-446C-8CDB-86E8769357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EE22F-F30D-4B97-ACCC-AF7EA6818D5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K*Load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오프라인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으로 데이터 웨어하우스 서버에 있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AM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파일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신속하게 로드하는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C341-269D-47ED-A8B6-C00A46497A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FC147-46C9-47A9-8EC6-283941DE9A4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학적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지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년간의 졸업생의 성적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려 사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법론 연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823-D972-4923-B60F-234A032B474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28861-DCAA-4E91-AEEE-C53B96EDA3B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1. 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개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서버와 다른 별도의 서버에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의 데이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=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xtraction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nsformation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송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nsportation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약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의 종류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 주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양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로딩 속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질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과거 데이터의 형식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 조건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의 역할 등에 좌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0ACF-ACCD-4FA1-B98C-48485D1806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C7453-D67F-4300-B611-58BC0B280EB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형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필요한 최종 테이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원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imension tab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형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과 요약 테이블을 소스 시스템에서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의 로그 파일을 분석하여 사실 테이블과 요약 테이블을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2BE-7415-413C-9532-18F49D572D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17EFB-9AA9-4C66-A889-D4BEEEAA3E9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초기 데이터와 주기적 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과거 수년간의 데이터를 보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초기 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itial dat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테이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gnetic Tap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태로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cord layout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형식을 지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산 시스템에서 중요한 것은 데이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적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 단위 또는 월 단위로 소스 시스템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넘어오는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많으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ff line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으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7D34-4704-490D-80BF-FA288AC4B8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2CFC3-FE5C-4798-9CDA-F9892244201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변환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ransformation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추출한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사실 테이블이 특정한 포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가 복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코드가 일치하지 않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DB(Hierarchical database)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BM IMS/DB : H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근간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올릴 때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주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8D0-D53D-4C6D-A180-199DF31CD0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9D25E-32C0-4C07-9479-D1E3BDD6916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정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clean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들어가는 데이터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00%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D(dimension ID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해당하는 값이 차원 테이블과 상이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에 비정상적인 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AM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이용한 데이터 정제 작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D(Operational Data Store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이용한 정제 작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변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제 작업을 용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 조건의 변화에 신속 대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의 문제에 신속 복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B9A-611F-4856-9E5C-1235D4E7D7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3930A-B49E-438E-86EC-144CD97F6B8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방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ff Lin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오프라인 방식의 개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과 순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의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gnetic tap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시 주의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nlin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온라인 추출 방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pen 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오라클 분산 옵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racle distributed op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31A5-D386-481A-AB0B-AC068A7026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066DF-BCC4-4C70-9DCA-84329945B73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방식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공유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al-tim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원하는 은행에서 많이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ferred I/O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로그 파일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특정한 데이터가 바뀌면 로그 파일을 만들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주기적으로 데이터를 가져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B21-D8A7-4DA9-95DA-8B2EE82A3E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0BEAC-9285-4F89-B6F9-D0611382BFF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추출 데이터의 정확성 보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장하는 방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필드의 값을 합산 후 대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과 로드시 에러가 생길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에러의 원인을 밝히고 교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D8CE-1E73-4904-92B5-841B03EDA01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8384A-E594-4D8D-9F2E-DAB87544869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4-16T05:27:39Z</dcterms:modified>
  <cp:revision>227</cp:revision>
  <dc:subject/>
  <dc:title>제5장 데이터의 추출, 가공, 로드(ETT)</dc:title>
</cp:coreProperties>
</file>